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20.gif" ContentType="image/gif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F3E-2AB6-4360-A946-B78CC32A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452-F7DC-45D1-9045-1D44B2BB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6CC-A010-44DA-9B57-B7E63D84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2E0-52FA-4B6D-8DD3-A78B5AB9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C65-4A35-4AA2-B27B-603CCA02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70B-0EE9-4034-93B4-C3E81DF9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6C7-071A-4E1E-9EF3-7831F11A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D94-5C0C-4EC4-A105-03C90881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1DE-34E0-486A-A64B-E424C1D1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29C-40E8-486D-8248-C4A66A9D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81D-ECA1-4734-8ACC-39F1FDCF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24D-40E9-4A2B-92F1-F53328C3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4999-C06D-4202-B42D-4B28DBE1A7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jpeg"/><Relationship Id="rId3" Type="http://schemas.openxmlformats.org/officeDocument/2006/relationships/image" Target="../media/image16.jpeg"/><Relationship Id="rId4" Type="http://schemas.openxmlformats.org/officeDocument/2006/relationships/image" Target="../media/image22.jpeg"/><Relationship Id="rId5" Type="http://schemas.openxmlformats.org/officeDocument/2006/relationships/image" Target="../media/image27.jpeg"/><Relationship Id="rId6" Type="http://schemas.openxmlformats.org/officeDocument/2006/relationships/hyperlink" Target="http://image.baidu.com/i?ct=503316480&amp;z=340782553&amp;tn=baiduimagedetail&amp;word=&#20132;&#36890;&#26631;&#24535;&amp;in=174" TargetMode="Externa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arts.cnool.net/active/works/works_pic_show.asp?pic_id=3555" TargetMode="External"/><Relationship Id="rId2" Type="http://schemas.openxmlformats.org/officeDocument/2006/relationships/hyperlink" Target="http://arts.cnool.net/active/works/works_pic_show.asp?pic_id=3557" TargetMode="External"/><Relationship Id="rId3" Type="http://schemas.openxmlformats.org/officeDocument/2006/relationships/hyperlink" Target="http://arts.cnool.net/active/works/works_pic_show.asp?pic_id=3557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arts.cnool.net/active/works/works_pic_show.asp?pic_id=3553" TargetMode="External"/><Relationship Id="rId6" Type="http://schemas.openxmlformats.org/officeDocument/2006/relationships/image" Target="../media/image32.jpeg"/><Relationship Id="rId7" Type="http://schemas.openxmlformats.org/officeDocument/2006/relationships/hyperlink" Target="http://arts.cnool.net/active/works/works_pic_show.asp?pic_id=3563" TargetMode="External"/><Relationship Id="rId8" Type="http://schemas.openxmlformats.org/officeDocument/2006/relationships/hyperlink" Target="http://arts.cnool.net/active/works/works_pic_show.asp?pic_id=3563" TargetMode="External"/><Relationship Id="rId9" Type="http://schemas.openxmlformats.org/officeDocument/2006/relationships/image" Target="../media/image33.jpeg"/><Relationship Id="rId10" Type="http://schemas.openxmlformats.org/officeDocument/2006/relationships/hyperlink" Target="http://arts.cnool.net/active/works/works_pic_show.asp?pic_id=3546" TargetMode="External"/><Relationship Id="rId11" Type="http://schemas.openxmlformats.org/officeDocument/2006/relationships/hyperlink" Target="http://arts.cnool.net/active/works/works_pic_show.asp?pic_id=3546" TargetMode="External"/><Relationship Id="rId12" Type="http://schemas.openxmlformats.org/officeDocument/2006/relationships/image" Target="../media/image34.jpeg"/><Relationship Id="rId13" Type="http://schemas.openxmlformats.org/officeDocument/2006/relationships/hyperlink" Target="http://arts.cnool.net/active/works/works_pic_show.asp?pic_id=3524" TargetMode="External"/><Relationship Id="rId14" Type="http://schemas.openxmlformats.org/officeDocument/2006/relationships/image" Target="../media/image35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39.jpeg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7000"/>
            <a:ext cx="9144000" cy="6885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981000"/>
            <a:ext cx="6913800" cy="18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文鼎中楷简"/>
              </a:rPr>
              <a:t>轴对称图形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文鼎中楷简"/>
              <a:ea typeface="文鼎中楷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84720" y="765000"/>
            <a:ext cx="3768840" cy="333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5364000" cy="3357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979880" y="3578400"/>
            <a:ext cx="3264120" cy="2357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979640" y="1268280"/>
            <a:ext cx="20876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80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下面的数字，哪些是轴对称图形？它们各有几条对称轴？　　　　　　　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　　　　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95560" y="2666880"/>
            <a:ext cx="715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黑体"/>
                <a:ea typeface="黑体"/>
              </a:rPr>
              <a:t>0 1 2 3 4 5 6 7 8 9</a:t>
            </a:r>
            <a:r>
              <a:rPr b="0" lang="zh-CN" sz="6600" spc="-1" strike="noStrike">
                <a:solidFill>
                  <a:srgbClr val="ff0066"/>
                </a:solidFill>
                <a:latin typeface="Times New Roman"/>
                <a:ea typeface="黑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7621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下面的字母，哪些是轴对称图形？它们各有几条对称轴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96400" y="2144880"/>
            <a:ext cx="6656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en-US" sz="9600" spc="-1" strike="noStrike">
                <a:solidFill>
                  <a:srgbClr val="ff0066"/>
                </a:solidFill>
                <a:latin typeface="黑体"/>
                <a:ea typeface="黑体"/>
              </a:rPr>
              <a:t>A B C D E 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en-US" sz="9600" spc="-1" strike="noStrike">
                <a:solidFill>
                  <a:srgbClr val="ff0066"/>
                </a:solidFill>
                <a:latin typeface="黑体"/>
                <a:ea typeface="黑体"/>
              </a:rPr>
              <a:t>G H U V 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219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下面的汉字哪些是轴对称图形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4382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黑体"/>
              </a:rPr>
              <a:t>口 工 用 中 由 日 直 水 清 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914400" y="3124080"/>
            <a:ext cx="4876920" cy="4310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2362320" cy="2303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715000" y="773280"/>
            <a:ext cx="3048120" cy="1876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867280" y="3962520"/>
            <a:ext cx="2819520" cy="2120760"/>
          </a:xfrm>
          <a:prstGeom prst="rect">
            <a:avLst/>
          </a:prstGeom>
          <a:ln w="0">
            <a:noFill/>
          </a:ln>
        </p:spPr>
      </p:pic>
      <p:pic>
        <p:nvPicPr>
          <p:cNvPr id="101" name="u=2416846164,4250114180&amp;gp=3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43200" y="373392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-1339920" y="-5554800"/>
            <a:ext cx="9144000" cy="17434080"/>
            <a:chOff x="-1339920" y="-5554800"/>
            <a:chExt cx="9144000" cy="17434080"/>
          </a:xfrm>
        </p:grpSpPr>
        <p:sp>
          <p:nvSpPr>
            <p:cNvPr id="108" name=""/>
            <p:cNvSpPr/>
            <p:nvPr/>
          </p:nvSpPr>
          <p:spPr>
            <a:xfrm>
              <a:off x="-1339920" y="-5554800"/>
              <a:ext cx="9144000" cy="1743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1339920" y="-5554800"/>
              <a:ext cx="9144000" cy="1743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1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img58" descr="剪纸京剧脸谱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-685800" y="-1828800"/>
            <a:ext cx="11704680" cy="17922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932040" y="2720880"/>
            <a:ext cx="7279920" cy="1403280"/>
            <a:chOff x="932040" y="2720880"/>
            <a:chExt cx="7279920" cy="1403280"/>
          </a:xfrm>
        </p:grpSpPr>
        <p:sp>
          <p:nvSpPr>
            <p:cNvPr id="113" name=""/>
            <p:cNvSpPr/>
            <p:nvPr/>
          </p:nvSpPr>
          <p:spPr>
            <a:xfrm>
              <a:off x="932040" y="2720880"/>
              <a:ext cx="7279920" cy="14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932040" y="2720880"/>
              <a:ext cx="7279920" cy="1403280"/>
              <a:chOff x="932040" y="2720880"/>
              <a:chExt cx="7279920" cy="1403280"/>
            </a:xfrm>
          </p:grpSpPr>
          <p:sp>
            <p:nvSpPr>
              <p:cNvPr id="115" name=""/>
              <p:cNvSpPr/>
              <p:nvPr/>
            </p:nvSpPr>
            <p:spPr>
              <a:xfrm>
                <a:off x="932040" y="2720880"/>
                <a:ext cx="72799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32040" y="2720880"/>
                <a:ext cx="7279920" cy="14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ea typeface="Verdana"/>
                    <a:hlinkClick r:id="rId1"/>
                  </a:rPr>
                  <a:t>  </a:t>
                </a:r>
                <a:r>
                  <a:rPr b="1" lang="zh-CN" sz="8600" spc="-1" strike="noStrike">
                    <a:solidFill>
                      <a:srgbClr val="3d362b"/>
                    </a:solidFill>
                    <a:latin typeface="Times New Roman"/>
                    <a:ea typeface="Verdana"/>
                  </a:rPr>
                  <a:t> </a:t>
                </a:r>
                <a:r>
                  <a:rPr b="1" lang="zh-CN" sz="900" spc="-1" strike="noStrike">
                    <a:solidFill>
                      <a:srgbClr val="3d362b"/>
                    </a:solidFill>
                    <a:latin typeface="Times New Roman"/>
                    <a:ea typeface="Verdana"/>
                  </a:rPr>
                  <a:t>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932040" y="2720880"/>
            <a:ext cx="7279920" cy="1403280"/>
            <a:chOff x="932040" y="2720880"/>
            <a:chExt cx="7279920" cy="1403280"/>
          </a:xfrm>
        </p:grpSpPr>
        <p:sp>
          <p:nvSpPr>
            <p:cNvPr id="118" name=""/>
            <p:cNvSpPr/>
            <p:nvPr/>
          </p:nvSpPr>
          <p:spPr>
            <a:xfrm>
              <a:off x="932040" y="2720880"/>
              <a:ext cx="7279920" cy="14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932040" y="2720880"/>
              <a:ext cx="7279920" cy="1403280"/>
              <a:chOff x="932040" y="2720880"/>
              <a:chExt cx="7279920" cy="1403280"/>
            </a:xfrm>
          </p:grpSpPr>
          <p:sp>
            <p:nvSpPr>
              <p:cNvPr id="120" name=""/>
              <p:cNvSpPr/>
              <p:nvPr/>
            </p:nvSpPr>
            <p:spPr>
              <a:xfrm>
                <a:off x="932040" y="2720880"/>
                <a:ext cx="72799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32040" y="2720880"/>
                <a:ext cx="7279920" cy="14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2"/>
                  </a:rPr>
                  <a:t>  </a:t>
                </a:r>
                <a:r>
                  <a:rPr b="1" lang="zh-CN" sz="8600" spc="-1" strike="noStrike">
                    <a:solidFill>
                      <a:srgbClr val="3d362b"/>
                    </a:solidFill>
                    <a:latin typeface="Verdana"/>
                  </a:rPr>
                  <a:t> </a:t>
                </a:r>
                <a:r>
                  <a:rPr b="1" lang="zh-CN" sz="900" spc="-1" strike="noStrike">
                    <a:solidFill>
                      <a:srgbClr val="3d362b"/>
                    </a:solidFill>
                    <a:latin typeface="Verdana"/>
                  </a:rPr>
                  <a:t>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s_0048" descr="京剧脸谱艺术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s_0044" descr="京剧脸谱艺术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0"/>
            <a:ext cx="22096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932040" y="2720880"/>
            <a:ext cx="7279920" cy="1403280"/>
            <a:chOff x="932040" y="2720880"/>
            <a:chExt cx="7279920" cy="1403280"/>
          </a:xfrm>
        </p:grpSpPr>
        <p:sp>
          <p:nvSpPr>
            <p:cNvPr id="125" name=""/>
            <p:cNvSpPr/>
            <p:nvPr/>
          </p:nvSpPr>
          <p:spPr>
            <a:xfrm>
              <a:off x="932040" y="2720880"/>
              <a:ext cx="7279920" cy="14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932040" y="2720880"/>
              <a:ext cx="7279920" cy="1403280"/>
              <a:chOff x="932040" y="2720880"/>
              <a:chExt cx="7279920" cy="1403280"/>
            </a:xfrm>
          </p:grpSpPr>
          <p:sp>
            <p:nvSpPr>
              <p:cNvPr id="127" name=""/>
              <p:cNvSpPr/>
              <p:nvPr/>
            </p:nvSpPr>
            <p:spPr>
              <a:xfrm>
                <a:off x="932040" y="2720880"/>
                <a:ext cx="72799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32040" y="2720880"/>
                <a:ext cx="7279920" cy="14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7"/>
                  </a:rPr>
                  <a:t>  </a:t>
                </a:r>
                <a:r>
                  <a:rPr b="1" lang="zh-CN" sz="8600" spc="-1" strike="noStrike">
                    <a:solidFill>
                      <a:srgbClr val="3d362b"/>
                    </a:solidFill>
                    <a:latin typeface="Verdana"/>
                  </a:rPr>
                  <a:t> </a:t>
                </a:r>
                <a:r>
                  <a:rPr b="1" lang="zh-CN" sz="900" spc="-1" strike="noStrike">
                    <a:solidFill>
                      <a:srgbClr val="3d362b"/>
                    </a:solidFill>
                    <a:latin typeface="Verdana"/>
                  </a:rPr>
                  <a:t>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" name="s_0054" descr="京剧脸谱艺术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14400" y="0"/>
            <a:ext cx="22096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932040" y="2720880"/>
            <a:ext cx="7279920" cy="1403280"/>
            <a:chOff x="932040" y="2720880"/>
            <a:chExt cx="7279920" cy="1403280"/>
          </a:xfrm>
        </p:grpSpPr>
        <p:sp>
          <p:nvSpPr>
            <p:cNvPr id="131" name=""/>
            <p:cNvSpPr/>
            <p:nvPr/>
          </p:nvSpPr>
          <p:spPr>
            <a:xfrm>
              <a:off x="932040" y="2720880"/>
              <a:ext cx="7279920" cy="14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932040" y="2720880"/>
              <a:ext cx="7279920" cy="1403280"/>
              <a:chOff x="932040" y="2720880"/>
              <a:chExt cx="7279920" cy="1403280"/>
            </a:xfrm>
          </p:grpSpPr>
          <p:sp>
            <p:nvSpPr>
              <p:cNvPr id="133" name=""/>
              <p:cNvSpPr/>
              <p:nvPr/>
            </p:nvSpPr>
            <p:spPr>
              <a:xfrm>
                <a:off x="932040" y="2720880"/>
                <a:ext cx="72799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32040" y="2720880"/>
                <a:ext cx="7279920" cy="14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10"/>
                  </a:rPr>
                  <a:t>  </a:t>
                </a:r>
                <a:r>
                  <a:rPr b="1" lang="zh-CN" sz="8600" spc="-1" strike="noStrike">
                    <a:solidFill>
                      <a:srgbClr val="3d362b"/>
                    </a:solidFill>
                    <a:latin typeface="Verdana"/>
                  </a:rPr>
                  <a:t> </a:t>
                </a:r>
                <a:r>
                  <a:rPr b="1" lang="zh-CN" sz="900" spc="-1" strike="noStrike">
                    <a:solidFill>
                      <a:srgbClr val="3d362b"/>
                    </a:solidFill>
                    <a:latin typeface="Verdana"/>
                  </a:rPr>
                  <a:t>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5" name="s_0037" descr="京剧脸谱艺术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143000" y="4419720"/>
            <a:ext cx="22096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932040" y="2720880"/>
            <a:ext cx="7279920" cy="1403280"/>
            <a:chOff x="932040" y="2720880"/>
            <a:chExt cx="7279920" cy="1403280"/>
          </a:xfrm>
        </p:grpSpPr>
        <p:sp>
          <p:nvSpPr>
            <p:cNvPr id="137" name=""/>
            <p:cNvSpPr/>
            <p:nvPr/>
          </p:nvSpPr>
          <p:spPr>
            <a:xfrm>
              <a:off x="932040" y="2720880"/>
              <a:ext cx="7279920" cy="14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932040" y="2720880"/>
              <a:ext cx="7279920" cy="1403280"/>
              <a:chOff x="932040" y="2720880"/>
              <a:chExt cx="7279920" cy="1403280"/>
            </a:xfrm>
          </p:grpSpPr>
          <p:sp>
            <p:nvSpPr>
              <p:cNvPr id="139" name=""/>
              <p:cNvSpPr/>
              <p:nvPr/>
            </p:nvSpPr>
            <p:spPr>
              <a:xfrm>
                <a:off x="932040" y="2720880"/>
                <a:ext cx="72799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32040" y="2720880"/>
                <a:ext cx="7279920" cy="14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13"/>
                  </a:rPr>
                  <a:t>  </a:t>
                </a:r>
                <a:r>
                  <a:rPr b="1" lang="zh-CN" sz="8600" spc="-1" strike="noStrike">
                    <a:solidFill>
                      <a:srgbClr val="3d362b"/>
                    </a:solidFill>
                    <a:latin typeface="Verdana"/>
                  </a:rPr>
                  <a:t> </a:t>
                </a:r>
                <a:r>
                  <a:rPr b="1" lang="zh-CN" sz="900" spc="-1" strike="noStrike">
                    <a:solidFill>
                      <a:srgbClr val="3d362b"/>
                    </a:solidFill>
                    <a:latin typeface="Verdana"/>
                  </a:rPr>
                  <a:t>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1" name="s_0015" descr="京剧脸谱艺术"/>
          <p:cNvPicPr/>
          <p:nvPr/>
        </p:nvPicPr>
        <p:blipFill>
          <a:blip r:embed="rId14"/>
          <a:stretch/>
        </p:blipFill>
        <p:spPr>
          <a:xfrm>
            <a:off x="1066680" y="2362320"/>
            <a:ext cx="190512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s_0001" descr="京剧脸谱艺术"/>
          <p:cNvPicPr/>
          <p:nvPr/>
        </p:nvPicPr>
        <p:blipFill>
          <a:blip r:embed="rId15"/>
          <a:stretch/>
        </p:blipFill>
        <p:spPr>
          <a:xfrm>
            <a:off x="3657600" y="2438280"/>
            <a:ext cx="2057400" cy="2133720"/>
          </a:xfrm>
          <a:prstGeom prst="rect">
            <a:avLst/>
          </a:prstGeom>
          <a:ln w="0">
            <a:noFill/>
          </a:ln>
        </p:spPr>
      </p:pic>
      <p:pic>
        <p:nvPicPr>
          <p:cNvPr id="143" name="s_0012" descr="京剧脸谱艺术"/>
          <p:cNvPicPr/>
          <p:nvPr/>
        </p:nvPicPr>
        <p:blipFill>
          <a:blip r:embed="rId16"/>
          <a:stretch/>
        </p:blipFill>
        <p:spPr>
          <a:xfrm>
            <a:off x="3962520" y="457200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s_0010" descr="京剧脸谱艺术"/>
          <p:cNvPicPr/>
          <p:nvPr/>
        </p:nvPicPr>
        <p:blipFill>
          <a:blip r:embed="rId17"/>
          <a:stretch/>
        </p:blipFill>
        <p:spPr>
          <a:xfrm>
            <a:off x="6477120" y="2514600"/>
            <a:ext cx="205740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s_0005" descr="京剧脸谱艺术"/>
          <p:cNvPicPr/>
          <p:nvPr/>
        </p:nvPicPr>
        <p:blipFill>
          <a:blip r:embed="rId18"/>
          <a:stretch/>
        </p:blipFill>
        <p:spPr>
          <a:xfrm>
            <a:off x="6705720" y="4800600"/>
            <a:ext cx="1752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32720" y="5608800"/>
            <a:ext cx="287280" cy="276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1341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一个图形沿着一条直线对折，直线两侧的图形能够完全重合，这个图形就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42900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折痕所在的这条直线叫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2583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轴对称图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414972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对称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551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84720" y="4941720"/>
            <a:ext cx="2303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533520"/>
            <a:ext cx="167616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80880"/>
            <a:ext cx="121932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57200"/>
            <a:ext cx="1828800" cy="1143000"/>
          </a:xfrm>
          <a:prstGeom prst="parallelogram">
            <a:avLst>
              <a:gd name="adj" fmla="val 40000"/>
            </a:avLst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657600"/>
            <a:ext cx="1828800" cy="1523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0748400">
            <a:off x="2819160" y="3962160"/>
            <a:ext cx="1984320" cy="1139760"/>
          </a:xfrm>
          <a:custGeom>
            <a:avLst/>
            <a:gdLst>
              <a:gd name="textAreaLeft" fmla="*/ 436320 w 1984320"/>
              <a:gd name="textAreaRight" fmla="*/ 1548000 w 1984320"/>
              <a:gd name="textAreaTop" fmla="*/ 250560 h 1139760"/>
              <a:gd name="textAreaBottom" fmla="*/ 88920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162920" y="304920"/>
            <a:ext cx="1981080" cy="1218600"/>
            <a:chOff x="7162920" y="304920"/>
            <a:chExt cx="1981080" cy="1218600"/>
          </a:xfrm>
        </p:grpSpPr>
        <p:sp>
          <p:nvSpPr>
            <p:cNvPr id="152" name=""/>
            <p:cNvSpPr/>
            <p:nvPr/>
          </p:nvSpPr>
          <p:spPr>
            <a:xfrm flipH="1">
              <a:off x="7162920" y="304920"/>
              <a:ext cx="685440" cy="12186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48360" y="304920"/>
              <a:ext cx="1295280" cy="12186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2920" y="1523520"/>
              <a:ext cx="19810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334120" y="3886200"/>
            <a:ext cx="1447200" cy="1142640"/>
            <a:chOff x="5334120" y="3886200"/>
            <a:chExt cx="1447200" cy="1142640"/>
          </a:xfrm>
        </p:grpSpPr>
        <p:sp>
          <p:nvSpPr>
            <p:cNvPr id="156" name=""/>
            <p:cNvSpPr/>
            <p:nvPr/>
          </p:nvSpPr>
          <p:spPr>
            <a:xfrm>
              <a:off x="5334120" y="5028840"/>
              <a:ext cx="14472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334120" y="3886200"/>
              <a:ext cx="1446480" cy="1142280"/>
              <a:chOff x="5334120" y="3886200"/>
              <a:chExt cx="1446480" cy="1142280"/>
            </a:xfrm>
          </p:grpSpPr>
          <p:sp>
            <p:nvSpPr>
              <p:cNvPr id="158" name=""/>
              <p:cNvSpPr/>
              <p:nvPr/>
            </p:nvSpPr>
            <p:spPr>
              <a:xfrm>
                <a:off x="5334120" y="3886200"/>
                <a:ext cx="93600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34120" y="3886200"/>
                <a:ext cx="0" cy="114228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70120" y="3886200"/>
                <a:ext cx="510480" cy="114228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304920" y="304920"/>
            <a:ext cx="2286000" cy="1447560"/>
            <a:chOff x="304920" y="304920"/>
            <a:chExt cx="2286000" cy="1447560"/>
          </a:xfrm>
        </p:grpSpPr>
        <p:sp>
          <p:nvSpPr>
            <p:cNvPr id="162" name=""/>
            <p:cNvSpPr/>
            <p:nvPr/>
          </p:nvSpPr>
          <p:spPr>
            <a:xfrm>
              <a:off x="1371600" y="30492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990720"/>
              <a:ext cx="228600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895480" y="151920"/>
            <a:ext cx="1676520" cy="1905480"/>
            <a:chOff x="2895480" y="151920"/>
            <a:chExt cx="1676520" cy="1905480"/>
          </a:xfrm>
        </p:grpSpPr>
        <p:sp>
          <p:nvSpPr>
            <p:cNvPr id="165" name=""/>
            <p:cNvSpPr/>
            <p:nvPr/>
          </p:nvSpPr>
          <p:spPr>
            <a:xfrm>
              <a:off x="3733920" y="152280"/>
              <a:ext cx="0" cy="1905120"/>
            </a:xfrm>
            <a:prstGeom prst="line">
              <a:avLst/>
            </a:prstGeom>
            <a:ln w="572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95480" y="99072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971440" y="151920"/>
              <a:ext cx="1523880" cy="1676520"/>
            </a:xfrm>
            <a:prstGeom prst="line">
              <a:avLst/>
            </a:prstGeom>
            <a:ln w="572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971800" y="151920"/>
              <a:ext cx="1523880" cy="1600200"/>
            </a:xfrm>
            <a:prstGeom prst="line">
              <a:avLst/>
            </a:prstGeom>
            <a:ln w="572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295280" y="312408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3505320"/>
            <a:ext cx="0" cy="2209680"/>
          </a:xfrm>
          <a:prstGeom prst="line">
            <a:avLst/>
          </a:prstGeom>
          <a:ln w="572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3505320"/>
            <a:ext cx="1523880" cy="15238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781680" y="3200400"/>
            <a:ext cx="2057400" cy="2286000"/>
            <a:chOff x="6781680" y="3200400"/>
            <a:chExt cx="2057400" cy="2286000"/>
          </a:xfrm>
        </p:grpSpPr>
        <p:sp>
          <p:nvSpPr>
            <p:cNvPr id="173" name=""/>
            <p:cNvSpPr/>
            <p:nvPr/>
          </p:nvSpPr>
          <p:spPr>
            <a:xfrm>
              <a:off x="7848720" y="3200400"/>
              <a:ext cx="0" cy="2286000"/>
            </a:xfrm>
            <a:prstGeom prst="line">
              <a:avLst/>
            </a:prstGeom>
            <a:ln w="572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1680" y="4267080"/>
              <a:ext cx="205740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352680"/>
              <a:ext cx="1447560" cy="1981440"/>
            </a:xfrm>
            <a:prstGeom prst="line">
              <a:avLst/>
            </a:prstGeom>
            <a:ln w="572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086600" y="3504960"/>
              <a:ext cx="1523880" cy="1600200"/>
            </a:xfrm>
            <a:prstGeom prst="line">
              <a:avLst/>
            </a:prstGeom>
            <a:ln w="572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33520" y="1901880"/>
            <a:ext cx="21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条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11040" y="1981080"/>
            <a:ext cx="159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条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1000" y="5715000"/>
            <a:ext cx="159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条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5638680"/>
            <a:ext cx="19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条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56386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（无数条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89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Arial"/>
              </a:rPr>
              <a:t>下面图形中哪些是轴对称图形 ？再画出它们的对称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9000"/>
            <a:ext cx="863640" cy="64764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800" h="21600">
                <a:moveTo>
                  <a:pt x="144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800" h="21600">
                <a:moveTo>
                  <a:pt x="11824" y="8224"/>
                </a:moveTo>
                <a:lnTo>
                  <a:pt x="15688" y="8224"/>
                </a:lnTo>
                <a:lnTo>
                  <a:pt x="15688" y="15221"/>
                </a:lnTo>
                <a:lnTo>
                  <a:pt x="16976" y="15221"/>
                </a:lnTo>
                <a:lnTo>
                  <a:pt x="16976" y="16144"/>
                </a:lnTo>
                <a:lnTo>
                  <a:pt x="11824" y="16144"/>
                </a:lnTo>
                <a:lnTo>
                  <a:pt x="11824" y="15221"/>
                </a:lnTo>
                <a:lnTo>
                  <a:pt x="13112" y="15221"/>
                </a:lnTo>
                <a:lnTo>
                  <a:pt x="13112" y="9129"/>
                </a:lnTo>
                <a:lnTo>
                  <a:pt x="11824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676520"/>
          <a:ext cx="7594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594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95280" y="2057400"/>
          <a:ext cx="554364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554364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55640" y="53352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画出下面每组图形的对称轴。各能画几条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676160" y="1980720"/>
            <a:ext cx="1523880" cy="2057400"/>
          </a:xfrm>
          <a:prstGeom prst="line">
            <a:avLst/>
          </a:prstGeom>
          <a:ln w="381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1828800"/>
            <a:ext cx="533520" cy="2666880"/>
          </a:xfrm>
          <a:prstGeom prst="line">
            <a:avLst/>
          </a:prstGeom>
          <a:ln w="381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724280" y="2057400"/>
            <a:ext cx="1981440" cy="1752480"/>
          </a:xfrm>
          <a:prstGeom prst="line">
            <a:avLst/>
          </a:prstGeom>
          <a:ln w="381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4495680" y="2666520"/>
            <a:ext cx="2286000" cy="685800"/>
          </a:xfrm>
          <a:prstGeom prst="line">
            <a:avLst/>
          </a:prstGeom>
          <a:ln w="381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51055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9880"/>
            <a:ext cx="0" cy="3048120"/>
          </a:xfrm>
          <a:prstGeom prst="line">
            <a:avLst/>
          </a:prstGeom>
          <a:ln w="381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451640" y="15019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736720" cy="1824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2519280" cy="1889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508720" y="98100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059280" y="2852640"/>
            <a:ext cx="2519280" cy="160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796000" y="4581360"/>
            <a:ext cx="23763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90880" y="2138400"/>
            <a:ext cx="1235160" cy="13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958000" y="2281320"/>
            <a:ext cx="1187280" cy="138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071800" y="4581360"/>
            <a:ext cx="1042920" cy="1040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012000" y="4581360"/>
            <a:ext cx="1079280" cy="1040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692360" y="1916280"/>
            <a:ext cx="1104840" cy="1133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067280" y="4292640"/>
            <a:ext cx="981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08240" y="2924280"/>
            <a:ext cx="2660400" cy="1762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79880" y="2924280"/>
            <a:ext cx="2470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1800360" cy="1500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1800360" cy="1846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79680" y="4232160"/>
            <a:ext cx="24476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8-02-18T02:32:16Z</dcterms:modified>
  <cp:revision>25</cp:revision>
  <dc:subject/>
  <dc:title>PowerPoint Presentation</dc:title>
</cp:coreProperties>
</file>