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5.jpeg" ContentType="image/jpeg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14.jpeg" ContentType="image/jpeg"/>
  <Override PartName="/ppt/media/image5.gif" ContentType="image/gif"/>
  <Override PartName="/ppt/media/projctor.wav" ContentType="audio/x-wav"/>
  <Override PartName="/ppt/media/image13.png" ContentType="image/png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2CB-A79E-4757-A7FA-E80227BF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BAC-D96C-4366-AC18-29377E58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62C-5663-4A82-AC6A-4303C1B3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DD1-1CE6-4FB1-9424-35E6AC1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B3C-79DA-4864-8E25-109D809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28E-EE15-459E-AAEB-5388FFF6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C29-F968-4488-A997-377CC476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FC5-62F8-450B-A54D-478431F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90F-9739-465E-B123-A64AB41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E78-D27A-4E10-8853-9468FF7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E9F-9311-4131-A6A3-F7C127F3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3FF-F966-4149-BAE3-84FB617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4DF-7ECE-4589-A6A2-7FE80591DB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4724280"/>
            <a:ext cx="1059156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198108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宋体"/>
              </a:rPr>
              <a:t>轴对称图形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宋体"/>
              <a:ea typeface="华文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889600"/>
            <a:ext cx="929664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76520" y="5889600"/>
            <a:ext cx="9296280" cy="96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876920" y="5889600"/>
            <a:ext cx="9296280" cy="96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352680" y="5889600"/>
            <a:ext cx="9296640" cy="968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90920" y="609480"/>
            <a:ext cx="125712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162920" y="60948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33520" y="68580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724280" y="609480"/>
            <a:ext cx="125748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200400" y="3886200"/>
            <a:ext cx="2583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523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折痕所在的直线就是轴对称图形的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对称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213372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905120"/>
            <a:ext cx="1219320" cy="1752480"/>
          </a:xfrm>
          <a:prstGeom prst="upDownArrow">
            <a:avLst>
              <a:gd name="adj1" fmla="val 50000"/>
              <a:gd name="adj2" fmla="val 286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038480"/>
            <a:ext cx="2133720" cy="2057400"/>
          </a:xfrm>
          <a:custGeom>
            <a:avLst/>
            <a:gdLst>
              <a:gd name="textAreaLeft" fmla="*/ 879120 w 2133720"/>
              <a:gd name="textAreaRight" fmla="*/ 1254600 w 2133720"/>
              <a:gd name="textAreaTop" fmla="*/ 847800 h 2057400"/>
              <a:gd name="textAreaBottom" fmla="*/ 12096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038480"/>
            <a:ext cx="1676520" cy="1600200"/>
          </a:xfrm>
          <a:prstGeom prst="star5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267080"/>
            <a:ext cx="152424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2590920"/>
            <a:ext cx="2361960" cy="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2743200"/>
            <a:ext cx="2362320" cy="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248520" y="1600200"/>
            <a:ext cx="1440" cy="236232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419720"/>
            <a:ext cx="1143000" cy="121896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657600"/>
            <a:ext cx="0" cy="29718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657600"/>
            <a:ext cx="0" cy="213372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886200"/>
            <a:ext cx="0" cy="29718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882760" y="4495680"/>
            <a:ext cx="2635560" cy="13734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13372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905120"/>
            <a:ext cx="1219320" cy="1752480"/>
          </a:xfrm>
          <a:prstGeom prst="upDownArrow">
            <a:avLst>
              <a:gd name="adj1" fmla="val 50000"/>
              <a:gd name="adj2" fmla="val 286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4038480"/>
            <a:ext cx="2133720" cy="2057400"/>
          </a:xfrm>
          <a:custGeom>
            <a:avLst/>
            <a:gdLst>
              <a:gd name="textAreaLeft" fmla="*/ 879120 w 2133720"/>
              <a:gd name="textAreaRight" fmla="*/ 1254600 w 2133720"/>
              <a:gd name="textAreaTop" fmla="*/ 847800 h 2057400"/>
              <a:gd name="textAreaBottom" fmla="*/ 12096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4038480"/>
            <a:ext cx="1676520" cy="1600200"/>
          </a:xfrm>
          <a:prstGeom prst="star5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267080"/>
            <a:ext cx="152424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6252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467480" y="4952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0948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5120" y="457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仔细看：树叶的构造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28920" y="1447920"/>
            <a:ext cx="110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1931760" cy="1771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343400"/>
            <a:ext cx="1927080" cy="202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1371600" cy="139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553080" y="4419720"/>
            <a:ext cx="2133720" cy="160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908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9088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1066680"/>
            <a:ext cx="8778960" cy="4108680"/>
            <a:chOff x="0" y="1066680"/>
            <a:chExt cx="8778960" cy="4108680"/>
          </a:xfrm>
        </p:grpSpPr>
        <p:sp>
          <p:nvSpPr>
            <p:cNvPr id="66" name=""/>
            <p:cNvSpPr/>
            <p:nvPr/>
          </p:nvSpPr>
          <p:spPr>
            <a:xfrm>
              <a:off x="0" y="1066680"/>
              <a:ext cx="532296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66680"/>
              <a:ext cx="877896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579840" y="2263680"/>
            <a:ext cx="1984320" cy="2286000"/>
            <a:chOff x="3579840" y="2263680"/>
            <a:chExt cx="1984320" cy="2286000"/>
          </a:xfrm>
        </p:grpSpPr>
        <p:sp>
          <p:nvSpPr>
            <p:cNvPr id="70" name=""/>
            <p:cNvSpPr/>
            <p:nvPr/>
          </p:nvSpPr>
          <p:spPr>
            <a:xfrm>
              <a:off x="3579840" y="226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9840" y="2263680"/>
              <a:ext cx="19843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0" lang="zh-CN" sz="14400" spc="-1" strike="noStrike">
                  <a:solidFill>
                    <a:srgbClr val="333399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362320" y="2895480"/>
            <a:ext cx="1828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339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324480" y="457200"/>
            <a:ext cx="253044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09480" y="762120"/>
            <a:ext cx="1752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2971800" cy="4647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251460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52880" y="56386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45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米佩重纳斯大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638680"/>
            <a:ext cx="40384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420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米的金茂大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5954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09680" y="1219320"/>
            <a:ext cx="3581280" cy="2935080"/>
            <a:chOff x="2209680" y="1219320"/>
            <a:chExt cx="3581280" cy="2935080"/>
          </a:xfrm>
        </p:grpSpPr>
        <p:grpSp>
          <p:nvGrpSpPr>
            <p:cNvPr id="82" name=""/>
            <p:cNvGrpSpPr/>
            <p:nvPr/>
          </p:nvGrpSpPr>
          <p:grpSpPr>
            <a:xfrm>
              <a:off x="2214360" y="1224000"/>
              <a:ext cx="3571920" cy="2925720"/>
              <a:chOff x="2214360" y="1224000"/>
              <a:chExt cx="3571920" cy="2925720"/>
            </a:xfrm>
          </p:grpSpPr>
          <p:sp>
            <p:nvSpPr>
              <p:cNvPr id="83" name=""/>
              <p:cNvSpPr/>
              <p:nvPr/>
            </p:nvSpPr>
            <p:spPr>
              <a:xfrm>
                <a:off x="2214360" y="1224000"/>
                <a:ext cx="3571920" cy="29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16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14360" y="1224000"/>
                <a:ext cx="3571920" cy="2925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09680" y="1219320"/>
              <a:ext cx="3581280" cy="2935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五环"/>
          <p:cNvPicPr/>
          <p:nvPr/>
        </p:nvPicPr>
        <p:blipFill>
          <a:blip r:embed="rId1"/>
          <a:stretch/>
        </p:blipFill>
        <p:spPr>
          <a:xfrm>
            <a:off x="1600200" y="457200"/>
            <a:ext cx="5638680" cy="3733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4572000"/>
            <a:ext cx="73152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新闻联播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：上海通用汽车公司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组成代表中国奥委会标志的独特车阵，以庆祝北京申办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年奥运会成功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410080" y="3733920"/>
            <a:ext cx="2895840" cy="2819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209680"/>
            <a:ext cx="29718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295280"/>
            <a:ext cx="289548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581280"/>
            <a:ext cx="289548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04920"/>
            <a:ext cx="6553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游戏：寻找对称轴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257800" y="533520"/>
            <a:ext cx="60948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895480"/>
            <a:ext cx="541008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09320" y="2971800"/>
            <a:ext cx="57150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2412600">
            <a:off x="3352320" y="2514600"/>
            <a:ext cx="42674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512200">
            <a:off x="4571280" y="2209680"/>
            <a:ext cx="42674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3282200">
            <a:off x="4343040" y="1371240"/>
            <a:ext cx="426708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3183200">
            <a:off x="2361960" y="3657240"/>
            <a:ext cx="426708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8282000">
            <a:off x="-609120" y="3047400"/>
            <a:ext cx="426708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7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752480"/>
            <a:ext cx="60948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86000"/>
            <a:ext cx="990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1295280" cy="1295640"/>
          </a:xfrm>
          <a:prstGeom prst="donut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9051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1981080"/>
            <a:ext cx="1143000" cy="121932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438280"/>
            <a:ext cx="1905120" cy="762120"/>
          </a:xfrm>
          <a:prstGeom prst="triangle">
            <a:avLst>
              <a:gd name="adj" fmla="val 759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038480"/>
            <a:ext cx="914400" cy="1447920"/>
          </a:xfrm>
          <a:prstGeom prst="flowChartDe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4114800"/>
            <a:ext cx="6858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4495680"/>
            <a:ext cx="1295280" cy="990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886200"/>
            <a:ext cx="1067040" cy="1600200"/>
          </a:xfrm>
          <a:prstGeom prst="diamond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572000"/>
            <a:ext cx="1447560" cy="914400"/>
          </a:xfrm>
          <a:custGeom>
            <a:avLst/>
            <a:gdLst>
              <a:gd name="textAreaLeft" fmla="*/ 318240 w 1447560"/>
              <a:gd name="textAreaRight" fmla="*/ 1129320 w 14475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648320"/>
            <a:ext cx="2057400" cy="838080"/>
          </a:xfrm>
          <a:prstGeom prst="parallelogram">
            <a:avLst>
              <a:gd name="adj" fmla="val 6137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42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22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707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8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5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5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213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4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33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下列图形中哪些是轴对称图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00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1676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果一个图形沿着一条线对折，两侧的图形能够完全重合，这样的图形就是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轴对称图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00:41:32Z</dcterms:created>
  <dc:creator/>
  <dc:description/>
  <dc:language>en-US</dc:language>
  <cp:lastModifiedBy>gwfxcqs</cp:lastModifiedBy>
  <dcterms:modified xsi:type="dcterms:W3CDTF">2006-12-06T01:58:44Z</dcterms:modified>
  <cp:revision>67</cp:revision>
  <dc:subject/>
  <dc:title>PowerPoint 演示文稿</dc:title>
</cp:coreProperties>
</file>