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c9e0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76320" y="0"/>
            <a:ext cx="9220320" cy="1143000"/>
          </a:xfrm>
          <a:prstGeom prst="rect">
            <a:avLst/>
          </a:prstGeom>
          <a:solidFill>
            <a:srgbClr val="4d7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428640" y="6477120"/>
            <a:ext cx="5715000" cy="0"/>
          </a:xfrm>
          <a:prstGeom prst="line">
            <a:avLst/>
          </a:prstGeom>
          <a:ln w="9360">
            <a:solidFill>
              <a:srgbClr val="71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05720"/>
            <a:ext cx="3733920" cy="0"/>
          </a:xfrm>
          <a:prstGeom prst="line">
            <a:avLst/>
          </a:prstGeom>
          <a:ln w="9360">
            <a:solidFill>
              <a:srgbClr val="71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676520" y="22860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7191cb"/>
                </a:solidFill>
                <a:effectLst>
                  <a:outerShdw dist="153753" dir="2700000" blurRad="0" rotWithShape="0">
                    <a:srgbClr val="435679"/>
                  </a:outerShdw>
                </a:effectLst>
                <a:latin typeface="黑体"/>
              </a:rPr>
              <a:t>百 分 数 的 意 义 和 写 法</a:t>
            </a:r>
            <a:endParaRPr b="0" lang="en-US" sz="2400" spc="1" strike="noStrike">
              <a:ln w="0">
                <a:noFill/>
              </a:ln>
              <a:solidFill>
                <a:srgbClr val="7191cb"/>
              </a:solidFill>
              <a:effectLst>
                <a:outerShdw dist="153753" dir="2700000" blurRad="0" rotWithShape="0">
                  <a:srgbClr val="435679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2860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百 分 数 的 意 义 和 写 法</a:t>
            </a:r>
            <a:endParaRPr b="0" lang="en-US" sz="2400" spc="1" strike="noStrike">
              <a:ln w="12600">
                <a:solidFill>
                  <a:srgbClr val="ffff99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3490560" y="2057400"/>
            <a:ext cx="22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表示一个数是另一个数的百分之几的数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百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。百分数也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百分率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百分比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42560" y="4037040"/>
            <a:ext cx="533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百分数通常不写成分数形式，而在原来的分子后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加上百分号 “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% 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” </a:t>
            </a: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来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38280" y="228600"/>
            <a:ext cx="426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百 分 数 的 意 义 和 写 法</a:t>
            </a:r>
            <a:endParaRPr b="0" lang="en-US" sz="2400" spc="1" strike="noStrike">
              <a:ln w="12600">
                <a:solidFill>
                  <a:srgbClr val="ffff99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1523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3520" y="243828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百分之九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3880" y="244800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写作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17560" y="3639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百分之六十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39720" y="367200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写作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29360" y="487692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百分之一百零八点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39360" y="489096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Times New Roman"/>
              </a:rPr>
              <a:t>写作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8.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80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1680480" y="376200"/>
            <a:ext cx="52416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yz" descr=""/>
          <p:cNvPicPr/>
          <p:nvPr/>
        </p:nvPicPr>
        <p:blipFill>
          <a:blip r:embed="rId1"/>
          <a:srcRect l="5738" t="31922" r="11452" b="34500"/>
          <a:stretch/>
        </p:blipFill>
        <p:spPr>
          <a:xfrm>
            <a:off x="2057400" y="2819520"/>
            <a:ext cx="5867280" cy="131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40920" y="1371600"/>
            <a:ext cx="52506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下面的正方形表示“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1”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，把各图中涂色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7191cb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用分数和百分数表示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43275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83560" y="49370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16200" y="43275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16200" y="493704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26240" y="426708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26240" y="493704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84560" y="548640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91c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7191cb"/>
                </a:solidFill>
                <a:latin typeface="黑体"/>
                <a:ea typeface="黑体"/>
              </a:rPr>
              <a:t>想一想：百分数和分数在意义上有什么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84360" y="4054320"/>
            <a:ext cx="637920" cy="824760"/>
            <a:chOff x="2484360" y="4054320"/>
            <a:chExt cx="637920" cy="824760"/>
          </a:xfrm>
        </p:grpSpPr>
        <p:sp>
          <p:nvSpPr>
            <p:cNvPr id="64" name=""/>
            <p:cNvSpPr/>
            <p:nvPr/>
          </p:nvSpPr>
          <p:spPr>
            <a:xfrm>
              <a:off x="2611440" y="4054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84360" y="4419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90920" y="44956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60680" y="4876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94400" y="4105440"/>
            <a:ext cx="637920" cy="774000"/>
            <a:chOff x="4694400" y="4105440"/>
            <a:chExt cx="637920" cy="774000"/>
          </a:xfrm>
        </p:grpSpPr>
        <p:sp>
          <p:nvSpPr>
            <p:cNvPr id="69" name=""/>
            <p:cNvSpPr/>
            <p:nvPr/>
          </p:nvSpPr>
          <p:spPr>
            <a:xfrm>
              <a:off x="4802040" y="410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94400" y="4419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44960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650120" y="4876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9800" y="4105440"/>
            <a:ext cx="637920" cy="774000"/>
            <a:chOff x="6859800" y="4105440"/>
            <a:chExt cx="637920" cy="774000"/>
          </a:xfrm>
        </p:grpSpPr>
        <p:sp>
          <p:nvSpPr>
            <p:cNvPr id="74" name=""/>
            <p:cNvSpPr/>
            <p:nvPr/>
          </p:nvSpPr>
          <p:spPr>
            <a:xfrm>
              <a:off x="6859800" y="4105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9800" y="4419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66000" y="44960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00760" y="4915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3:52:32Z</dcterms:created>
  <dc:creator>Jane</dc:creator>
  <dc:description/>
  <dc:language>en-US</dc:language>
  <cp:lastModifiedBy>微软用户</cp:lastModifiedBy>
  <dcterms:modified xsi:type="dcterms:W3CDTF">2008-02-18T02:53:12Z</dcterms:modified>
  <cp:revision>193</cp:revision>
  <dc:subject/>
  <dc:title>PowerPoint 演示文稿</dc:title>
</cp:coreProperties>
</file>