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9B3-178E-4B9A-A256-BCA1C155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CDF-6506-4A83-B97A-D33E894D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CD4-71D4-4FFA-A277-5738BA61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AA3-3820-479C-9744-0C10E149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4662-014E-4ACD-BBBF-0A54E181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6FAB-D29F-49E3-8C85-405AC2C8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BDC4-8A00-4158-BFB0-E76738D1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C540-0E2D-4785-95AD-6FFF3C64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AF78-E3CF-4D0B-9AFE-F7FD60C6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6492-A8CD-4284-99CD-BF1BADD7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4B1C-C825-4791-9966-C9C2A9D4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8FF-12E1-4A28-B098-47C90D54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37E4-F473-4D18-B8AD-867CE449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47AA-C11F-47EE-AA2B-7B339087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4272-44D8-46B2-9D0A-669E96AA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6BE0-B4BD-4F74-A7D8-329A1648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47A7-F596-4A34-B5F1-798D93F8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6AE-0DF6-4E56-9657-BA9F75D4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EC6-510D-4632-99CB-15B86733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50C-2C5D-4135-A1B6-0B7D61D0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821-4EA9-4E7A-89C1-FF539F61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D27-1F4D-4D4A-8B65-0ECB7174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401-6181-48B1-B76A-5EE8BE5C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80C-BFE0-43C1-933A-5EFE9044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49DB-92B0-466B-9C2E-9AAFB4EC87EA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84AE-2C7C-4A72-8427-39254BA0E9A7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495680" y="3886200"/>
            <a:ext cx="762120" cy="609480"/>
          </a:xfrm>
          <a:prstGeom prst="rect">
            <a:avLst/>
          </a:prstGeom>
          <a:solidFill>
            <a:srgbClr val="3bcb3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3809880"/>
            <a:ext cx="838440" cy="609840"/>
          </a:xfrm>
          <a:prstGeom prst="rect">
            <a:avLst/>
          </a:prstGeom>
          <a:solidFill>
            <a:srgbClr val="3bcb3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676520"/>
            <a:ext cx="838440" cy="685800"/>
          </a:xfrm>
          <a:prstGeom prst="rect">
            <a:avLst/>
          </a:prstGeom>
          <a:solidFill>
            <a:srgbClr val="3bcb3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676520"/>
            <a:ext cx="838440" cy="685800"/>
          </a:xfrm>
          <a:prstGeom prst="rect">
            <a:avLst/>
          </a:prstGeom>
          <a:solidFill>
            <a:srgbClr val="3bcb3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685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把下面的小数化成分数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再说一说小数化分数的方法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12193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0.45            1.2             0.367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小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2057400"/>
            <a:ext cx="434340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6002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5472"/>
                </a:solidFill>
                <a:latin typeface="Arial"/>
              </a:rPr>
              <a:t>先化成分母是</a:t>
            </a:r>
            <a:r>
              <a:rPr b="0" lang="zh-CN" sz="1800" spc="-1" strike="noStrike">
                <a:solidFill>
                  <a:srgbClr val="545472"/>
                </a:solidFill>
                <a:latin typeface="Arial"/>
              </a:rPr>
              <a:t>10,100,1000</a:t>
            </a:r>
            <a:r>
              <a:rPr b="0" lang="zh-CN" sz="1800" spc="-1" strike="noStrike">
                <a:solidFill>
                  <a:srgbClr val="545472"/>
                </a:solidFill>
                <a:latin typeface="Arial"/>
              </a:rPr>
              <a:t>的分数</a:t>
            </a:r>
            <a:r>
              <a:rPr b="0" lang="zh-CN" sz="1800" spc="-1" strike="noStrike">
                <a:solidFill>
                  <a:srgbClr val="545472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545472"/>
                </a:solidFill>
                <a:latin typeface="Arial"/>
              </a:rPr>
              <a:t>再约分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分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2590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先把下面的分数化成小数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再说说分数化小数的方法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312408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—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分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4191120"/>
            <a:ext cx="205740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小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3809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5472"/>
                </a:solidFill>
                <a:latin typeface="Arial"/>
              </a:rPr>
              <a:t>用分子除以分母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44956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把下面各分数改写成百分数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51055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—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—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3200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334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—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5334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5105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–––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4952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1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–––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.8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00200" y="1219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你能直接判断 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  <a:ea typeface="Arial"/>
              </a:rPr>
              <a:t>—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bcb3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1447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1066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                                        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,57.1%, 5.7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的大小吗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如果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1905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要比较这些数的大小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需要做些什么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238880" y="5486400"/>
            <a:ext cx="1143000" cy="533520"/>
          </a:xfrm>
          <a:prstGeom prst="rect">
            <a:avLst/>
          </a:prstGeom>
          <a:solidFill>
            <a:srgbClr val="3bcb3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5486400"/>
            <a:ext cx="990720" cy="609480"/>
          </a:xfrm>
          <a:prstGeom prst="rect">
            <a:avLst/>
          </a:prstGeom>
          <a:solidFill>
            <a:srgbClr val="3bcb3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4419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533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例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把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0.25,    1.4,    0.123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化成百分数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0.25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1371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990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1143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25%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2286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21337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228600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——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2133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140%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0.12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3733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2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—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2.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12.3%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5867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54864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小数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5867280"/>
            <a:ext cx="480060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6292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百分数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54100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45472"/>
                </a:solidFill>
                <a:latin typeface="Arial"/>
              </a:rPr>
              <a:t>把小数点向右移动两位</a:t>
            </a:r>
            <a:r>
              <a:rPr b="0" lang="zh-CN" sz="2000" spc="-1" strike="noStrike">
                <a:solidFill>
                  <a:srgbClr val="545472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545472"/>
                </a:solidFill>
                <a:latin typeface="Arial"/>
              </a:rPr>
              <a:t>同时在后面添上</a:t>
            </a:r>
            <a:r>
              <a:rPr b="0" lang="zh-CN" sz="2000" spc="-1" strike="noStrike">
                <a:solidFill>
                  <a:srgbClr val="545472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267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0.25=25% 1.4=140% 0.123=12.3%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a7ccd9"/>
          </a:solidFill>
          <a:ln cap="sq"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1143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–––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1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––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—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315200" y="762120"/>
            <a:ext cx="1143000" cy="761760"/>
          </a:xfrm>
          <a:prstGeom prst="rect">
            <a:avLst/>
          </a:prstGeom>
          <a:solidFill>
            <a:srgbClr val="3bcb3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838080"/>
            <a:ext cx="914400" cy="609840"/>
          </a:xfrm>
          <a:prstGeom prst="rect">
            <a:avLst/>
          </a:prstGeom>
          <a:solidFill>
            <a:srgbClr val="3bcb3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22096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小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1066680"/>
            <a:ext cx="449568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6094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609480"/>
            <a:ext cx="4495680" cy="368280"/>
          </a:xfrm>
          <a:prstGeom prst="rect">
            <a:avLst/>
          </a:prstGeom>
          <a:solidFill>
            <a:srgbClr val="fdf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e3316"/>
                </a:solidFill>
                <a:latin typeface="Arial"/>
              </a:rPr>
              <a:t>把小数点向右移动两位</a:t>
            </a:r>
            <a:r>
              <a:rPr b="0" lang="zh-CN" sz="1800" spc="-1" strike="noStrike">
                <a:solidFill>
                  <a:srgbClr val="de331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de3316"/>
                </a:solidFill>
                <a:latin typeface="Arial"/>
              </a:rPr>
              <a:t>同时在后面添上</a:t>
            </a:r>
            <a:r>
              <a:rPr b="0" lang="zh-CN" sz="1800" spc="-1" strike="noStrike">
                <a:solidFill>
                  <a:srgbClr val="de3316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15200" y="91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百分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743200" y="1219320"/>
            <a:ext cx="449568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32767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例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把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27% ,124% ,0.4%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化成小数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40384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27%=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–––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267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4038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27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÷100=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4952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24%=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4800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2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4952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124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÷100=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579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0.4%=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5791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0.4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÷100=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24280" y="5791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0.00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175248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27%=0.27    124%=1.240.4%=0.00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1295280"/>
            <a:ext cx="4191120" cy="368280"/>
          </a:xfrm>
          <a:prstGeom prst="rect">
            <a:avLst/>
          </a:prstGeom>
          <a:solidFill>
            <a:srgbClr val="fdfdf5"/>
          </a:solidFill>
          <a:ln w="9360">
            <a:solidFill>
              <a:srgbClr val="e3e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0df5"/>
                </a:solidFill>
                <a:latin typeface="Arial"/>
              </a:rPr>
              <a:t>把</a:t>
            </a:r>
            <a:r>
              <a:rPr b="0" lang="zh-CN" sz="1800" spc="-1" strike="noStrike">
                <a:solidFill>
                  <a:srgbClr val="290df5"/>
                </a:solidFill>
                <a:latin typeface="Arial"/>
              </a:rPr>
              <a:t>%</a:t>
            </a:r>
            <a:r>
              <a:rPr b="0" lang="zh-CN" sz="1800" spc="-1" strike="noStrike">
                <a:solidFill>
                  <a:srgbClr val="290df5"/>
                </a:solidFill>
                <a:latin typeface="Arial"/>
              </a:rPr>
              <a:t>去掉</a:t>
            </a:r>
            <a:r>
              <a:rPr b="0" lang="zh-CN" sz="1800" spc="-1" strike="noStrike">
                <a:solidFill>
                  <a:srgbClr val="290df5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290df5"/>
                </a:solidFill>
                <a:latin typeface="Arial"/>
              </a:rPr>
              <a:t>同时把小数点向左移动两位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290df5"/>
          </a:solidFill>
          <a:ln cap="sq"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0.27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.2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14600" y="49528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–––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57913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–––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371600" y="31240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把下面各百分数化成小数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15%           80%          3.5%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1447920"/>
            <a:ext cx="6476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把下面各小数化成百分数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0.38          1.05          0.055          3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a7ccd9"/>
          </a:solidFill>
          <a:ln cap="sq"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a7ccd9"/>
          </a:solidFill>
          <a:ln cap="sq"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914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做一做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705720" y="5334120"/>
            <a:ext cx="1295280" cy="685800"/>
          </a:xfrm>
          <a:prstGeom prst="rect">
            <a:avLst/>
          </a:prstGeom>
          <a:solidFill>
            <a:srgbClr val="3bcb3b"/>
          </a:solidFill>
          <a:ln cap="sq"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5334120"/>
            <a:ext cx="990720" cy="609480"/>
          </a:xfrm>
          <a:prstGeom prst="rect">
            <a:avLst/>
          </a:prstGeom>
          <a:solidFill>
            <a:srgbClr val="3bcb3b"/>
          </a:solidFill>
          <a:ln cap="sq"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838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把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45472"/>
                </a:solidFill>
                <a:latin typeface="Times New Roman"/>
              </a:rPr>
              <a:t>,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1066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838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1066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838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, 1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1066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685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838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化成百分数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1828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0.75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75%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006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76920" y="1828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–––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640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75%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3200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≈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0.167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3200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16.7%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4343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3962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4114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=1.6=160%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0020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分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715000"/>
            <a:ext cx="4114800" cy="0"/>
          </a:xfrm>
          <a:prstGeom prst="line">
            <a:avLst/>
          </a:prstGeom>
          <a:ln cap="sq" w="57240">
            <a:solidFill>
              <a:srgbClr val="e3e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8168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百分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5472"/>
                </a:solidFill>
                <a:latin typeface="Arial"/>
              </a:rPr>
              <a:t>通常先化成小数</a:t>
            </a:r>
            <a:r>
              <a:rPr b="0" lang="zh-CN" sz="1800" spc="-1" strike="noStrike">
                <a:solidFill>
                  <a:srgbClr val="545472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545472"/>
                </a:solidFill>
                <a:latin typeface="Arial"/>
              </a:rPr>
              <a:t>再化成百分数。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a7ccd9"/>
          </a:solidFill>
          <a:ln cap="sq"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cap="sq"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11430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将下列分数化成百分数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3048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将下列百分数化成分数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17524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—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3880" y="1981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1600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1752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—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1981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1600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752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  <a:ea typeface="Arial"/>
              </a:rPr>
              <a:t>—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112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91120" y="1600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37339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14%          2.5%          120%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080" y="6858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做一做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543800" y="4495680"/>
            <a:ext cx="914400" cy="685800"/>
          </a:xfrm>
          <a:prstGeom prst="rect">
            <a:avLst/>
          </a:prstGeom>
          <a:solidFill>
            <a:srgbClr val="3bcb3b"/>
          </a:solidFill>
          <a:ln cap="sq"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4495680"/>
            <a:ext cx="1143000" cy="685800"/>
          </a:xfrm>
          <a:prstGeom prst="rect">
            <a:avLst/>
          </a:prstGeom>
          <a:solidFill>
            <a:srgbClr val="3bcb3b"/>
          </a:solidFill>
          <a:ln cap="sq"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a7ccd9"/>
          </a:solidFill>
          <a:ln cap="sq"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685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例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你能将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17% ,40% ,12.5%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化成分数吗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5280" y="12193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17%=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  <a:ea typeface="Arial"/>
              </a:rPr>
              <a:t>–––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1523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9320" y="2286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40%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  <a:ea typeface="Arial"/>
              </a:rPr>
              <a:t>=–––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25909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096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  <a:ea typeface="Arial"/>
              </a:rPr>
              <a:t>––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48120" y="2514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31240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12.5%= 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  <a:ea typeface="Arial"/>
              </a:rPr>
              <a:t>–––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29718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12.5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3124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  <a:ea typeface="Arial"/>
              </a:rPr>
              <a:t>––––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3429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2895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125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31240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  <a:ea typeface="Arial"/>
              </a:rPr>
              <a:t>—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95680" y="342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95680" y="29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45720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百分数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952880"/>
            <a:ext cx="5486400" cy="0"/>
          </a:xfrm>
          <a:prstGeom prst="line">
            <a:avLst/>
          </a:prstGeom>
          <a:ln cap="sq"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3800" y="4572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分数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4419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化成分母是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的分数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能约分的要约分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cap="sq"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391520" y="3048120"/>
            <a:ext cx="1143000" cy="685800"/>
          </a:xfrm>
          <a:prstGeom prst="rect">
            <a:avLst/>
          </a:prstGeom>
          <a:solidFill>
            <a:srgbClr val="3bcb3b"/>
          </a:solidFill>
          <a:ln cap="sq"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3124080"/>
            <a:ext cx="1066680" cy="609840"/>
          </a:xfrm>
          <a:prstGeom prst="rect">
            <a:avLst/>
          </a:prstGeom>
          <a:solidFill>
            <a:srgbClr val="3bcb3b"/>
          </a:solidFill>
          <a:ln cap="sq"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38880" y="1143000"/>
            <a:ext cx="1295640" cy="533520"/>
          </a:xfrm>
          <a:prstGeom prst="rect">
            <a:avLst/>
          </a:prstGeom>
          <a:solidFill>
            <a:srgbClr val="3bcb3b"/>
          </a:solidFill>
          <a:ln cap="sq"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8800" y="1143000"/>
            <a:ext cx="1066680" cy="609480"/>
          </a:xfrm>
          <a:prstGeom prst="rect">
            <a:avLst/>
          </a:prstGeom>
          <a:solidFill>
            <a:srgbClr val="3bcb3b"/>
          </a:solidFill>
          <a:ln cap="sq"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小数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95480" y="1371600"/>
            <a:ext cx="4343400" cy="0"/>
          </a:xfrm>
          <a:prstGeom prst="line">
            <a:avLst/>
          </a:prstGeom>
          <a:ln cap="sq"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38880" y="11430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百分数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00400" y="914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小数点向右移动两位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添上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895480" y="1523880"/>
            <a:ext cx="4267440" cy="0"/>
          </a:xfrm>
          <a:prstGeom prst="line">
            <a:avLst/>
          </a:prstGeom>
          <a:ln cap="sq"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1523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去掉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%,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小数点向左移动两位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52480" y="3200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分数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19520" y="3352680"/>
            <a:ext cx="4647960" cy="0"/>
          </a:xfrm>
          <a:prstGeom prst="line">
            <a:avLst/>
          </a:prstGeom>
          <a:ln cap="sq"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2895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通常先化成小数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再化成百分数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915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百分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743200" y="3581280"/>
            <a:ext cx="4648320" cy="0"/>
          </a:xfrm>
          <a:prstGeom prst="line">
            <a:avLst/>
          </a:prstGeom>
          <a:ln cap="sq"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71800" y="3581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改写成分母是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的分数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能约分的要约分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e3e65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06:10:09Z</dcterms:created>
  <dc:creator>a</dc:creator>
  <dc:description/>
  <dc:language>en-US</dc:language>
  <cp:lastModifiedBy>a</cp:lastModifiedBy>
  <dcterms:modified xsi:type="dcterms:W3CDTF">2004-12-10T06:37:38Z</dcterms:modified>
  <cp:revision>11</cp:revision>
  <dc:subject/>
  <dc:title>PowerPoint 演示文稿</dc:title>
</cp:coreProperties>
</file>