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76A1-C3B5-42D0-8706-F5872251F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FD81-4ED3-480C-B33A-DC1262536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D2DA-7255-44AE-B111-2AA23298F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3B91-03A0-44C9-AF58-AD565A6EC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E297C-468D-41DE-AB80-869AC43CD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FB83F-17E0-40F8-A4DF-5B443C072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4779E-9989-431F-B4AC-76635C083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AB6C3-72CE-4782-824B-78488BD2E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55C51-A88A-4AEA-B095-26F8D2476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47C0E-6AB0-462E-8C96-2E4CA52A0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76114-BAEC-42A2-8D10-E6A93588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ABEF-6D45-4F1A-A5AF-60E9F8D8F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D820C-ED1A-4A8A-BD5C-F0428603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B5082-2F3C-4C90-B852-A842CF04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9E76A-3508-4A7F-AA0A-0254DA88A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D2EA8-5094-4164-908E-C2386071B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C6B33-4364-4B0E-A7E3-3C0FA34A6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C949-D1B8-4DF8-9BF1-4A35F9474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377D-FEE9-47E0-87EA-B80D49586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4FD3-8D24-4B4A-BE3A-A4DC31453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C6B2-1749-4784-AAEA-50DCC9641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DF0C-8D36-415E-B171-B5259BD9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403C-6154-4AE4-926E-79810093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E419-55C5-4032-AE6B-0F26BB25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4A1DE-A1C3-4892-958C-AB92EFC42BD0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9D73-EC6C-406C-BC2F-930C2129C113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80880" y="2057400"/>
            <a:ext cx="89917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●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这一单元的主要内容有：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_________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●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我学会了：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_____________________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●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我最感兴趣的是：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_______________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●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我想提醒大家的是：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_____________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82" name="u=522093584,1447867814&amp;gp=3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1554120" cy="16002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676520" y="228600"/>
            <a:ext cx="3504960" cy="1219320"/>
          </a:xfrm>
          <a:prstGeom prst="cloudCallout">
            <a:avLst>
              <a:gd name="adj1" fmla="val -46601"/>
              <a:gd name="adj2" fmla="val 25000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隶书"/>
              </a:rPr>
              <a:t>理一理</a:t>
            </a:r>
            <a:endParaRPr b="0" lang="en-US" sz="5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200400" y="121932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黑兔的只数比白兔多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7086600" y="1066680"/>
                <a:ext cx="33984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1066680" y="121932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_________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23623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______________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？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90720" y="11430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白兔有２０只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236232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列式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:___________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200400" y="121932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黑兔的只数比白兔多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7086600" y="1066680"/>
                <a:ext cx="33984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1066680" y="121932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_________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23623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______________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？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11430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黑兔有２０只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19720" y="236232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列式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:___________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33520" y="1066680"/>
            <a:ext cx="86104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一堆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吨的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一次运   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二次运走    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 ……?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1)4.2×      +                      (2)4.2×(1-      )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________________          __________________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÷4.2                          (4)4.2-4.2×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－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_________________         __________________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5105520" y="914400"/>
                <a:ext cx="6490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7696080" y="990720"/>
                <a:ext cx="5907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905120" y="1905120"/>
                <a:ext cx="4460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2895480" y="1981080"/>
                <a:ext cx="64944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6705720" y="1905120"/>
                <a:ext cx="6490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066680" y="3809880"/>
                <a:ext cx="7653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6934320" y="3886200"/>
                <a:ext cx="5950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7696080" y="3886200"/>
                <a:ext cx="6480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1066680"/>
            <a:ext cx="86104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一堆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吨的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一次运   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二次运走    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 ……?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1)4.2×      +                      (2)4.2×(1-      )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________________          __________________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÷4.2                          (4)4.2-4.2×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－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_________________         __________________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5105520" y="914400"/>
                <a:ext cx="6490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7696080" y="990720"/>
                <a:ext cx="5907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905120" y="1905120"/>
                <a:ext cx="4460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895480" y="1981080"/>
                <a:ext cx="64944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705720" y="1905120"/>
                <a:ext cx="6490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066680" y="3809880"/>
                <a:ext cx="7653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6934320" y="3886200"/>
                <a:ext cx="5950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7696080" y="3886200"/>
                <a:ext cx="6480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6T01:57:45Z</dcterms:created>
  <dc:creator>zzz</dc:creator>
  <dc:description/>
  <dc:language>en-US</dc:language>
  <cp:lastModifiedBy>mx</cp:lastModifiedBy>
  <dcterms:modified xsi:type="dcterms:W3CDTF">2005-12-19T01:29:59Z</dcterms:modified>
  <cp:revision>0</cp:revision>
  <dc:subject/>
  <dc:title>PowerPoint 演示文稿</dc:title>
</cp:coreProperties>
</file>