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gif" ContentType="image/gif"/>
  <Override PartName="/ppt/media/push.wav" ContentType="audio/x-wav"/>
  <Override PartName="/ppt/media/type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-1476360" y="-316080"/>
            <a:ext cx="11449080" cy="734544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-1620720" y="-531720"/>
            <a:ext cx="12096720" cy="777708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116000" y="1125360"/>
            <a:ext cx="864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百分数应用题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828720" y="-316080"/>
            <a:ext cx="1051416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5120" y="625320"/>
            <a:ext cx="29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-27000"/>
            <a:ext cx="52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Arial"/>
              </a:rPr>
              <a:t>试一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05264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Arial"/>
              </a:rPr>
              <a:t>一个乡去年原计划造林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</a:rPr>
              <a:t>12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</a:rPr>
              <a:t>公顷，实际造林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</a:rPr>
              <a:t>14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</a:rPr>
              <a:t>公顷。实际造林是原计划的百分之几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3645000"/>
            <a:ext cx="671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Arial"/>
              </a:rPr>
              <a:t>14</a:t>
            </a:r>
            <a:r>
              <a:rPr b="0" lang="en-US" sz="4800" spc="-1" strike="noStrike">
                <a:solidFill>
                  <a:srgbClr val="339933"/>
                </a:solidFill>
                <a:latin typeface="宋体"/>
              </a:rPr>
              <a:t>÷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844200">
            <a:off x="5363640" y="4076280"/>
            <a:ext cx="3384720" cy="25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10009440" cy="8686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38720" y="488880"/>
            <a:ext cx="330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乡去年原计划造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公顷，实际造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公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际造林比原计划多百分之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57200"/>
            <a:ext cx="9144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0840" y="185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79720" y="1828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计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060280"/>
            <a:ext cx="3962160" cy="76320"/>
            <a:chOff x="2209680" y="2060280"/>
            <a:chExt cx="3962160" cy="76320"/>
          </a:xfrm>
        </p:grpSpPr>
        <p:sp>
          <p:nvSpPr>
            <p:cNvPr id="53" name=""/>
            <p:cNvSpPr/>
            <p:nvPr/>
          </p:nvSpPr>
          <p:spPr>
            <a:xfrm>
              <a:off x="2209680" y="213660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20968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53980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87028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20004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53052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86064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19076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2124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85136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18148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51160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84208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171840" y="2060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16200000">
            <a:off x="4114800" y="383760"/>
            <a:ext cx="152280" cy="3962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7"/>
                </a:lnTo>
                <a:cubicBezTo>
                  <a:pt x="10800" y="9977"/>
                  <a:pt x="5400" y="10877"/>
                  <a:pt x="0" y="10877"/>
                </a:cubicBezTo>
                <a:cubicBezTo>
                  <a:pt x="5400" y="10877"/>
                  <a:pt x="10800" y="11777"/>
                  <a:pt x="10800" y="126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44080" y="23796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50840" y="276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3400" y="2743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际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32800" y="3284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419360" y="993240"/>
            <a:ext cx="152280" cy="45720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7"/>
                </a:lnTo>
                <a:cubicBezTo>
                  <a:pt x="10800" y="9977"/>
                  <a:pt x="5400" y="10877"/>
                  <a:pt x="0" y="10877"/>
                </a:cubicBezTo>
                <a:cubicBezTo>
                  <a:pt x="5400" y="10877"/>
                  <a:pt x="10800" y="11777"/>
                  <a:pt x="10800" y="126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09680" y="2974680"/>
            <a:ext cx="4572000" cy="76320"/>
            <a:chOff x="2209680" y="2974680"/>
            <a:chExt cx="4572000" cy="76320"/>
          </a:xfrm>
        </p:grpSpPr>
        <p:sp>
          <p:nvSpPr>
            <p:cNvPr id="74" name=""/>
            <p:cNvSpPr/>
            <p:nvPr/>
          </p:nvSpPr>
          <p:spPr>
            <a:xfrm>
              <a:off x="2209680" y="30510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20968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54016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87028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0040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53052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86064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19112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52124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5136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18148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51196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4208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17220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47712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781680" y="2974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172200" y="2136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6400080" y="25938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72040" y="2486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实际比原计划多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371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想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2927160" y="38336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求实际造林比原计划多百分之几，就是求实际造林比原计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多的公顷数占原计划的百分之几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51520" y="4398840"/>
            <a:ext cx="21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09680" y="49737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83360" y="49737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÷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18320" y="53895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30800" y="53895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4760" y="5791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30440" y="57704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7240" y="6291360"/>
            <a:ext cx="26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：实际造林比原计划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0009080" cy="8686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38720" y="488880"/>
            <a:ext cx="330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乡去年原计划造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公顷，实际造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公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计划比实际造林少百分之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0840" y="185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31760" y="2637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计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09680" y="2811240"/>
            <a:ext cx="3962160" cy="76320"/>
            <a:chOff x="2209680" y="2811240"/>
            <a:chExt cx="3962160" cy="76320"/>
          </a:xfrm>
        </p:grpSpPr>
        <p:sp>
          <p:nvSpPr>
            <p:cNvPr id="108" name=""/>
            <p:cNvSpPr/>
            <p:nvPr/>
          </p:nvSpPr>
          <p:spPr>
            <a:xfrm>
              <a:off x="2209680" y="288756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20968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53980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87028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20004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3052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6064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19076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52124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85136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8148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51160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84208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171840" y="28112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16200000">
            <a:off x="4114800" y="1134720"/>
            <a:ext cx="152280" cy="3962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7"/>
                </a:lnTo>
                <a:cubicBezTo>
                  <a:pt x="10800" y="9977"/>
                  <a:pt x="5400" y="10877"/>
                  <a:pt x="0" y="10877"/>
                </a:cubicBezTo>
                <a:cubicBezTo>
                  <a:pt x="5400" y="10877"/>
                  <a:pt x="10800" y="11777"/>
                  <a:pt x="10800" y="126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44080" y="313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50840" y="276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97000" y="1844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际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2800" y="23414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419360" y="50760"/>
            <a:ext cx="152640" cy="45720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7"/>
                </a:lnTo>
                <a:cubicBezTo>
                  <a:pt x="10800" y="9977"/>
                  <a:pt x="5400" y="10877"/>
                  <a:pt x="0" y="10877"/>
                </a:cubicBezTo>
                <a:cubicBezTo>
                  <a:pt x="5400" y="10877"/>
                  <a:pt x="10800" y="11777"/>
                  <a:pt x="10800" y="126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09680" y="2031480"/>
            <a:ext cx="4572000" cy="76320"/>
            <a:chOff x="2209680" y="2031480"/>
            <a:chExt cx="4572000" cy="76320"/>
          </a:xfrm>
        </p:grpSpPr>
        <p:sp>
          <p:nvSpPr>
            <p:cNvPr id="129" name=""/>
            <p:cNvSpPr/>
            <p:nvPr/>
          </p:nvSpPr>
          <p:spPr>
            <a:xfrm>
              <a:off x="2209680" y="2107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20968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54016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87028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0040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53052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86064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9112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52124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85136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18148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51196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84208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17220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47712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781680" y="2031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172200" y="2136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6456240" y="240804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89360" y="2276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原计划比实际少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14800" y="3573360"/>
            <a:ext cx="21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2852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422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 ÷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5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14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59772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23040" y="522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原计划比实际造林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3" name="type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10009440" cy="7029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31280" y="127476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工厂九月份用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吨，十月份用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吨。十月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比九月份节约用水百分之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533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219320" y="5335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25640" y="2722680"/>
            <a:ext cx="26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7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 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2600" y="352584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÷ 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93880" y="4191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4200" y="4170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93880" y="4800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93840" y="47800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21680" y="5715000"/>
            <a:ext cx="29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答：十月份比九月份节约用水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2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93880" y="3505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396720" y="-458640"/>
            <a:ext cx="10009080" cy="7029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4360" y="0"/>
            <a:ext cx="8785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填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1) 2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)%, 2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    )%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少（    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多（    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如果甲数比乙数少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0%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则乙数比甲多（    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王师傅完成了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零件，全部合格，产品的合格率是（     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艺黑繁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62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26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602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62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6572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84720" y="981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1268280"/>
            <a:ext cx="8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177336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跟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08:20:52Z</dcterms:created>
  <dc:creator>zzz</dc:creator>
  <dc:description/>
  <dc:language>en-US</dc:language>
  <cp:lastModifiedBy>user</cp:lastModifiedBy>
  <dcterms:modified xsi:type="dcterms:W3CDTF">2006-12-08T02:47:38Z</dcterms:modified>
  <cp:revision>0</cp:revision>
  <dc:subject/>
  <dc:title>PowerPoint 演示文稿</dc:title>
</cp:coreProperties>
</file>