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CD2-4002-480C-99C3-148B00D8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A0B-6225-410F-934F-0C092EF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E8D-3BC8-4DA6-8E22-7945081C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BE0-8090-4E75-BEFF-8ECA6F21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DE43-ADBC-4369-B284-B1E9C052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DBE-D9C9-4614-89A6-1896F07C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62DE-A893-4E37-BCBE-AF60308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A061-3A0E-45FF-806B-112BA811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F3D-46AF-4DF5-B221-C591511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156-4FB3-4A31-B53C-A51B5F9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883E-911D-43BD-9B3D-5CFCEE84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357-DF7B-4869-A637-6846388F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1649-CAC5-46AA-9E67-A4B30D0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2D0-DA53-49AF-ADA0-4068179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122-75CA-40BF-9AA4-57AB8B6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BE0A-52B0-4239-9113-96040B39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B4E8-97DB-4EC5-8954-AA827496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C6D-DD2A-4A4E-AEC7-EA084632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2F2-DBE8-431D-B671-67B191C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F8A-CA98-4FC3-BB01-D15A4C7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FD8-6E21-45B0-8D11-550BEC7E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4CD-17E2-47D4-957C-D223A70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480-C4F6-4D7C-AC30-C463549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D6E-8F8F-44FA-852E-6367F9A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8C1-8FB3-423E-8E82-E33C1F01CD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2FA-7354-4A12-8C7A-74F68936B60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把下面百分数化成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48428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5%    30%     45%     80%     1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637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把下面百分数化成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57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%     25.5%     80%     98%    0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0000" y="4762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1197000"/>
            <a:ext cx="4176720" cy="936720"/>
            <a:chOff x="1116000" y="1197000"/>
            <a:chExt cx="4176720" cy="936720"/>
          </a:xfrm>
        </p:grpSpPr>
        <p:sp>
          <p:nvSpPr>
            <p:cNvPr id="157" name=""/>
            <p:cNvSpPr/>
            <p:nvPr/>
          </p:nvSpPr>
          <p:spPr>
            <a:xfrm>
              <a:off x="1116000" y="14842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的   是多少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2124000" y="1197000"/>
                  <a:ext cx="46656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42920" y="2276640"/>
            <a:ext cx="3673440" cy="936360"/>
            <a:chOff x="1042920" y="2276640"/>
            <a:chExt cx="3673440" cy="936360"/>
          </a:xfrm>
        </p:grpSpPr>
        <p:sp>
          <p:nvSpPr>
            <p:cNvPr id="161" name=""/>
            <p:cNvSpPr/>
            <p:nvPr/>
          </p:nvSpPr>
          <p:spPr>
            <a:xfrm>
              <a:off x="1042920" y="2492280"/>
              <a:ext cx="36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吨的  是多少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484360" y="2276640"/>
                  <a:ext cx="34308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42920" y="3357720"/>
            <a:ext cx="3887640" cy="865080"/>
            <a:chOff x="1042920" y="3357720"/>
            <a:chExt cx="3887640" cy="865080"/>
          </a:xfrm>
        </p:grpSpPr>
        <p:sp>
          <p:nvSpPr>
            <p:cNvPr id="165" name=""/>
            <p:cNvSpPr/>
            <p:nvPr/>
          </p:nvSpPr>
          <p:spPr>
            <a:xfrm>
              <a:off x="1042920" y="3573360"/>
              <a:ext cx="38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的  是多少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050920" y="3357720"/>
                  <a:ext cx="3380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42920" y="4292640"/>
            <a:ext cx="4032360" cy="936720"/>
            <a:chOff x="1042920" y="4292640"/>
            <a:chExt cx="4032360" cy="936720"/>
          </a:xfrm>
        </p:grpSpPr>
        <p:sp>
          <p:nvSpPr>
            <p:cNvPr id="169" name=""/>
            <p:cNvSpPr/>
            <p:nvPr/>
          </p:nvSpPr>
          <p:spPr>
            <a:xfrm>
              <a:off x="1042920" y="4508640"/>
              <a:ext cx="40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300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的    是多少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266920" y="4292640"/>
                  <a:ext cx="66204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611280" y="907920"/>
            <a:ext cx="6912000" cy="2064600"/>
            <a:chOff x="611280" y="907920"/>
            <a:chExt cx="6912000" cy="2064600"/>
          </a:xfrm>
        </p:grpSpPr>
        <p:sp>
          <p:nvSpPr>
            <p:cNvPr id="172" name=""/>
            <p:cNvSpPr/>
            <p:nvPr/>
          </p:nvSpPr>
          <p:spPr>
            <a:xfrm>
              <a:off x="611280" y="907920"/>
              <a:ext cx="69120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六年级一班有学生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人，上学期期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跳远测验有    的同学成绩及格，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格的同学有多少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14920" y="1484280"/>
                  <a:ext cx="4330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90792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六年级一班有学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，上学期期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跳远测验有</a:t>
            </a:r>
            <a:r>
              <a:rPr b="1" lang="zh-CN" sz="3200" spc="-1" strike="noStrike">
                <a:solidFill>
                  <a:srgbClr val="3e0df3"/>
                </a:solidFill>
                <a:latin typeface="Comic Sans MS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同学成绩及格，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格的同学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628640"/>
            <a:ext cx="7489800" cy="132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跳远测验有</a:t>
            </a:r>
            <a:r>
              <a:rPr b="1" lang="zh-CN" sz="3200" spc="-1" strike="noStrike">
                <a:solidFill>
                  <a:srgbClr val="3e0df3"/>
                </a:solidFill>
                <a:latin typeface="Comic Sans MS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同学成绩及格，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算不及格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1052640"/>
            <a:ext cx="748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个工厂由于采用了新工艺，现在每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产品的成本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7.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元，比原来降低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5%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原来每件产品的成本是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根据线段图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5280" y="1268280"/>
            <a:ext cx="2881440" cy="2681280"/>
            <a:chOff x="395280" y="1268280"/>
            <a:chExt cx="2881440" cy="2681280"/>
          </a:xfrm>
        </p:grpSpPr>
        <p:grpSp>
          <p:nvGrpSpPr>
            <p:cNvPr id="179" name=""/>
            <p:cNvGrpSpPr/>
            <p:nvPr/>
          </p:nvGrpSpPr>
          <p:grpSpPr>
            <a:xfrm>
              <a:off x="395280" y="2492280"/>
              <a:ext cx="2881440" cy="71640"/>
              <a:chOff x="395280" y="2492280"/>
              <a:chExt cx="2881440" cy="716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5280" y="2563920"/>
                <a:ext cx="2881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5280" y="2492280"/>
                <a:ext cx="0" cy="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8720" y="2492280"/>
                <a:ext cx="0" cy="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76720" y="2492280"/>
                <a:ext cx="0" cy="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rot="5400000">
              <a:off x="1712160" y="456120"/>
              <a:ext cx="217440" cy="27050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127080 h 2705040"/>
                <a:gd name="textAreaBottom" fmla="*/ 257796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3"/>
                    <a:pt x="10800" y="3246"/>
                  </a:cubicBezTo>
                  <a:lnTo>
                    <a:pt x="10800" y="7562"/>
                  </a:lnTo>
                  <a:cubicBezTo>
                    <a:pt x="10800" y="9185"/>
                    <a:pt x="5400" y="10808"/>
                    <a:pt x="0" y="10808"/>
                  </a:cubicBezTo>
                  <a:cubicBezTo>
                    <a:pt x="5400" y="10808"/>
                    <a:pt x="10800" y="12431"/>
                    <a:pt x="10800" y="14054"/>
                  </a:cubicBezTo>
                  <a:lnTo>
                    <a:pt x="10800" y="18354"/>
                  </a:lnTo>
                  <a:cubicBezTo>
                    <a:pt x="10800" y="1997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1764360" y="1843560"/>
              <a:ext cx="216000" cy="2808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8520 h 2808360"/>
                <a:gd name="textAreaBottom" fmla="*/ 267984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81"/>
                    <a:pt x="10800" y="3162"/>
                  </a:cubicBezTo>
                  <a:lnTo>
                    <a:pt x="10800" y="7646"/>
                  </a:lnTo>
                  <a:cubicBezTo>
                    <a:pt x="10800" y="9227"/>
                    <a:pt x="5400" y="10808"/>
                    <a:pt x="0" y="10808"/>
                  </a:cubicBezTo>
                  <a:cubicBezTo>
                    <a:pt x="5400" y="10808"/>
                    <a:pt x="10800" y="12389"/>
                    <a:pt x="10800" y="13970"/>
                  </a:cubicBezTo>
                  <a:lnTo>
                    <a:pt x="10800" y="18438"/>
                  </a:lnTo>
                  <a:cubicBezTo>
                    <a:pt x="10800" y="2001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1260360" y="1770840"/>
              <a:ext cx="142920" cy="187344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85680 h 1873440"/>
                <a:gd name="textAreaBottom" fmla="*/ 178776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81"/>
                    <a:pt x="10800" y="3162"/>
                  </a:cubicBezTo>
                  <a:lnTo>
                    <a:pt x="10800" y="7638"/>
                  </a:lnTo>
                  <a:cubicBezTo>
                    <a:pt x="10800" y="9219"/>
                    <a:pt x="5400" y="10800"/>
                    <a:pt x="0" y="10800"/>
                  </a:cubicBezTo>
                  <a:cubicBezTo>
                    <a:pt x="5400" y="10800"/>
                    <a:pt x="10800" y="12381"/>
                    <a:pt x="10800" y="13962"/>
                  </a:cubicBezTo>
                  <a:lnTo>
                    <a:pt x="10800" y="18438"/>
                  </a:lnTo>
                  <a:cubicBezTo>
                    <a:pt x="10800" y="2001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1223280" y="1375200"/>
              <a:ext cx="217440" cy="1873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87840 h 1873440"/>
                <a:gd name="textAreaBottom" fmla="*/ 178560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3"/>
                    <a:pt x="10800" y="3246"/>
                  </a:cubicBezTo>
                  <a:lnTo>
                    <a:pt x="10800" y="7562"/>
                  </a:lnTo>
                  <a:cubicBezTo>
                    <a:pt x="10800" y="9185"/>
                    <a:pt x="5400" y="10808"/>
                    <a:pt x="0" y="10808"/>
                  </a:cubicBezTo>
                  <a:cubicBezTo>
                    <a:pt x="5400" y="10808"/>
                    <a:pt x="10800" y="12431"/>
                    <a:pt x="10800" y="14054"/>
                  </a:cubicBezTo>
                  <a:lnTo>
                    <a:pt x="10800" y="18354"/>
                  </a:lnTo>
                  <a:cubicBezTo>
                    <a:pt x="10800" y="1997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6360" y="1268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71640" y="177156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8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1640" y="270828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60360" y="342900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300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08720" y="24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6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708360" y="1197000"/>
            <a:ext cx="4464000" cy="2907720"/>
            <a:chOff x="3708360" y="1197000"/>
            <a:chExt cx="4464000" cy="2907720"/>
          </a:xfrm>
        </p:grpSpPr>
        <p:sp>
          <p:nvSpPr>
            <p:cNvPr id="194" name=""/>
            <p:cNvSpPr/>
            <p:nvPr/>
          </p:nvSpPr>
          <p:spPr>
            <a:xfrm rot="5400000">
              <a:off x="7092720" y="2707920"/>
              <a:ext cx="142920" cy="432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20160 h 432000"/>
                <a:gd name="textAreaBottom" fmla="*/ 411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3"/>
                    <a:pt x="10800" y="3246"/>
                  </a:cubicBezTo>
                  <a:lnTo>
                    <a:pt x="10800" y="7562"/>
                  </a:lnTo>
                  <a:cubicBezTo>
                    <a:pt x="10800" y="9185"/>
                    <a:pt x="5400" y="10808"/>
                    <a:pt x="0" y="10808"/>
                  </a:cubicBezTo>
                  <a:cubicBezTo>
                    <a:pt x="5400" y="10808"/>
                    <a:pt x="10800" y="12431"/>
                    <a:pt x="10800" y="14054"/>
                  </a:cubicBezTo>
                  <a:lnTo>
                    <a:pt x="10800" y="18354"/>
                  </a:lnTo>
                  <a:cubicBezTo>
                    <a:pt x="10800" y="1997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08360" y="1413000"/>
              <a:ext cx="1368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八月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用电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81360"/>
              <a:ext cx="1368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九月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用电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076720" y="1989000"/>
              <a:ext cx="1871640" cy="71640"/>
              <a:chOff x="5076720" y="1989000"/>
              <a:chExt cx="1871640" cy="71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076720" y="2060640"/>
                <a:ext cx="1871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76720" y="1989000"/>
                <a:ext cx="0" cy="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48360" y="1989000"/>
                <a:ext cx="0" cy="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076720" y="3068640"/>
              <a:ext cx="2303640" cy="73080"/>
              <a:chOff x="5076720" y="3068640"/>
              <a:chExt cx="2303640" cy="730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5076720" y="3068640"/>
                <a:ext cx="1871640" cy="71280"/>
                <a:chOff x="5076720" y="3068640"/>
                <a:chExt cx="1871640" cy="71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76720" y="3139920"/>
                  <a:ext cx="18716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76720" y="3068640"/>
                  <a:ext cx="0" cy="71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48360" y="3068640"/>
                  <a:ext cx="0" cy="71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948360" y="3141720"/>
                <a:ext cx="432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380360" y="3068640"/>
                <a:ext cx="0" cy="73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rot="16200000">
              <a:off x="5904360" y="1377000"/>
              <a:ext cx="216000" cy="1871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85680 h 1871640"/>
                <a:gd name="textAreaBottom" fmla="*/ 178596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81"/>
                    <a:pt x="10800" y="3162"/>
                  </a:cubicBezTo>
                  <a:lnTo>
                    <a:pt x="10800" y="7646"/>
                  </a:lnTo>
                  <a:cubicBezTo>
                    <a:pt x="10800" y="9227"/>
                    <a:pt x="5400" y="10808"/>
                    <a:pt x="0" y="10808"/>
                  </a:cubicBezTo>
                  <a:cubicBezTo>
                    <a:pt x="5400" y="10808"/>
                    <a:pt x="10800" y="12389"/>
                    <a:pt x="10800" y="13970"/>
                  </a:cubicBezTo>
                  <a:lnTo>
                    <a:pt x="10800" y="18438"/>
                  </a:lnTo>
                  <a:cubicBezTo>
                    <a:pt x="10800" y="2001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5904000" y="800640"/>
              <a:ext cx="216000" cy="1871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87840 h 1871640"/>
                <a:gd name="textAreaBottom" fmla="*/ 17838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3"/>
                    <a:pt x="10800" y="3246"/>
                  </a:cubicBezTo>
                  <a:lnTo>
                    <a:pt x="10800" y="7562"/>
                  </a:lnTo>
                  <a:cubicBezTo>
                    <a:pt x="10800" y="9185"/>
                    <a:pt x="5400" y="10808"/>
                    <a:pt x="0" y="10808"/>
                  </a:cubicBezTo>
                  <a:cubicBezTo>
                    <a:pt x="5400" y="10808"/>
                    <a:pt x="10800" y="12431"/>
                    <a:pt x="10800" y="14054"/>
                  </a:cubicBezTo>
                  <a:lnTo>
                    <a:pt x="10800" y="18354"/>
                  </a:lnTo>
                  <a:cubicBezTo>
                    <a:pt x="10800" y="1997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6120720" y="2240280"/>
              <a:ext cx="215640" cy="2303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05480 h 2303640"/>
                <a:gd name="textAreaBottom" fmla="*/ 2198160 h 23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81"/>
                    <a:pt x="10800" y="3162"/>
                  </a:cubicBezTo>
                  <a:lnTo>
                    <a:pt x="10800" y="7646"/>
                  </a:lnTo>
                  <a:cubicBezTo>
                    <a:pt x="10800" y="9227"/>
                    <a:pt x="5400" y="10808"/>
                    <a:pt x="0" y="10808"/>
                  </a:cubicBezTo>
                  <a:cubicBezTo>
                    <a:pt x="5400" y="10808"/>
                    <a:pt x="10800" y="12389"/>
                    <a:pt x="10800" y="13970"/>
                  </a:cubicBezTo>
                  <a:lnTo>
                    <a:pt x="10800" y="18438"/>
                  </a:lnTo>
                  <a:cubicBezTo>
                    <a:pt x="10800" y="2001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51640" y="119700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8360" y="2060640"/>
              <a:ext cx="0" cy="10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0000" y="364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7080" y="23493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多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33:52Z</dcterms:created>
  <dc:creator>zzz</dc:creator>
  <dc:description/>
  <dc:language>en-US</dc:language>
  <cp:lastModifiedBy>微软用户</cp:lastModifiedBy>
  <dcterms:modified xsi:type="dcterms:W3CDTF">2006-12-15T01:59:48Z</dcterms:modified>
  <cp:revision>0</cp:revision>
  <dc:subject/>
  <dc:title>幻灯片 1</dc:title>
</cp:coreProperties>
</file>