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2.wmf" ContentType="image/x-wmf"/>
  <Override PartName="/ppt/media/image3.jpeg" ContentType="image/jpeg"/>
  <Override PartName="/ppt/media/image1.gif" ContentType="image/gif"/>
  <Override PartName="/ppt/media/image4.png" ContentType="image/png"/>
  <Override PartName="/ppt/media/image6.jpeg" ContentType="image/jpeg"/>
  <Override PartName="/ppt/media/image8.png" ContentType="image/png"/>
  <Override PartName="/ppt/media/image5.gif" ContentType="image/gif"/>
  <Override PartName="/ppt/media/image15.wmf" ContentType="image/x-wmf"/>
  <Override PartName="/ppt/media/image7.png" ContentType="image/png"/>
  <Override PartName="/ppt/media/image9.jpeg" ContentType="image/jpeg"/>
  <Override PartName="/ppt/media/image10.wmf" ContentType="image/x-wmf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9F2-C2A9-47D0-992E-91E9121E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3B0-E9CC-4E5D-9E50-6D923E3B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9A4-18F7-4ACE-A411-98733C51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A68-83E8-4593-9A97-EAEE4236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14F-4432-492D-A0BC-26F7A53F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9EC7-B571-41CB-9301-99448568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C04-D9E8-4294-B35A-14855FC5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6CD-9C4C-4987-9303-84A5A6D4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2E26-5D7D-4810-82A1-356051DF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7F66-E783-472E-B65B-3BBC316F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EE74-B4BF-4A77-915B-B637035C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332-BC7E-412F-8331-B7C106A6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72D3-FCC4-40CB-9CEE-F6A52084AD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162920" y="914400"/>
            <a:ext cx="2286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3333cc"/>
                </a:solidFill>
                <a:latin typeface="Times New Roman"/>
              </a:rPr>
              <a:t>%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715000" y="380880"/>
            <a:ext cx="2193840" cy="2194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403280" y="1989000"/>
            <a:ext cx="52261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隶书"/>
              </a:rPr>
              <a:t>百分数的一般应用题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千克花生仁榨出花生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6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千克，写出求花生仁出油率的公式，并计算出花生仁的出油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2120" y="533520"/>
            <a:ext cx="2361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做一做：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624600" y="46530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花生仁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出油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97440" y="491652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450864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花生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重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5300640"/>
            <a:ext cx="2895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52960" y="53737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花生仁的重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46760" y="4844880"/>
            <a:ext cx="189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×100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科技小组进行种子发芽试验，每次试验的结果如下表。算出发芽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268280"/>
          <a:ext cx="8893080" cy="4604040"/>
        </p:xfrm>
        <a:graphic>
          <a:graphicData uri="http://schemas.openxmlformats.org/drawingml/2006/table">
            <a:tbl>
              <a:tblPr/>
              <a:tblGrid>
                <a:gridCol w="2224080"/>
                <a:gridCol w="2222280"/>
                <a:gridCol w="2224080"/>
                <a:gridCol w="22226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试验次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试验种子数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粒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发芽种子数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粒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发芽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三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7315560" y="247176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17000" y="326376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4%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1800" y="419112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8%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01336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97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华文彩云"/>
              </a:rPr>
              <a:t>实践活动</a:t>
            </a:r>
            <a:r>
              <a:rPr b="1" i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统计自己家中一周的开支情况，算一算各项开支各占总支出的百分之几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410080" y="3733920"/>
            <a:ext cx="31035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773360"/>
            <a:ext cx="9685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几分之几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千克相当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48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千克的几分之几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3284640"/>
            <a:ext cx="9144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把下列各数化成百分数．（保留一位小数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0.7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 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2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0.43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     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0.8895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.0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＝ 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5÷8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＝ 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8÷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＝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04640"/>
            <a:ext cx="33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复习准备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6477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五年级有学生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60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人，已达到《国家体育锻炼标准》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儿童组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的有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人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5640" y="3200400"/>
            <a:ext cx="5715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Times New Roman"/>
              </a:rPr>
              <a:t>占五年级学生人数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6560" y="4114800"/>
            <a:ext cx="200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Times New Roman"/>
              </a:rPr>
              <a:t>几分之几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五年级有学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人，已达到《国家体育锻炼标准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儿童组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人，占五年级学生人数的几分之几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42920" y="242100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0÷1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6920" y="331956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7440" y="3090960"/>
            <a:ext cx="94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370044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385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06760" y="423396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491976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70400" y="5657760"/>
            <a:ext cx="139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答：占五年级人数的    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5040" y="530064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598644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ff6600"/>
                </a:solidFill>
                <a:uFillTx/>
                <a:latin typeface="Times New Roman"/>
              </a:rPr>
              <a:t>五年级体育达标统计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00200" y="1981080"/>
          <a:ext cx="6095880" cy="3429000"/>
        </p:xfrm>
        <a:graphic>
          <a:graphicData uri="http://schemas.openxmlformats.org/drawingml/2006/table">
            <a:tbl>
              <a:tblPr/>
              <a:tblGrid>
                <a:gridCol w="2031840"/>
                <a:gridCol w="2311560"/>
                <a:gridCol w="17524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总人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达标人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达标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95880" y="5199120"/>
            <a:ext cx="17528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五年级有学生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人，已达到《国家体育锻炼标准》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儿童组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有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人，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42840" y="1447560"/>
            <a:ext cx="7085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占五年级人数的百分之几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73120" y="2997360"/>
            <a:ext cx="53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20÷160=0.75=75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32240" y="5013360"/>
            <a:ext cx="586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答：占五年级的学生人数的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75%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4419720"/>
            <a:ext cx="1812960" cy="2152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429000" y="457200"/>
            <a:ext cx="5181480" cy="48578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14800" y="685440"/>
            <a:ext cx="3657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你知道吗？农村现在实行科学种田了</a:t>
            </a:r>
            <a:r>
              <a:rPr b="0" i="1" lang="zh-CN" sz="4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447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某县种子推广站，用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300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粒玉米种子作发芽试验，结果有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88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粒种子发芽。求发芽率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400800" y="4745160"/>
            <a:ext cx="2138400" cy="1419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334120" y="51055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238880" y="3048120"/>
            <a:ext cx="1295640" cy="971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477120" y="3657600"/>
            <a:ext cx="1676160" cy="1257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696080" y="236232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63640" y="3597120"/>
            <a:ext cx="150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发芽率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3284640"/>
            <a:ext cx="38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发芽种子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试验种子总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4005360"/>
            <a:ext cx="280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02400" y="3497400"/>
            <a:ext cx="189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0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37432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麦的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出粉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0160" y="230040"/>
            <a:ext cx="185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面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的重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麦的重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981000"/>
            <a:ext cx="287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5120" y="595440"/>
            <a:ext cx="189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×100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9920" y="2708280"/>
            <a:ext cx="264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产品的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合格率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36120" y="234936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合格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的产品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产品的总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24360" y="306864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15480" y="2611440"/>
            <a:ext cx="189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×100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458136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出勤率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75840" y="433404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实际出勤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人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应出勤人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5084640"/>
            <a:ext cx="324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2280" y="4653000"/>
            <a:ext cx="228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×100%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2:53:26Z</dcterms:created>
  <dc:creator>zzz</dc:creator>
  <dc:description/>
  <dc:language>en-US</dc:language>
  <cp:lastModifiedBy>njyzx</cp:lastModifiedBy>
  <dcterms:modified xsi:type="dcterms:W3CDTF">2006-11-22T14:13:24Z</dcterms:modified>
  <cp:revision>0</cp:revision>
  <dc:subject/>
  <dc:title>百分数的一般应用题</dc:title>
</cp:coreProperties>
</file>