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w3.wav" ContentType="audio/x-wav"/>
  <Override PartName="/ppt/media/image4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3.png" ContentType="image/png"/>
  <Override PartName="/ppt/media/w2.wav" ContentType="audio/x-wav"/>
  <Override PartName="/ppt/media/image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10.png" ContentType="image/png"/>
  <Override PartName="/ppt/media/w1.wav" ContentType="audio/x-wav"/>
  <Override PartName="/ppt/media/image2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" Target="slide3.xml"/><Relationship Id="rId4" Type="http://schemas.openxmlformats.org/officeDocument/2006/relationships/image" Target="../media/image2.gif"/><Relationship Id="rId5" Type="http://schemas.openxmlformats.org/officeDocument/2006/relationships/slide" Target="slide3.xml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xls.wav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gif"/><Relationship Id="rId6" Type="http://schemas.openxmlformats.org/officeDocument/2006/relationships/slide" Target="slide2.xml"/><Relationship Id="rId7" Type="http://schemas.openxmlformats.org/officeDocument/2006/relationships/audio" Target="../media/w1.wav"/><Relationship Id="rId8" Type="http://schemas.openxmlformats.org/officeDocument/2006/relationships/audio" Target="../media/w2.wav"/><Relationship Id="rId9" Type="http://schemas.openxmlformats.org/officeDocument/2006/relationships/audio" Target="../media/w3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1295280" y="251460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百 分 数 的 一般 应 用 题 </a:t>
            </a: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(</a:t>
            </a: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一</a:t>
            </a: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)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9" name=""/>
          <p:cNvSpPr/>
          <p:nvPr/>
        </p:nvSpPr>
        <p:spPr>
          <a:xfrm>
            <a:off x="7164360" y="449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85760" y="5181480"/>
            <a:ext cx="1219320" cy="666720"/>
            <a:chOff x="1085760" y="5181480"/>
            <a:chExt cx="1219320" cy="66672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085760" y="5181480"/>
              <a:ext cx="12193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1410120" y="53402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复习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162080" y="5257800"/>
            <a:ext cx="9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09680" y="5181480"/>
            <a:ext cx="1219320" cy="666720"/>
            <a:chOff x="2209680" y="5181480"/>
            <a:chExt cx="1219320" cy="666720"/>
          </a:xfrm>
        </p:grpSpPr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209680" y="5181480"/>
              <a:ext cx="12193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82480" y="5332320"/>
              <a:ext cx="71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例 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2286000" y="533412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324240" y="5181480"/>
            <a:ext cx="1247760" cy="666720"/>
            <a:chOff x="3324240" y="5181480"/>
            <a:chExt cx="1247760" cy="666720"/>
          </a:xfrm>
        </p:grpSpPr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3324240" y="5181480"/>
              <a:ext cx="12477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652200" y="53402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发芽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38680" y="5181480"/>
            <a:ext cx="1219320" cy="666720"/>
            <a:chOff x="5638680" y="5181480"/>
            <a:chExt cx="1219320" cy="666720"/>
          </a:xfrm>
        </p:grpSpPr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5638680" y="5181480"/>
              <a:ext cx="12193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856840" y="533232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练习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647520" y="533412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0" y="5181480"/>
            <a:ext cx="1219320" cy="666720"/>
            <a:chOff x="4572000" y="5181480"/>
            <a:chExt cx="1219320" cy="666720"/>
          </a:xfrm>
        </p:grpSpPr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4572000" y="5181480"/>
              <a:ext cx="12193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741920" y="5332320"/>
              <a:ext cx="7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例 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573800" y="5257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6800" y="5257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26320" y="5181480"/>
            <a:ext cx="1218960" cy="666720"/>
            <a:chOff x="6826320" y="5181480"/>
            <a:chExt cx="1218960" cy="666720"/>
          </a:xfrm>
        </p:grpSpPr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>
              <a:off x="6826320" y="5181480"/>
              <a:ext cx="1218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044120" y="533232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练习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827760" y="525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5280" y="251460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百 分 数 的 一般 应 用 题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838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复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3962520"/>
            <a:ext cx="129528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3880" y="60948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六年级有学生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6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，已达到《国家体育锻标准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儿童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，占六年级学生人数的 几分之几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96000" y="1828800"/>
            <a:ext cx="103428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百分之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776160"/>
            <a:ext cx="9907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34144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要求达到《国家体育锻标准》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儿童组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的学生占六年级学生人数的百分之几，也是以六年级学生人数作为单位“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1”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，仍用除法计算，结果是小数，再化为百分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32080" y="4191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17040" y="460224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20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÷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60 = 0.75 = 7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90160" y="57150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答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占六年级学生人数的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75%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609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例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5037120"/>
            <a:ext cx="1219320" cy="1820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14600" y="5029200"/>
            <a:ext cx="838080" cy="179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809880" y="4871880"/>
            <a:ext cx="1219320" cy="1881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858000" y="4267080"/>
            <a:ext cx="1295280" cy="19051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7924680" y="6186600"/>
            <a:ext cx="1218960" cy="519120"/>
            <a:chOff x="7924680" y="6186600"/>
            <a:chExt cx="1218960" cy="519120"/>
          </a:xfrm>
        </p:grpSpPr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7924680" y="6186600"/>
              <a:ext cx="12189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47960" y="6262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7924680" y="6186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3352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六年级有学生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6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，已达到《国家体育锻标准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儿童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，占六年级学生人数的百分之几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2920" y="2438280"/>
            <a:ext cx="43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问题一：为什么要用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120÷160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，而不用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160÷120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39600" y="3139920"/>
            <a:ext cx="58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问题二：假如用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160÷120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，它的结果（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1.33=133%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代表什么意义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29600" y="41911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问题三：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75%</a:t>
            </a:r>
            <a:r>
              <a:rPr b="0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为什么不带单位名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628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731520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95280" y="4676760"/>
            <a:ext cx="5715000" cy="119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105520" y="4929120"/>
            <a:ext cx="1904760" cy="66204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391520" y="5715000"/>
            <a:ext cx="1218960" cy="519120"/>
            <a:chOff x="7391520" y="5715000"/>
            <a:chExt cx="1218960" cy="51912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7391520" y="5715000"/>
              <a:ext cx="12189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71480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391520" y="5715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362320"/>
            <a:ext cx="45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怎么样求发芽率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867280" cy="838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59436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05120" y="4495680"/>
            <a:ext cx="57909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8928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590920" y="838080"/>
            <a:ext cx="195408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08280" y="205740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467480" y="5729400"/>
            <a:ext cx="1218960" cy="519120"/>
            <a:chOff x="7467480" y="5729400"/>
            <a:chExt cx="1218960" cy="519120"/>
          </a:xfrm>
        </p:grpSpPr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7467480" y="5729400"/>
              <a:ext cx="12189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790760" y="5805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467480" y="5729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447920"/>
            <a:ext cx="259092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5867280" cy="838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5943600" cy="838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447920" y="4724280"/>
            <a:ext cx="5867280" cy="838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639720"/>
            <a:ext cx="7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371600" y="533520"/>
            <a:ext cx="701028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010280" y="2068560"/>
            <a:ext cx="1219320" cy="609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72760" y="20829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发芽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1905120"/>
            <a:ext cx="762120" cy="923760"/>
            <a:chOff x="2743200" y="1905120"/>
            <a:chExt cx="762120" cy="923760"/>
          </a:xfrm>
        </p:grpSpPr>
        <p:sp>
          <p:nvSpPr>
            <p:cNvPr id="115" name=""/>
            <p:cNvSpPr/>
            <p:nvPr/>
          </p:nvSpPr>
          <p:spPr>
            <a:xfrm>
              <a:off x="2743920" y="190512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28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920" y="230832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23623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649760" y="21128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=0.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429000" y="2111400"/>
            <a:ext cx="1295280" cy="555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486400" y="2116080"/>
            <a:ext cx="137160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724800" y="20923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315200" y="5638680"/>
            <a:ext cx="1218960" cy="519120"/>
            <a:chOff x="7315200" y="5638680"/>
            <a:chExt cx="1218960" cy="519120"/>
          </a:xfrm>
        </p:grpSpPr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7315200" y="5638680"/>
              <a:ext cx="12189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638480" y="5715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3152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8928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238880" y="5638680"/>
            <a:ext cx="1218960" cy="519120"/>
            <a:chOff x="7238880" y="5638680"/>
            <a:chExt cx="1218960" cy="51912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7238880" y="5638680"/>
              <a:ext cx="12189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562160" y="5715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2388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92600" y="685800"/>
            <a:ext cx="50407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克盐放入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克水中，求盐水中的食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含盐率。选择正确的列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66680" y="1752480"/>
            <a:ext cx="2590920" cy="901440"/>
            <a:chOff x="1066680" y="1752480"/>
            <a:chExt cx="2590920" cy="901440"/>
          </a:xfrm>
        </p:grpSpPr>
        <p:grpSp>
          <p:nvGrpSpPr>
            <p:cNvPr id="133" name=""/>
            <p:cNvGrpSpPr/>
            <p:nvPr/>
          </p:nvGrpSpPr>
          <p:grpSpPr>
            <a:xfrm>
              <a:off x="1601280" y="1752480"/>
              <a:ext cx="2056320" cy="901440"/>
              <a:chOff x="1601280" y="1752480"/>
              <a:chExt cx="2056320" cy="90144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1601280" y="1752480"/>
                <a:ext cx="715680" cy="901440"/>
                <a:chOff x="1601280" y="1752480"/>
                <a:chExt cx="715680" cy="901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677600" y="1752480"/>
                  <a:ext cx="537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ff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601280" y="2133360"/>
                  <a:ext cx="715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ff"/>
                      </a:solidFill>
                      <a:latin typeface="Times New Roman"/>
                    </a:rPr>
                    <a:t>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676520" y="2209680"/>
                  <a:ext cx="5335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2213280" y="1904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ff"/>
                    </a:solidFill>
                    <a:latin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640" y="1904760"/>
                <a:ext cx="121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</a:rPr>
                  <a:t>100%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066680" y="1905120"/>
              <a:ext cx="8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72000" y="1600200"/>
            <a:ext cx="3276720" cy="977760"/>
            <a:chOff x="4572000" y="1600200"/>
            <a:chExt cx="3276720" cy="977760"/>
          </a:xfrm>
        </p:grpSpPr>
        <p:grpSp>
          <p:nvGrpSpPr>
            <p:cNvPr id="142" name=""/>
            <p:cNvGrpSpPr/>
            <p:nvPr/>
          </p:nvGrpSpPr>
          <p:grpSpPr>
            <a:xfrm>
              <a:off x="5070960" y="1600200"/>
              <a:ext cx="2777760" cy="977760"/>
              <a:chOff x="5070960" y="1600200"/>
              <a:chExt cx="2777760" cy="9777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070960" y="1600200"/>
                <a:ext cx="1348200" cy="977760"/>
                <a:chOff x="5070960" y="1600200"/>
                <a:chExt cx="1348200" cy="9777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487480" y="1600200"/>
                  <a:ext cx="537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ff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070960" y="2057400"/>
                  <a:ext cx="1348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ff"/>
                      </a:solidFill>
                      <a:latin typeface="Times New Roman"/>
                    </a:rPr>
                    <a:t>100﹢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05520" y="2133360"/>
                  <a:ext cx="12193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6328080" y="18288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ff"/>
                    </a:solidFill>
                    <a:latin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29400" y="1828800"/>
                <a:ext cx="121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</a:rPr>
                  <a:t>100%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572000" y="1904760"/>
              <a:ext cx="8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990720" y="2590920"/>
            <a:ext cx="3429000" cy="982800"/>
            <a:chOff x="990720" y="2590920"/>
            <a:chExt cx="3429000" cy="982800"/>
          </a:xfrm>
        </p:grpSpPr>
        <p:grpSp>
          <p:nvGrpSpPr>
            <p:cNvPr id="151" name=""/>
            <p:cNvGrpSpPr/>
            <p:nvPr/>
          </p:nvGrpSpPr>
          <p:grpSpPr>
            <a:xfrm>
              <a:off x="1570680" y="2590920"/>
              <a:ext cx="1389600" cy="982800"/>
              <a:chOff x="1570680" y="2590920"/>
              <a:chExt cx="1389600" cy="982800"/>
            </a:xfrm>
          </p:grpSpPr>
          <p:sp>
            <p:nvSpPr>
              <p:cNvPr id="152" name=""/>
              <p:cNvSpPr/>
              <p:nvPr/>
            </p:nvSpPr>
            <p:spPr>
              <a:xfrm>
                <a:off x="1982520" y="259092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ff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70680" y="2992320"/>
                <a:ext cx="1389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ff"/>
                    </a:solidFill>
                    <a:latin typeface="Times New Roman"/>
                  </a:rPr>
                  <a:t>100</a:t>
                </a: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</a:rPr>
                  <a:t>﹣</a:t>
                </a:r>
                <a:r>
                  <a:rPr b="1" lang="en-US" sz="2800" spc="-1" strike="noStrike">
                    <a:solidFill>
                      <a:srgbClr val="3333ff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00560" y="3124080"/>
                <a:ext cx="12193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124440" y="281952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100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9080" y="2819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2819520"/>
              <a:ext cx="8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711240" y="3809880"/>
            <a:ext cx="146088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调查并计算：把你每周在校学习语文、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学、英语、常识等各科所占总课时的百分比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成表格，并就这些百分数谈谈你的想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课后完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75160" y="160020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7:20:20Z</dcterms:created>
  <dc:creator>zhj</dc:creator>
  <dc:description/>
  <dc:language>en-US</dc:language>
  <cp:lastModifiedBy>yanchao</cp:lastModifiedBy>
  <dcterms:modified xsi:type="dcterms:W3CDTF">2002-11-13T01:09:27Z</dcterms:modified>
  <cp:revision>115</cp:revision>
  <dc:subject/>
  <dc:title>PowerPoint 演示文稿</dc:title>
</cp:coreProperties>
</file>