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587-C56D-4049-A73D-A99A7235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3AD-0DD0-4641-8974-74C22465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B51-E2D7-429C-A334-5D72D200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4A1-8D2C-40FD-859C-AF40CAC7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E25D-8D80-4907-886E-B944EB11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A400-479B-4CB7-AE28-E14C4E75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6F35-8C21-4D61-A619-15B134DD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D8E9-094E-4DBB-8954-D1E3A4E1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B11C-A748-4661-944A-168D5975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429F-C9FF-46F1-B4FA-7D9462EA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6BD1-8616-4B41-97C1-BB6C9C3F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908-73B6-4C73-9A99-A5EF7FA7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A392-FBB4-4E88-A944-324F528B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C6ED-B562-491C-ADF0-460A188B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2173-C396-4E81-969B-A9529329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5C89-517A-4B22-BB4F-350A2D53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6FB1-8F74-4046-BD7F-89204A35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416-7A18-4D30-8A46-DA4FABDA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0DF-E887-49F2-A13F-9CEAAA08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36C-F39A-4DB6-B170-D65B296F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A09-E67D-49BF-A48E-0A8B9378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7E8-9577-4B8D-B61B-B9D0088B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BAB-AA5F-466C-993C-91EF7EC0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BDB-FF05-4DCE-97CB-9C1B7C22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2016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2016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7621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76212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9907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094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716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645E-2BF7-4C13-8EC3-0D0183111FE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BD3A-35EC-42DC-BF6E-10F2BB08227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3440" y="1994040"/>
            <a:ext cx="6324840" cy="486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332000" y="457200"/>
            <a:ext cx="712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ff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华文新魏"/>
              </a:rPr>
              <a:t>　</a:t>
            </a:r>
            <a:r>
              <a:rPr b="0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ff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华文新魏"/>
              </a:rPr>
              <a:t>Happy birthday</a:t>
            </a:r>
            <a:endParaRPr b="0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ff00ff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e4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411280" cy="830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华文彩云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华文彩云"/>
              </a:rPr>
              <a:t>做一做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836280"/>
            <a:ext cx="8459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新魏"/>
              </a:rPr>
              <a:t>在幸福村的果园里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新魏"/>
              </a:rPr>
              <a:t>,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新魏"/>
              </a:rPr>
              <a:t>的面积种植了梨树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新魏"/>
              </a:rPr>
              <a:t>,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新魏"/>
              </a:rPr>
              <a:t>的面积种植了苹果树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新魏"/>
              </a:rPr>
              <a:t>,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新魏"/>
              </a:rPr>
              <a:t>的面积种植了葡萄树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新魏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新魏"/>
              </a:rPr>
              <a:t>其余的的面积种植了桃树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新魏"/>
              </a:rPr>
              <a:t>你能根据下左图制作扇形统计图吗？动手做做吧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64000" y="3357720"/>
            <a:ext cx="3384360" cy="3024000"/>
            <a:chOff x="5364000" y="3357720"/>
            <a:chExt cx="3384360" cy="3024000"/>
          </a:xfrm>
        </p:grpSpPr>
        <p:graphicFrame>
          <p:nvGraphicFramePr>
            <p:cNvPr id="175" name=""/>
            <p:cNvGraphicFramePr/>
            <p:nvPr/>
          </p:nvGraphicFramePr>
          <p:xfrm>
            <a:off x="5364000" y="3357720"/>
            <a:ext cx="3384360" cy="3024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64000" y="3357720"/>
                      <a:ext cx="3384360" cy="30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" name=""/>
            <p:cNvSpPr/>
            <p:nvPr/>
          </p:nvSpPr>
          <p:spPr>
            <a:xfrm>
              <a:off x="6735600" y="51894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ahoma"/>
                </a:rPr>
                <a:t>苹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02960" y="42210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Tahoma"/>
                </a:rPr>
                <a:t>梨树</a:t>
              </a:r>
              <a:r>
                <a:rPr b="1" lang="zh-CN" sz="1800" spc="-1" strike="noStrike">
                  <a:solidFill>
                    <a:srgbClr val="333399"/>
                  </a:solidFill>
                  <a:latin typeface="Times New Roman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11640" y="4437000"/>
              <a:ext cx="853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ahoma"/>
                </a:rPr>
                <a:t>桃树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2.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00720" y="3932280"/>
              <a:ext cx="11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ahoma"/>
                </a:rPr>
                <a:t>葡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12.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1" name=""/>
          <p:cNvGraphicFramePr/>
          <p:nvPr/>
        </p:nvGraphicFramePr>
        <p:xfrm>
          <a:off x="0" y="3868560"/>
          <a:ext cx="3708360" cy="2989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68560"/>
                    <a:ext cx="3708360" cy="29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219640" y="620640"/>
                <a:ext cx="336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501920" y="1197000"/>
                <a:ext cx="334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383160" y="1197000"/>
                <a:ext cx="565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500720" y="63817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Tahoma"/>
              </a:rPr>
              <a:t>幸福晨昏果树种植面积统计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59770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华文新魏"/>
              </a:rPr>
              <a:t>你有什么收获？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67820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、理解扇形统计图的特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、会从扇形统计图中获取有用信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、使用数据时尽可能标明数据来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、会制作简单的扇形统计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、课后问题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） 搜集扇形统计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） 尝试利用电子表格制作扇形统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计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19280" y="2001960"/>
            <a:ext cx="612144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139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扇形统计图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9640" y="3141720"/>
          <a:ext cx="8053560" cy="34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141720"/>
                    <a:ext cx="805356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84360" y="0"/>
            <a:ext cx="8100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Tahoma"/>
              </a:rPr>
              <a:t>《义务教育课程标准实验教课书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Tahoma"/>
              </a:rPr>
              <a:t>北师大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Tahoma"/>
              </a:rPr>
              <a:t>  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华文新魏"/>
              </a:rPr>
              <a:t>在我们班，如果体育委员准备组织全班同学去观看一场球类比赛。为了吸引尽可能多的同学参与，你说组织观看什么比赛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1268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  <a:ea typeface="华文新魏"/>
              </a:rPr>
              <a:t>议一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692280"/>
            <a:ext cx="2819520" cy="295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5171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latin typeface="华文行楷"/>
              </a:rPr>
              <a:t>问题探究</a:t>
            </a:r>
            <a:endParaRPr b="0" lang="en-US" sz="2800" spc="1" strike="noStrike">
              <a:ln w="6480">
                <a:solidFill>
                  <a:srgbClr val="ffffff"/>
                </a:solidFill>
                <a:miter/>
              </a:ln>
              <a:solidFill>
                <a:srgbClr val="ff9900"/>
              </a:solidFill>
              <a:latin typeface="华文行楷"/>
              <a:ea typeface="华文行楷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华文新魏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华文新魏"/>
              </a:rPr>
              <a:t>1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华文新魏"/>
              </a:rPr>
              <a:t>说说你从下图中获得哪些信息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66294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0" y="692280"/>
            <a:ext cx="6629400" cy="3964680"/>
            <a:chOff x="0" y="692280"/>
            <a:chExt cx="6629400" cy="3964680"/>
          </a:xfrm>
        </p:grpSpPr>
        <p:sp>
          <p:nvSpPr>
            <p:cNvPr id="113" name=""/>
            <p:cNvSpPr/>
            <p:nvPr/>
          </p:nvSpPr>
          <p:spPr>
            <a:xfrm>
              <a:off x="3429000" y="27496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篮球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3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8800" y="23684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ahoma"/>
                </a:rPr>
                <a:t>排球</a:t>
              </a:r>
              <a:r>
                <a:rPr b="1" lang="zh-CN" sz="2400" spc="-1" strike="noStrike">
                  <a:solidFill>
                    <a:srgbClr val="ffffff"/>
                  </a:solidFill>
                  <a:latin typeface="Tahoma"/>
                </a:rPr>
                <a:t>18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71600" y="35114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ahoma"/>
                </a:rPr>
                <a:t>足球</a:t>
              </a:r>
              <a:r>
                <a:rPr b="1" lang="zh-CN" sz="2400" spc="-1" strike="noStrike">
                  <a:solidFill>
                    <a:srgbClr val="ffffff"/>
                  </a:solidFill>
                  <a:latin typeface="Tahoma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840" y="419724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ahoma"/>
                </a:rPr>
                <a:t>乒乓球</a:t>
              </a:r>
              <a:r>
                <a:rPr b="1" lang="zh-CN" sz="2400" spc="-1" strike="noStrike">
                  <a:solidFill>
                    <a:srgbClr val="ffffff"/>
                  </a:solidFill>
                  <a:latin typeface="Tahoma"/>
                </a:rPr>
                <a:t>19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91120" y="40449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ahoma"/>
                </a:rPr>
                <a:t>其他</a:t>
              </a:r>
              <a:r>
                <a:rPr b="1" lang="zh-CN" sz="2400" spc="-1" strike="noStrike">
                  <a:solidFill>
                    <a:srgbClr val="ffffff"/>
                  </a:solidFill>
                  <a:latin typeface="Tahoma"/>
                </a:rPr>
                <a:t>6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692280"/>
              <a:ext cx="6477120" cy="520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最  喜  欢  的  球  类  运  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2320" y="137808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数据来源      初一（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11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）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47640" cy="1465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76360" y="0"/>
            <a:ext cx="6872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观察下图 ，并回答下面的几个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83664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）全世界共有几大洲？哪个洲面积最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268280"/>
            <a:ext cx="9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2)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哪两个洲的面积之和最接近地球陆地总面积的一半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1773360"/>
            <a:ext cx="93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图中各个扇形分别代表什么？所有百分比之和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2766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）从中你还能得到什么信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1700280"/>
            <a:ext cx="9685080" cy="5157360"/>
            <a:chOff x="0" y="1700280"/>
            <a:chExt cx="9685080" cy="5157360"/>
          </a:xfrm>
        </p:grpSpPr>
        <p:graphicFrame>
          <p:nvGraphicFramePr>
            <p:cNvPr id="127" name=""/>
            <p:cNvGraphicFramePr/>
            <p:nvPr/>
          </p:nvGraphicFramePr>
          <p:xfrm>
            <a:off x="0" y="1700280"/>
            <a:ext cx="9685080" cy="5157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700280"/>
                      <a:ext cx="9685080" cy="51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"/>
            <p:cNvSpPr/>
            <p:nvPr/>
          </p:nvSpPr>
          <p:spPr>
            <a:xfrm>
              <a:off x="5261760" y="3768480"/>
              <a:ext cx="228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亚洲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29.3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880" y="4108680"/>
              <a:ext cx="32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非洲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20.2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99280" y="4880880"/>
              <a:ext cx="244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北美洲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16.1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9520" y="4533120"/>
              <a:ext cx="282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大洋洲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6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9000" y="3506760"/>
              <a:ext cx="18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Times New Roman"/>
                </a:rPr>
                <a:t>南极洲</a:t>
              </a:r>
              <a:r>
                <a:rPr b="1" lang="zh-CN" sz="2400" spc="-1" strike="noStrike">
                  <a:solidFill>
                    <a:srgbClr val="003366"/>
                  </a:solidFill>
                  <a:latin typeface="Times New Roman"/>
                </a:rPr>
                <a:t>9.3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5200" y="350676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欧洲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7.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82520" y="4789440"/>
              <a:ext cx="251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南美洲</a:t>
              </a: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12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3920" y="5480640"/>
              <a:ext cx="74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  <a:ea typeface="隶书"/>
                </a:rPr>
                <a:t>数据来源：</a:t>
              </a:r>
              <a:r>
                <a:rPr b="1" lang="zh-CN" sz="3200" spc="-1" strike="noStrike">
                  <a:solidFill>
                    <a:srgbClr val="ffffff"/>
                  </a:solidFill>
                  <a:latin typeface="Tahoma"/>
                  <a:ea typeface="隶书"/>
                </a:rPr>
                <a:t>«</a:t>
              </a:r>
              <a:r>
                <a:rPr b="1" lang="zh-CN" sz="3200" spc="-1" strike="noStrike">
                  <a:solidFill>
                    <a:srgbClr val="ffffff"/>
                  </a:solidFill>
                  <a:latin typeface="Tahoma"/>
                  <a:ea typeface="隶书"/>
                </a:rPr>
                <a:t>中国百科全书：世界地理</a:t>
              </a:r>
              <a:r>
                <a:rPr b="1" lang="zh-CN" sz="3200" spc="-1" strike="noStrike">
                  <a:solidFill>
                    <a:srgbClr val="ffffff"/>
                  </a:solidFill>
                  <a:latin typeface="Tahoma"/>
                  <a:ea typeface="隶书"/>
                </a:rPr>
                <a:t>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278136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）从图中你能知道地球陆地总面积是多少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2F815-2E1C-42B7-8617-6E581A29CFF9}" type="datetime1">
              <a:rPr lang="en-US"/>
              <a:t>07/30/26</a:t>
            </a:fld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9453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扇形统计图的特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利用圆和扇形来表示总体和部分的关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、圆代表总体，各个扇形分别表示总体中不同的部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、扇形的大小反映部分占总体的百分比的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409760" y="3809880"/>
          <a:ext cx="6172200" cy="30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3809880"/>
                    <a:ext cx="61722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想一想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876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观察右图，并回答问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果用整个圆表示总体，那么扇形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表示总体的多少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果用整个圆表示我班的人数，那么扇形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大约代表多少人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(3)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果用整个圆表示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磅重的蛋糕，那么扇形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大约代表多少蛋糕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6765840" y="3048120"/>
            <a:ext cx="1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105520" y="2133720"/>
          <a:ext cx="3657600" cy="327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133720"/>
                    <a:ext cx="365760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248520" y="3048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4114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334476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Symbol"/>
                <a:ea typeface="Symbol"/>
              </a:rPr>
              <a:t>比一比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华文新魏"/>
              </a:rPr>
              <a:t>从下列的两个统计图中，你能看出哪一个班的女生人数多吗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04920" y="2971800"/>
          <a:ext cx="769608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76960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114800" y="3500280"/>
          <a:ext cx="5029200" cy="2881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500280"/>
                    <a:ext cx="502920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092320" y="4876920"/>
            <a:ext cx="96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女生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42080" y="5157720"/>
            <a:ext cx="110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女生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9800" y="4876920"/>
            <a:ext cx="86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男生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4800600"/>
            <a:ext cx="86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男生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1905120"/>
            <a:ext cx="9144000" cy="4012920"/>
            <a:chOff x="0" y="1905120"/>
            <a:chExt cx="9144000" cy="40129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0" y="1905120"/>
              <a:ext cx="4267080" cy="39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4343400" y="1981080"/>
              <a:ext cx="4800600" cy="393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6477120" y="3808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962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发展中国家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0178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发达国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017880"/>
            <a:ext cx="17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发展中国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4038480"/>
            <a:ext cx="20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发达国家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7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943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新魏"/>
              </a:rPr>
              <a:t>发达国家和发展中国家人口和国内生产总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89000"/>
            <a:ext cx="2627280" cy="825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华文新魏"/>
              </a:rPr>
              <a:t>想一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1125360"/>
            <a:ext cx="691380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  <a:ea typeface="华文新魏"/>
              </a:rPr>
              <a:t>从图中你能获得哪些信息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00:52:09Z</dcterms:created>
  <dc:creator>  </dc:creator>
  <dc:description/>
  <dc:language>en-US</dc:language>
  <cp:lastModifiedBy>xwq0812</cp:lastModifiedBy>
  <dcterms:modified xsi:type="dcterms:W3CDTF">2004-11-18T07:28:07Z</dcterms:modified>
  <cp:revision>72</cp:revision>
  <dc:subject/>
  <dc:title>一、回顾与思考</dc:title>
</cp:coreProperties>
</file>