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AEA3-28AD-4DF2-B30A-A419A6179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957D-D20D-4D00-85B5-DA32CA606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8851-4FD6-49AA-AE76-4D6C0B2B1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07F0-D900-45F3-8022-81DD5836D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1FA7-F2E7-4632-8688-E17904834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B650-B0AA-425C-B111-89CA7516E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BBAA-3088-4F56-BB4F-52B03C6B7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64CE-5D15-4A8F-85E2-0B0BB1CF2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034C-9758-40C3-8962-8553F8E13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A04F-EBFB-4F54-A02F-83BA74A77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AC73-A7C7-45D5-B20C-008D8972D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98B5-3E65-4C9B-956D-8904AAC33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9FD28-E54B-482C-93CD-38868787224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0.wmf"/><Relationship Id="rId1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5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42040" y="-92160"/>
            <a:ext cx="1552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66"/>
                </a:solidFill>
                <a:latin typeface="Times New Roman"/>
                <a:ea typeface="黑体"/>
              </a:rPr>
              <a:t>填空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63840" y="1219320"/>
            <a:ext cx="80895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和桥村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997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年种粮食作物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4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公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顷，棉花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4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公顷，油料作物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2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公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顷，总种植面积是（       ）公顷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其 中 粮食作物占总种植面积 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（       ）％，棉花占（       ）％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油料作物占（       ）％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716800" y="2666880"/>
            <a:ext cx="1095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12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92520" y="41148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7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370920" y="41292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2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116600" y="48769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1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1374840" y="1157400"/>
          <a:ext cx="4416480" cy="44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4840" y="1157400"/>
                    <a:ext cx="4416480" cy="44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9" name=""/>
          <p:cNvGrpSpPr/>
          <p:nvPr/>
        </p:nvGrpSpPr>
        <p:grpSpPr>
          <a:xfrm>
            <a:off x="3925800" y="2981160"/>
            <a:ext cx="3735720" cy="1668960"/>
            <a:chOff x="3925800" y="2981160"/>
            <a:chExt cx="3735720" cy="1668960"/>
          </a:xfrm>
        </p:grpSpPr>
        <p:graphicFrame>
          <p:nvGraphicFramePr>
            <p:cNvPr id="50" name=""/>
            <p:cNvGraphicFramePr/>
            <p:nvPr/>
          </p:nvGraphicFramePr>
          <p:xfrm>
            <a:off x="4016520" y="2981160"/>
            <a:ext cx="290520" cy="447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016520" y="2981160"/>
                      <a:ext cx="290520" cy="44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2" name=""/>
            <p:cNvSpPr/>
            <p:nvPr/>
          </p:nvSpPr>
          <p:spPr>
            <a:xfrm flipH="1" flipV="1">
              <a:off x="3925800" y="3276000"/>
              <a:ext cx="2438640" cy="68580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474960" y="3885840"/>
              <a:ext cx="1186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cc99"/>
                  </a:solidFill>
                  <a:latin typeface="Times New Roman"/>
                </a:rPr>
                <a:t>圆心角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2895480" y="2882880"/>
            <a:ext cx="1270080" cy="1691280"/>
            <a:chOff x="2895480" y="2882880"/>
            <a:chExt cx="1270080" cy="1691280"/>
          </a:xfrm>
        </p:grpSpPr>
        <p:graphicFrame>
          <p:nvGraphicFramePr>
            <p:cNvPr id="55" name=""/>
            <p:cNvGraphicFramePr/>
            <p:nvPr/>
          </p:nvGraphicFramePr>
          <p:xfrm>
            <a:off x="3124080" y="2882880"/>
            <a:ext cx="1041480" cy="10033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56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124080" y="2882880"/>
                      <a:ext cx="1041480" cy="1003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7" name=""/>
            <p:cNvSpPr/>
            <p:nvPr/>
          </p:nvSpPr>
          <p:spPr>
            <a:xfrm>
              <a:off x="2895480" y="3809880"/>
              <a:ext cx="12193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Times New Roman"/>
                </a:rPr>
                <a:t>360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962520" y="3962520"/>
              <a:ext cx="152280" cy="152280"/>
            </a:xfrm>
            <a:prstGeom prst="ellipse">
              <a:avLst/>
            </a:prstGeom>
            <a:noFill/>
            <a:ln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"/>
          <p:cNvGrpSpPr/>
          <p:nvPr/>
        </p:nvGrpSpPr>
        <p:grpSpPr>
          <a:xfrm>
            <a:off x="1071000" y="1828800"/>
            <a:ext cx="7694280" cy="2837160"/>
            <a:chOff x="1071000" y="1828800"/>
            <a:chExt cx="7694280" cy="2837160"/>
          </a:xfrm>
        </p:grpSpPr>
        <p:sp>
          <p:nvSpPr>
            <p:cNvPr id="60" name=""/>
            <p:cNvSpPr/>
            <p:nvPr/>
          </p:nvSpPr>
          <p:spPr>
            <a:xfrm>
              <a:off x="1071000" y="1828800"/>
              <a:ext cx="769428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360   </a:t>
              </a:r>
              <a:r>
                <a:rPr b="1" lang="zh-CN" sz="6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的</a:t>
              </a:r>
              <a:r>
                <a:rPr b="1" lang="zh-CN" sz="6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30</a:t>
              </a:r>
              <a:r>
                <a:rPr b="1" lang="zh-CN" sz="6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％是（        ）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360   </a:t>
              </a:r>
              <a:r>
                <a:rPr b="1" lang="zh-CN" sz="6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的</a:t>
              </a:r>
              <a:r>
                <a:rPr b="1" lang="zh-CN" sz="6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0</a:t>
              </a:r>
              <a:r>
                <a:rPr b="1" lang="zh-CN" sz="6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％是（        ）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360   </a:t>
              </a:r>
              <a:r>
                <a:rPr b="1" lang="zh-CN" sz="6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的</a:t>
              </a:r>
              <a:r>
                <a:rPr b="1" lang="zh-CN" sz="6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60</a:t>
              </a:r>
              <a:r>
                <a:rPr b="1" lang="zh-CN" sz="6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％是（        ）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286000" y="3048120"/>
              <a:ext cx="152640" cy="152280"/>
            </a:xfrm>
            <a:prstGeom prst="ellipse">
              <a:avLst/>
            </a:prstGeom>
            <a:noFill/>
            <a:ln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86000" y="2133720"/>
              <a:ext cx="152640" cy="152280"/>
            </a:xfrm>
            <a:prstGeom prst="ellipse">
              <a:avLst/>
            </a:prstGeom>
            <a:noFill/>
            <a:ln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286000" y="3886200"/>
              <a:ext cx="152640" cy="152280"/>
            </a:xfrm>
            <a:prstGeom prst="ellipse">
              <a:avLst/>
            </a:prstGeom>
            <a:noFill/>
            <a:ln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1355760" y="533520"/>
            <a:ext cx="1552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66"/>
                </a:solidFill>
                <a:latin typeface="Times New Roman"/>
                <a:ea typeface="黑体"/>
              </a:rPr>
              <a:t>口答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6521400" y="3641760"/>
            <a:ext cx="1555920" cy="1008360"/>
            <a:chOff x="6521400" y="3641760"/>
            <a:chExt cx="1555920" cy="1008360"/>
          </a:xfrm>
        </p:grpSpPr>
        <p:sp>
          <p:nvSpPr>
            <p:cNvPr id="66" name=""/>
            <p:cNvSpPr/>
            <p:nvPr/>
          </p:nvSpPr>
          <p:spPr>
            <a:xfrm>
              <a:off x="6521400" y="3641760"/>
              <a:ext cx="13273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ff3300"/>
                  </a:solidFill>
                  <a:latin typeface="Times New Roman"/>
                </a:rPr>
                <a:t>216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925040" y="3870360"/>
              <a:ext cx="152280" cy="152640"/>
            </a:xfrm>
            <a:prstGeom prst="ellipse">
              <a:avLst/>
            </a:prstGeom>
            <a:noFill/>
            <a:ln w="604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6783120" y="2666880"/>
            <a:ext cx="1141560" cy="1008360"/>
            <a:chOff x="6783120" y="2666880"/>
            <a:chExt cx="1141560" cy="1008360"/>
          </a:xfrm>
        </p:grpSpPr>
        <p:sp>
          <p:nvSpPr>
            <p:cNvPr id="69" name=""/>
            <p:cNvSpPr/>
            <p:nvPr/>
          </p:nvSpPr>
          <p:spPr>
            <a:xfrm>
              <a:off x="6783120" y="2666880"/>
              <a:ext cx="9428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ff3300"/>
                  </a:solidFill>
                  <a:latin typeface="Times New Roman"/>
                </a:rPr>
                <a:t>36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772400" y="2895480"/>
              <a:ext cx="152280" cy="152280"/>
            </a:xfrm>
            <a:prstGeom prst="ellipse">
              <a:avLst/>
            </a:prstGeom>
            <a:noFill/>
            <a:ln w="604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6554880" y="1752480"/>
            <a:ext cx="1522080" cy="1008360"/>
            <a:chOff x="6554880" y="1752480"/>
            <a:chExt cx="1522080" cy="1008360"/>
          </a:xfrm>
        </p:grpSpPr>
        <p:sp>
          <p:nvSpPr>
            <p:cNvPr id="72" name=""/>
            <p:cNvSpPr/>
            <p:nvPr/>
          </p:nvSpPr>
          <p:spPr>
            <a:xfrm>
              <a:off x="6554880" y="1752480"/>
              <a:ext cx="13237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ff3300"/>
                  </a:solidFill>
                  <a:latin typeface="Times New Roman"/>
                </a:rPr>
                <a:t>108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924680" y="1974600"/>
              <a:ext cx="152280" cy="152280"/>
            </a:xfrm>
            <a:prstGeom prst="ellipse">
              <a:avLst/>
            </a:prstGeom>
            <a:noFill/>
            <a:ln w="604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2438280" y="2133720"/>
          <a:ext cx="4496040" cy="446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2133720"/>
                    <a:ext cx="4496040" cy="446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"/>
          <p:cNvSpPr/>
          <p:nvPr/>
        </p:nvSpPr>
        <p:spPr>
          <a:xfrm>
            <a:off x="2177640" y="425520"/>
            <a:ext cx="521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  <a:ea typeface="黑体"/>
              </a:rPr>
              <a:t>在这个圆里共有</a:t>
            </a:r>
            <a:r>
              <a:rPr b="1" lang="zh-CN" sz="5400" spc="-1" strike="noStrike">
                <a:solidFill>
                  <a:srgbClr val="ffffff"/>
                </a:solidFill>
                <a:latin typeface="Times New Roman"/>
                <a:ea typeface="黑体"/>
              </a:rPr>
              <a:t>(      )</a:t>
            </a:r>
            <a:r>
              <a:rPr b="1" lang="zh-CN" sz="5400" spc="-1" strike="noStrike">
                <a:solidFill>
                  <a:srgbClr val="ffffff"/>
                </a:solidFill>
                <a:latin typeface="Times New Roman"/>
                <a:ea typeface="黑体"/>
              </a:rPr>
              <a:t>个扇形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4648320" y="3081240"/>
          <a:ext cx="2286000" cy="1414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3081240"/>
                    <a:ext cx="2286000" cy="14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" name=""/>
          <p:cNvGraphicFramePr/>
          <p:nvPr/>
        </p:nvGraphicFramePr>
        <p:xfrm>
          <a:off x="2819520" y="2125800"/>
          <a:ext cx="3733560" cy="2369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819520" y="2125800"/>
                    <a:ext cx="3733560" cy="23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"/>
          <p:cNvGraphicFramePr/>
          <p:nvPr/>
        </p:nvGraphicFramePr>
        <p:xfrm>
          <a:off x="2438280" y="3048120"/>
          <a:ext cx="4496040" cy="3592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38280" y="3048120"/>
                    <a:ext cx="4496040" cy="359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"/>
          <p:cNvGraphicFramePr/>
          <p:nvPr/>
        </p:nvGraphicFramePr>
        <p:xfrm>
          <a:off x="2819520" y="2133720"/>
          <a:ext cx="4114800" cy="2363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819520" y="2133720"/>
                    <a:ext cx="4114800" cy="236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2438280" y="2133720"/>
          <a:ext cx="4496040" cy="44956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438280" y="2133720"/>
                    <a:ext cx="449604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" name=""/>
          <p:cNvGraphicFramePr/>
          <p:nvPr/>
        </p:nvGraphicFramePr>
        <p:xfrm>
          <a:off x="2438280" y="3048120"/>
          <a:ext cx="4496040" cy="35906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438280" y="3048120"/>
                    <a:ext cx="4496040" cy="359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"/>
          <p:cNvSpPr/>
          <p:nvPr/>
        </p:nvSpPr>
        <p:spPr>
          <a:xfrm>
            <a:off x="5488200" y="38088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Times New Roman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"/>
          <p:cNvGraphicFramePr/>
          <p:nvPr/>
        </p:nvGraphicFramePr>
        <p:xfrm>
          <a:off x="2438280" y="2133720"/>
          <a:ext cx="4496040" cy="446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2133720"/>
                    <a:ext cx="4496040" cy="446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2" name=""/>
          <p:cNvGrpSpPr/>
          <p:nvPr/>
        </p:nvGrpSpPr>
        <p:grpSpPr>
          <a:xfrm>
            <a:off x="1859760" y="304920"/>
            <a:ext cx="6931440" cy="1431360"/>
            <a:chOff x="1859760" y="304920"/>
            <a:chExt cx="6931440" cy="1431360"/>
          </a:xfrm>
        </p:grpSpPr>
        <p:sp>
          <p:nvSpPr>
            <p:cNvPr id="93" name=""/>
            <p:cNvSpPr/>
            <p:nvPr/>
          </p:nvSpPr>
          <p:spPr>
            <a:xfrm>
              <a:off x="1859760" y="304920"/>
              <a:ext cx="5362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某班学生参加课外活动小组情况统计图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045760" y="1093680"/>
              <a:ext cx="3745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2001</a:t>
              </a:r>
              <a:r>
                <a:rPr b="1" lang="zh-CN" sz="36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年</a:t>
              </a:r>
              <a:r>
                <a:rPr b="1" lang="zh-CN" sz="36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3</a:t>
              </a:r>
              <a:r>
                <a:rPr b="1" lang="zh-CN" sz="36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月</a:t>
              </a:r>
              <a:r>
                <a:rPr b="1" lang="zh-CN" sz="36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25</a:t>
              </a:r>
              <a:r>
                <a:rPr b="1" lang="zh-CN" sz="36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日制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3819240" y="2639880"/>
            <a:ext cx="2953080" cy="3077280"/>
            <a:chOff x="3819240" y="2639880"/>
            <a:chExt cx="2953080" cy="3077280"/>
          </a:xfrm>
        </p:grpSpPr>
        <p:sp>
          <p:nvSpPr>
            <p:cNvPr id="96" name=""/>
            <p:cNvSpPr/>
            <p:nvPr/>
          </p:nvSpPr>
          <p:spPr>
            <a:xfrm>
              <a:off x="4200120" y="2639880"/>
              <a:ext cx="9878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文娱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0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％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784480" y="3429000"/>
              <a:ext cx="9878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美术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0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％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19240" y="4648320"/>
              <a:ext cx="9878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体育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60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％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2438280" y="2133720"/>
            <a:ext cx="4419720" cy="4419360"/>
          </a:xfrm>
          <a:prstGeom prst="ellipse">
            <a:avLst/>
          </a:prstGeom>
          <a:noFill/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3821760" y="2639880"/>
            <a:ext cx="2952720" cy="3077280"/>
            <a:chOff x="3821760" y="2639880"/>
            <a:chExt cx="2952720" cy="3077280"/>
          </a:xfrm>
        </p:grpSpPr>
        <p:sp>
          <p:nvSpPr>
            <p:cNvPr id="101" name=""/>
            <p:cNvSpPr/>
            <p:nvPr/>
          </p:nvSpPr>
          <p:spPr>
            <a:xfrm>
              <a:off x="4202280" y="2639880"/>
              <a:ext cx="9878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文娱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30</a:t>
              </a:r>
              <a:r>
                <a:rPr b="1" lang="zh-CN" sz="32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％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786640" y="3429000"/>
              <a:ext cx="9878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美术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10</a:t>
              </a:r>
              <a:r>
                <a:rPr b="1" lang="zh-CN" sz="32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％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21760" y="4648320"/>
              <a:ext cx="9878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体育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60</a:t>
              </a:r>
              <a:r>
                <a:rPr b="1" lang="zh-CN" sz="32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％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5716440" y="3519360"/>
            <a:ext cx="942840" cy="825120"/>
            <a:chOff x="5716440" y="3519360"/>
            <a:chExt cx="942840" cy="825120"/>
          </a:xfrm>
        </p:grpSpPr>
        <p:sp>
          <p:nvSpPr>
            <p:cNvPr id="105" name=""/>
            <p:cNvSpPr/>
            <p:nvPr/>
          </p:nvSpPr>
          <p:spPr>
            <a:xfrm>
              <a:off x="5716440" y="3519360"/>
              <a:ext cx="942840" cy="82512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Times New Roman"/>
                </a:rPr>
                <a:t>36 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477120" y="3695400"/>
              <a:ext cx="142920" cy="128520"/>
            </a:xfrm>
            <a:prstGeom prst="ellipse">
              <a:avLst/>
            </a:prstGeom>
            <a:solidFill>
              <a:srgbClr val="ffff66"/>
            </a:solidFill>
            <a:ln w="60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3963960" y="2666880"/>
            <a:ext cx="1522440" cy="1008360"/>
            <a:chOff x="3963960" y="2666880"/>
            <a:chExt cx="1522440" cy="1008360"/>
          </a:xfrm>
        </p:grpSpPr>
        <p:sp>
          <p:nvSpPr>
            <p:cNvPr id="108" name=""/>
            <p:cNvSpPr/>
            <p:nvPr/>
          </p:nvSpPr>
          <p:spPr>
            <a:xfrm>
              <a:off x="3963960" y="2666880"/>
              <a:ext cx="1323720" cy="1008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Times New Roman"/>
                </a:rPr>
                <a:t>108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334120" y="28893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60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3809880" y="4632480"/>
            <a:ext cx="1555920" cy="1008360"/>
            <a:chOff x="3809880" y="4632480"/>
            <a:chExt cx="1555920" cy="1008360"/>
          </a:xfrm>
        </p:grpSpPr>
        <p:sp>
          <p:nvSpPr>
            <p:cNvPr id="111" name=""/>
            <p:cNvSpPr/>
            <p:nvPr/>
          </p:nvSpPr>
          <p:spPr>
            <a:xfrm>
              <a:off x="3809880" y="4632480"/>
              <a:ext cx="1327320" cy="100836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Times New Roman"/>
                </a:rPr>
                <a:t>216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213160" y="4860720"/>
              <a:ext cx="152640" cy="151920"/>
            </a:xfrm>
            <a:prstGeom prst="ellipse">
              <a:avLst/>
            </a:prstGeom>
            <a:solidFill>
              <a:srgbClr val="00ff00"/>
            </a:solidFill>
            <a:ln w="60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1866240" y="304920"/>
            <a:ext cx="6924960" cy="1431360"/>
            <a:chOff x="1866240" y="304920"/>
            <a:chExt cx="6924960" cy="1431360"/>
          </a:xfrm>
        </p:grpSpPr>
        <p:sp>
          <p:nvSpPr>
            <p:cNvPr id="114" name=""/>
            <p:cNvSpPr/>
            <p:nvPr/>
          </p:nvSpPr>
          <p:spPr>
            <a:xfrm>
              <a:off x="1866240" y="304920"/>
              <a:ext cx="5362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李明班上同学参加球类活动情况统计图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045760" y="1093680"/>
              <a:ext cx="3745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2001</a:t>
              </a:r>
              <a:r>
                <a:rPr b="1" lang="zh-CN" sz="36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年</a:t>
              </a:r>
              <a:r>
                <a:rPr b="1" lang="zh-CN" sz="36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3</a:t>
              </a:r>
              <a:r>
                <a:rPr b="1" lang="zh-CN" sz="36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月</a:t>
              </a:r>
              <a:r>
                <a:rPr b="1" lang="zh-CN" sz="36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25</a:t>
              </a:r>
              <a:r>
                <a:rPr b="1" lang="zh-CN" sz="36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日制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16" name=""/>
          <p:cNvGraphicFramePr/>
          <p:nvPr/>
        </p:nvGraphicFramePr>
        <p:xfrm>
          <a:off x="2209680" y="1712880"/>
          <a:ext cx="4800600" cy="476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1712880"/>
                    <a:ext cx="4800600" cy="476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"/>
          <p:cNvSpPr/>
          <p:nvPr/>
        </p:nvSpPr>
        <p:spPr>
          <a:xfrm>
            <a:off x="3352680" y="2362320"/>
            <a:ext cx="1371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篮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9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952880" y="2514600"/>
            <a:ext cx="1600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羽毛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6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24280" y="4556160"/>
            <a:ext cx="15242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乒乓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3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971800" y="4267080"/>
            <a:ext cx="1371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足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8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86000" y="358128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其它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3581280" y="4083120"/>
          <a:ext cx="3429000" cy="244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81280" y="4083120"/>
                    <a:ext cx="3429000" cy="24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"/>
          <p:cNvGraphicFramePr/>
          <p:nvPr/>
        </p:nvGraphicFramePr>
        <p:xfrm>
          <a:off x="2182680" y="1676520"/>
          <a:ext cx="2541600" cy="4647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82680" y="1676520"/>
                    <a:ext cx="2541600" cy="46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4419720" y="1676520"/>
          <a:ext cx="2590560" cy="2523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419720" y="1676520"/>
                    <a:ext cx="2590560" cy="25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2209680" y="3290760"/>
          <a:ext cx="2590920" cy="900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209680" y="3290760"/>
                    <a:ext cx="2590920" cy="9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03:34:42Z</dcterms:created>
  <dc:creator>  </dc:creator>
  <dc:description>六年级二册 扇形统计图</dc:description>
  <dc:language>en-US</dc:language>
  <cp:lastModifiedBy>Lenovo User</cp:lastModifiedBy>
  <dcterms:modified xsi:type="dcterms:W3CDTF">2005-06-03T15:59:51Z</dcterms:modified>
  <cp:revision>28</cp:revision>
  <dc:subject/>
  <dc:title>PowerPoint 演示文稿</dc:title>
</cp:coreProperties>
</file>