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media/image10.jpeg" ContentType="image/jpeg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27.bin" ContentType="application/vnd.openxmlformats-officedocument.oleObject"/>
  <Override PartName="/ppt/embeddings/oleObject20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34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29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31.bin" ContentType="application/vnd.openxmlformats-officedocument.oleObject"/>
  <Override PartName="/ppt/embeddings/oleObject19.bin" ContentType="application/vnd.openxmlformats-officedocument.oleObject"/>
  <Override PartName="/ppt/embeddings/oleObject32.bin" ContentType="application/vnd.openxmlformats-officedocument.oleObject"/>
  <Override PartName="/ppt/embeddings/oleObject33.bin" ContentType="application/vnd.openxmlformats-officedocument.oleObject"/>
  <Override PartName="/ppt/embeddings/oleObject6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9068-3F39-4328-A6DC-14DF220E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B488-6A5E-4DB8-B9D3-A319549B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FF4A-1D3F-41E2-90DB-CAD98FBC7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CF33-902C-4878-99C2-17031D072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2EE5-5836-4F33-9956-36ADAE62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0DDD-5906-4C9C-AAAC-F65DD2DA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4B9D-FC16-49FC-A2A5-0A5763F6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18DD-5A8C-4E41-BD17-4EB9ABF6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9D63-8D62-40A3-B60F-42A81367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0389-FEA8-4685-9AA3-B50A9A58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0E58-E778-45F1-AD75-E4F7EDB6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C509-15C0-4A22-9D82-3AB829DB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8675-4093-4A15-8087-138030CC08E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8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8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9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9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9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9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9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9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9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9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9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9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9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9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7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9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8.wmf"/><Relationship Id="rId6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05120" y="990720"/>
            <a:ext cx="60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</a:rPr>
              <a:t>扇形统计图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342900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629400" y="59436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7120" y="5867280"/>
            <a:ext cx="213336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2007   12    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914400" y="4572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绘制扇形统计图的一般步骤是什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1143000"/>
            <a:ext cx="25765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画一个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81080" y="1828800"/>
            <a:ext cx="30481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求各部分比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81080" y="3048120"/>
            <a:ext cx="37195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根据度数画扇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81080" y="3657600"/>
            <a:ext cx="4419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填写成分名称，填写百分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81080" y="2438280"/>
            <a:ext cx="39481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计算各部分圆心角度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6680" y="44197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绘制扇形统计图时要写上标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49528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成分名称可以注在图上，也可以用图例表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914400" y="685800"/>
            <a:ext cx="38163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我们来调查一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1371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最喜欢的兴趣活动统计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00600" y="22096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制表日期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297180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49568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371600" y="2971800"/>
            <a:ext cx="6629400" cy="1523880"/>
            <a:chOff x="1371600" y="2971800"/>
            <a:chExt cx="6629400" cy="1523880"/>
          </a:xfrm>
        </p:grpSpPr>
        <p:sp>
          <p:nvSpPr>
            <p:cNvPr id="201" name=""/>
            <p:cNvSpPr/>
            <p:nvPr/>
          </p:nvSpPr>
          <p:spPr>
            <a:xfrm>
              <a:off x="1371600" y="2971800"/>
              <a:ext cx="662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71600" y="29718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001000" y="29718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71600" y="3733920"/>
              <a:ext cx="662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19520" y="29718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38480" y="29718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34120" y="29718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629400" y="29718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152388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38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7180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67080" y="3200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音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864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6520" y="495288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组合作：请绘制出扇形统计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38862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59280" y="41497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20000" y="4076640"/>
            <a:ext cx="5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 rot="20601600">
            <a:off x="198360" y="666720"/>
            <a:ext cx="3810240" cy="17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畅所欲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20" name=""/>
          <p:cNvSpPr/>
          <p:nvPr/>
        </p:nvSpPr>
        <p:spPr>
          <a:xfrm>
            <a:off x="2895480" y="228600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9933ff"/>
                </a:solidFill>
                <a:latin typeface="Times New Roman"/>
              </a:rPr>
              <a:t>谈谈本节课的收获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新宋体"/>
              </a:rPr>
              <a:t>作业：</a:t>
            </a:r>
            <a:br>
              <a:rPr sz="4800"/>
            </a:br>
            <a:r>
              <a:rPr b="1" lang="zh-CN" sz="4800" spc="-1" strike="noStrike">
                <a:solidFill>
                  <a:srgbClr val="6600ff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6600ff"/>
                </a:solidFill>
                <a:latin typeface="Arial"/>
                <a:ea typeface="经典行楷简"/>
              </a:rPr>
              <a:t>1</a:t>
            </a:r>
            <a:r>
              <a:rPr b="1" lang="zh-CN" sz="4800" spc="-1" strike="noStrike">
                <a:solidFill>
                  <a:srgbClr val="6600ff"/>
                </a:solidFill>
                <a:latin typeface="Arial"/>
                <a:ea typeface="经典行楷简"/>
              </a:rPr>
              <a:t>、课本上本节作业题</a:t>
            </a:r>
            <a:br>
              <a:rPr sz="4800"/>
            </a:br>
            <a:r>
              <a:rPr b="1" lang="zh-CN" sz="4800" spc="-1" strike="noStrike">
                <a:solidFill>
                  <a:srgbClr val="6600ff"/>
                </a:solidFill>
                <a:latin typeface="Arial"/>
                <a:ea typeface="经典行楷简"/>
              </a:rPr>
              <a:t>      </a:t>
            </a:r>
            <a:r>
              <a:rPr b="1" lang="zh-CN" sz="4800" spc="-1" strike="noStrike">
                <a:solidFill>
                  <a:srgbClr val="6600ff"/>
                </a:solidFill>
                <a:latin typeface="Arial"/>
                <a:ea typeface="经典行楷简"/>
              </a:rPr>
              <a:t>2</a:t>
            </a:r>
            <a:r>
              <a:rPr b="1" lang="zh-CN" sz="4800" spc="-1" strike="noStrike">
                <a:solidFill>
                  <a:srgbClr val="6600ff"/>
                </a:solidFill>
                <a:latin typeface="Arial"/>
                <a:ea typeface="经典行楷简"/>
              </a:rPr>
              <a:t>、作业本上本节作业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057400" y="182880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Times New Roman"/>
              </a:rPr>
              <a:t>谢谢指教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96280" cy="7162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905120" y="2590920"/>
            <a:ext cx="58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谢谢指教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81680" y="6248520"/>
            <a:ext cx="205740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200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533520" y="0"/>
            <a:ext cx="9677520" cy="5791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H="1">
            <a:off x="4311360" y="2112840"/>
            <a:ext cx="290520" cy="2347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38520" y="2112840"/>
            <a:ext cx="289080" cy="2347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57913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摩天轮每相邻两根支杆形成的角的顶点都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579132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圆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6172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这样的角叫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圆心角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9280" y="1555920"/>
            <a:ext cx="835344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你是体育委员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准备组织全班同学去观看一场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球类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比赛。你准备组织观看什么比赛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81120" y="4762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想一想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95280" y="304920"/>
            <a:ext cx="6248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观察下面统计图，回答问题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066680" y="838080"/>
            <a:ext cx="6264360" cy="3240360"/>
            <a:chOff x="1066680" y="838080"/>
            <a:chExt cx="6264360" cy="3240360"/>
          </a:xfrm>
        </p:grpSpPr>
        <p:graphicFrame>
          <p:nvGraphicFramePr>
            <p:cNvPr id="57" name=""/>
            <p:cNvGraphicFramePr/>
            <p:nvPr/>
          </p:nvGraphicFramePr>
          <p:xfrm>
            <a:off x="1066680" y="838080"/>
            <a:ext cx="6264360" cy="32403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838080"/>
                      <a:ext cx="6264360" cy="324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" name=""/>
            <p:cNvSpPr/>
            <p:nvPr/>
          </p:nvSpPr>
          <p:spPr>
            <a:xfrm>
              <a:off x="3558960" y="2285280"/>
              <a:ext cx="11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乒乓球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32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94480" y="294192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其他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6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53400" y="320652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篮球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19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81640" y="268020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足球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25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82880" y="202356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排球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18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516120" y="509904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图中的各个扇形分别代表什么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55840" y="580536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所有的百分比之和是多少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11320" y="430704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哪种体育运动最受欢迎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53341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利用圆和扇形来表示总体和部分的关系的统计图叫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扇形统计图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0"/>
            <a:ext cx="361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想一想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8862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给刚才的统计图起个名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13920" y="45720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扇形统计图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066680" y="838080"/>
            <a:ext cx="6264360" cy="3048120"/>
            <a:chOff x="1066680" y="838080"/>
            <a:chExt cx="6264360" cy="3048120"/>
          </a:xfrm>
        </p:grpSpPr>
        <p:graphicFrame>
          <p:nvGraphicFramePr>
            <p:cNvPr id="72" name=""/>
            <p:cNvGraphicFramePr/>
            <p:nvPr/>
          </p:nvGraphicFramePr>
          <p:xfrm>
            <a:off x="1066680" y="838080"/>
            <a:ext cx="6264360" cy="30481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838080"/>
                      <a:ext cx="6264360" cy="304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" name=""/>
            <p:cNvSpPr/>
            <p:nvPr/>
          </p:nvSpPr>
          <p:spPr>
            <a:xfrm>
              <a:off x="3558960" y="2199600"/>
              <a:ext cx="11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乒乓球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32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94480" y="281700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其他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6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53400" y="306468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篮球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19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81640" y="257220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足球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25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82880" y="195444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排球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18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7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7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7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4000" y="2854440"/>
            <a:ext cx="4400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扇形统计图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41911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）扇形代表总体中的不同部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487692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）扇形的大小反映部分占总体的百分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7160" y="3505320"/>
            <a:ext cx="28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）圆代表总体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066680" y="0"/>
            <a:ext cx="6188040" cy="3048120"/>
            <a:chOff x="1066680" y="0"/>
            <a:chExt cx="6188040" cy="3048120"/>
          </a:xfrm>
        </p:grpSpPr>
        <p:graphicFrame>
          <p:nvGraphicFramePr>
            <p:cNvPr id="84" name=""/>
            <p:cNvGraphicFramePr/>
            <p:nvPr/>
          </p:nvGraphicFramePr>
          <p:xfrm>
            <a:off x="1066680" y="0"/>
            <a:ext cx="6188040" cy="30481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0"/>
                      <a:ext cx="6188040" cy="304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528360" y="1361520"/>
              <a:ext cx="113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乒乓球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32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59200" y="197892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其他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6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26400" y="222660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篮球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19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62560" y="173412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足球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25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62360" y="111636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排球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18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304920"/>
          <a:ext cx="893448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893448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 txBox="1"/>
          <p:nvPr/>
        </p:nvSpPr>
        <p:spPr>
          <a:xfrm rot="268200">
            <a:off x="456840" y="0"/>
            <a:ext cx="1682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66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合作学习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66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0"/>
            <a:ext cx="59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观察图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6—7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并回答下面的问题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304920"/>
          <a:ext cx="8934480" cy="461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04920"/>
                    <a:ext cx="893448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" name=""/>
          <p:cNvGrpSpPr/>
          <p:nvPr/>
        </p:nvGrpSpPr>
        <p:grpSpPr>
          <a:xfrm>
            <a:off x="3276720" y="1295280"/>
            <a:ext cx="2302920" cy="1952640"/>
            <a:chOff x="3276720" y="1295280"/>
            <a:chExt cx="2302920" cy="1952640"/>
          </a:xfrm>
        </p:grpSpPr>
        <p:sp>
          <p:nvSpPr>
            <p:cNvPr id="98" name=""/>
            <p:cNvSpPr/>
            <p:nvPr/>
          </p:nvSpPr>
          <p:spPr>
            <a:xfrm>
              <a:off x="3995640" y="1295280"/>
              <a:ext cx="79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21080" y="1582560"/>
              <a:ext cx="129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76720" y="2879640"/>
              <a:ext cx="100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59280" y="237456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5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395280" y="400536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这种快餐中，脂肪占百分之几？有多少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g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472428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这种快餐中，哪一种营养成份最多？哪一种最少？   最多的营养成份是最少的多少倍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78016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3)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表示蛋白质的扇形的圆心角是多少度？你是怎样计算的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1219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蛋白质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1600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碳水化合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38880" y="1981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脂肪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2362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维生素和矿物质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90720" y="2362320"/>
            <a:ext cx="7467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能直观、生动地反映各部分在总体中所占的比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82880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扇形统计图的特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52280" y="914400"/>
          <a:ext cx="8785440" cy="4151160"/>
        </p:xfrm>
        <a:graphic>
          <a:graphicData uri="http://schemas.openxmlformats.org/drawingml/2006/table">
            <a:tbl>
              <a:tblPr/>
              <a:tblGrid>
                <a:gridCol w="1224000"/>
                <a:gridCol w="1224000"/>
                <a:gridCol w="1224000"/>
                <a:gridCol w="1225440"/>
                <a:gridCol w="1224000"/>
                <a:gridCol w="1366920"/>
                <a:gridCol w="1297080"/>
              </a:tblGrid>
              <a:tr h="520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2003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年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星期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星期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星期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星期三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星期四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星期五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星期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72000" rIns="72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72000" rIns="72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72000" rIns="72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72000" rIns="72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72000" rIns="72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72000" rIns="72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250920" y="502920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请根据上表计算晴天、阴天、雨天的天数和它们各自占总天数的百分比（精确到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0.1%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3920" y="260280"/>
            <a:ext cx="8656560" cy="4797360"/>
            <a:chOff x="223920" y="260280"/>
            <a:chExt cx="8656560" cy="4797360"/>
          </a:xfrm>
        </p:grpSpPr>
        <p:sp>
          <p:nvSpPr>
            <p:cNvPr id="114" name=""/>
            <p:cNvSpPr/>
            <p:nvPr/>
          </p:nvSpPr>
          <p:spPr>
            <a:xfrm>
              <a:off x="223920" y="260280"/>
              <a:ext cx="504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某地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2003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年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月的气象资料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15" name=""/>
            <p:cNvGraphicFramePr/>
            <p:nvPr/>
          </p:nvGraphicFramePr>
          <p:xfrm>
            <a:off x="8217000" y="2060640"/>
            <a:ext cx="590400" cy="317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217000" y="2060640"/>
                      <a:ext cx="59040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7" name=""/>
            <p:cNvGraphicFramePr/>
            <p:nvPr/>
          </p:nvGraphicFramePr>
          <p:xfrm>
            <a:off x="8290080" y="2637000"/>
            <a:ext cx="590400" cy="317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290080" y="2637000"/>
                      <a:ext cx="590400" cy="31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9" name=""/>
            <p:cNvGraphicFramePr/>
            <p:nvPr/>
          </p:nvGraphicFramePr>
          <p:xfrm>
            <a:off x="8290080" y="3068640"/>
            <a:ext cx="590400" cy="317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90080" y="3068640"/>
                      <a:ext cx="59040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1" name=""/>
            <p:cNvGraphicFramePr/>
            <p:nvPr/>
          </p:nvGraphicFramePr>
          <p:xfrm>
            <a:off x="8290080" y="3645000"/>
            <a:ext cx="590400" cy="317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290080" y="3645000"/>
                      <a:ext cx="59040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3" name=""/>
            <p:cNvGraphicFramePr/>
            <p:nvPr/>
          </p:nvGraphicFramePr>
          <p:xfrm>
            <a:off x="6993000" y="2565360"/>
            <a:ext cx="590400" cy="317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993000" y="2565360"/>
                      <a:ext cx="59040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5" name=""/>
            <p:cNvGraphicFramePr/>
            <p:nvPr/>
          </p:nvGraphicFramePr>
          <p:xfrm>
            <a:off x="5697360" y="3573360"/>
            <a:ext cx="590760" cy="317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697360" y="3573360"/>
                      <a:ext cx="59076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" name=""/>
            <p:cNvGraphicFramePr/>
            <p:nvPr/>
          </p:nvGraphicFramePr>
          <p:xfrm>
            <a:off x="4473720" y="3645000"/>
            <a:ext cx="590400" cy="3175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473720" y="3645000"/>
                      <a:ext cx="59040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" name=""/>
            <p:cNvGraphicFramePr/>
            <p:nvPr/>
          </p:nvGraphicFramePr>
          <p:xfrm>
            <a:off x="3249720" y="3645000"/>
            <a:ext cx="590400" cy="3175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249720" y="3645000"/>
                      <a:ext cx="59040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1" name=""/>
            <p:cNvGraphicFramePr/>
            <p:nvPr/>
          </p:nvGraphicFramePr>
          <p:xfrm>
            <a:off x="2023920" y="3141720"/>
            <a:ext cx="590760" cy="3175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23920" y="3141720"/>
                      <a:ext cx="59076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" name=""/>
            <p:cNvGraphicFramePr/>
            <p:nvPr/>
          </p:nvGraphicFramePr>
          <p:xfrm>
            <a:off x="728640" y="3141720"/>
            <a:ext cx="590400" cy="3175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28640" y="3141720"/>
                      <a:ext cx="59040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" name=""/>
            <p:cNvGraphicFramePr/>
            <p:nvPr/>
          </p:nvGraphicFramePr>
          <p:xfrm>
            <a:off x="5624640" y="4149720"/>
            <a:ext cx="590400" cy="3175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624640" y="4149720"/>
                      <a:ext cx="59040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7" name=""/>
            <p:cNvGraphicFramePr/>
            <p:nvPr/>
          </p:nvGraphicFramePr>
          <p:xfrm>
            <a:off x="6993000" y="4149720"/>
            <a:ext cx="590400" cy="3175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993000" y="4149720"/>
                      <a:ext cx="59040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9" name=""/>
            <p:cNvGraphicFramePr/>
            <p:nvPr/>
          </p:nvGraphicFramePr>
          <p:xfrm>
            <a:off x="1952640" y="2637000"/>
            <a:ext cx="590400" cy="3171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1952640" y="2637000"/>
                      <a:ext cx="590400" cy="31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1" name=""/>
            <p:cNvGraphicFramePr/>
            <p:nvPr/>
          </p:nvGraphicFramePr>
          <p:xfrm>
            <a:off x="5697360" y="2492280"/>
            <a:ext cx="547920" cy="45576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5697360" y="2492280"/>
                      <a:ext cx="547920" cy="45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3" name=""/>
            <p:cNvGraphicFramePr/>
            <p:nvPr/>
          </p:nvGraphicFramePr>
          <p:xfrm>
            <a:off x="3249720" y="3068640"/>
            <a:ext cx="547560" cy="4557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3249720" y="3068640"/>
                      <a:ext cx="547560" cy="45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"/>
            <p:cNvGraphicFramePr/>
            <p:nvPr/>
          </p:nvGraphicFramePr>
          <p:xfrm>
            <a:off x="873000" y="4581360"/>
            <a:ext cx="547920" cy="45576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873000" y="4581360"/>
                      <a:ext cx="547920" cy="45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7" name=""/>
            <p:cNvGraphicFramePr/>
            <p:nvPr/>
          </p:nvGraphicFramePr>
          <p:xfrm>
            <a:off x="799920" y="4076640"/>
            <a:ext cx="547920" cy="45576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799920" y="4076640"/>
                      <a:ext cx="547920" cy="45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23920" y="4076640"/>
            <a:ext cx="547920" cy="45576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2023920" y="4076640"/>
                      <a:ext cx="547920" cy="45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1" name=""/>
            <p:cNvGraphicFramePr/>
            <p:nvPr/>
          </p:nvGraphicFramePr>
          <p:xfrm>
            <a:off x="7066080" y="3573360"/>
            <a:ext cx="547560" cy="45576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7066080" y="3573360"/>
                      <a:ext cx="547560" cy="45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3" name=""/>
            <p:cNvGraphicFramePr/>
            <p:nvPr/>
          </p:nvGraphicFramePr>
          <p:xfrm>
            <a:off x="2023920" y="4581360"/>
            <a:ext cx="503280" cy="476280"/>
          </p:xfrm>
          <a:graphic>
            <a:graphicData uri="http://schemas.openxmlformats.org/presentationml/2006/ole">
              <p:oleObj r:id="rId39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2023920" y="4581360"/>
                      <a:ext cx="50328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" name=""/>
            <p:cNvGraphicFramePr/>
            <p:nvPr/>
          </p:nvGraphicFramePr>
          <p:xfrm>
            <a:off x="799920" y="3573360"/>
            <a:ext cx="503280" cy="476280"/>
          </p:xfrm>
          <a:graphic>
            <a:graphicData uri="http://schemas.openxmlformats.org/presentationml/2006/ole">
              <p:oleObj r:id="rId41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42"/>
                    <a:stretch/>
                  </p:blipFill>
                  <p:spPr>
                    <a:xfrm>
                      <a:off x="799920" y="3573360"/>
                      <a:ext cx="50328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7" name=""/>
            <p:cNvGraphicFramePr/>
            <p:nvPr/>
          </p:nvGraphicFramePr>
          <p:xfrm>
            <a:off x="2097000" y="3573360"/>
            <a:ext cx="503280" cy="476280"/>
          </p:xfrm>
          <a:graphic>
            <a:graphicData uri="http://schemas.openxmlformats.org/presentationml/2006/ole">
              <p:oleObj r:id="rId43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44"/>
                    <a:stretch/>
                  </p:blipFill>
                  <p:spPr>
                    <a:xfrm>
                      <a:off x="2097000" y="3573360"/>
                      <a:ext cx="50328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"/>
            <p:cNvGraphicFramePr/>
            <p:nvPr/>
          </p:nvGraphicFramePr>
          <p:xfrm>
            <a:off x="873000" y="2492280"/>
            <a:ext cx="503280" cy="476280"/>
          </p:xfrm>
          <a:graphic>
            <a:graphicData uri="http://schemas.openxmlformats.org/presentationml/2006/ole">
              <p:oleObj r:id="rId45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46"/>
                    <a:stretch/>
                  </p:blipFill>
                  <p:spPr>
                    <a:xfrm>
                      <a:off x="873000" y="2492280"/>
                      <a:ext cx="50328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1" name=""/>
            <p:cNvGraphicFramePr/>
            <p:nvPr/>
          </p:nvGraphicFramePr>
          <p:xfrm>
            <a:off x="3249720" y="2492280"/>
            <a:ext cx="503280" cy="476280"/>
          </p:xfrm>
          <a:graphic>
            <a:graphicData uri="http://schemas.openxmlformats.org/presentationml/2006/ole">
              <p:oleObj r:id="rId47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48"/>
                    <a:stretch/>
                  </p:blipFill>
                  <p:spPr>
                    <a:xfrm>
                      <a:off x="3249720" y="2492280"/>
                      <a:ext cx="50328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3" name=""/>
            <p:cNvGraphicFramePr/>
            <p:nvPr/>
          </p:nvGraphicFramePr>
          <p:xfrm>
            <a:off x="4473720" y="2492280"/>
            <a:ext cx="502920" cy="476280"/>
          </p:xfrm>
          <a:graphic>
            <a:graphicData uri="http://schemas.openxmlformats.org/presentationml/2006/ole">
              <p:oleObj r:id="rId49" spid="">
                <p:embed/>
                <p:pic>
                  <p:nvPicPr>
                    <p:cNvPr id="164" name="" descr=""/>
                    <p:cNvPicPr/>
                    <p:nvPr/>
                  </p:nvPicPr>
                  <p:blipFill>
                    <a:blip r:embed="rId50"/>
                    <a:stretch/>
                  </p:blipFill>
                  <p:spPr>
                    <a:xfrm>
                      <a:off x="4473720" y="2492280"/>
                      <a:ext cx="50292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5" name=""/>
            <p:cNvGraphicFramePr/>
            <p:nvPr/>
          </p:nvGraphicFramePr>
          <p:xfrm>
            <a:off x="4473720" y="2997360"/>
            <a:ext cx="502920" cy="475920"/>
          </p:xfrm>
          <a:graphic>
            <a:graphicData uri="http://schemas.openxmlformats.org/presentationml/2006/ole">
              <p:oleObj r:id="rId51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52"/>
                    <a:stretch/>
                  </p:blipFill>
                  <p:spPr>
                    <a:xfrm>
                      <a:off x="4473720" y="2997360"/>
                      <a:ext cx="502920" cy="47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7" name=""/>
            <p:cNvGraphicFramePr/>
            <p:nvPr/>
          </p:nvGraphicFramePr>
          <p:xfrm>
            <a:off x="5697360" y="2997360"/>
            <a:ext cx="503280" cy="475920"/>
          </p:xfrm>
          <a:graphic>
            <a:graphicData uri="http://schemas.openxmlformats.org/presentationml/2006/ole">
              <p:oleObj r:id="rId53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54"/>
                    <a:stretch/>
                  </p:blipFill>
                  <p:spPr>
                    <a:xfrm>
                      <a:off x="5697360" y="2997360"/>
                      <a:ext cx="503280" cy="47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9" name=""/>
            <p:cNvGraphicFramePr/>
            <p:nvPr/>
          </p:nvGraphicFramePr>
          <p:xfrm>
            <a:off x="7066080" y="2997360"/>
            <a:ext cx="503280" cy="475920"/>
          </p:xfrm>
          <a:graphic>
            <a:graphicData uri="http://schemas.openxmlformats.org/presentationml/2006/ole">
              <p:oleObj r:id="rId55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56"/>
                    <a:stretch/>
                  </p:blipFill>
                  <p:spPr>
                    <a:xfrm>
                      <a:off x="7066080" y="2997360"/>
                      <a:ext cx="503280" cy="47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1" name=""/>
            <p:cNvGraphicFramePr/>
            <p:nvPr/>
          </p:nvGraphicFramePr>
          <p:xfrm>
            <a:off x="3249720" y="4076640"/>
            <a:ext cx="503280" cy="476280"/>
          </p:xfrm>
          <a:graphic>
            <a:graphicData uri="http://schemas.openxmlformats.org/presentationml/2006/ole">
              <p:oleObj r:id="rId57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58"/>
                    <a:stretch/>
                  </p:blipFill>
                  <p:spPr>
                    <a:xfrm>
                      <a:off x="3249720" y="4076640"/>
                      <a:ext cx="50328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3" name=""/>
            <p:cNvGraphicFramePr/>
            <p:nvPr/>
          </p:nvGraphicFramePr>
          <p:xfrm>
            <a:off x="4473720" y="4076640"/>
            <a:ext cx="502920" cy="476280"/>
          </p:xfrm>
          <a:graphic>
            <a:graphicData uri="http://schemas.openxmlformats.org/presentationml/2006/ole">
              <p:oleObj r:id="rId59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60"/>
                    <a:stretch/>
                  </p:blipFill>
                  <p:spPr>
                    <a:xfrm>
                      <a:off x="4473720" y="4076640"/>
                      <a:ext cx="50292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5" name=""/>
            <p:cNvGraphicFramePr/>
            <p:nvPr/>
          </p:nvGraphicFramePr>
          <p:xfrm>
            <a:off x="8361360" y="4076640"/>
            <a:ext cx="503280" cy="476280"/>
          </p:xfrm>
          <a:graphic>
            <a:graphicData uri="http://schemas.openxmlformats.org/presentationml/2006/ole">
              <p:oleObj r:id="rId61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62"/>
                    <a:stretch/>
                  </p:blipFill>
                  <p:spPr>
                    <a:xfrm>
                      <a:off x="8361360" y="4076640"/>
                      <a:ext cx="50328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7" name=""/>
            <p:cNvGraphicFramePr/>
            <p:nvPr/>
          </p:nvGraphicFramePr>
          <p:xfrm>
            <a:off x="7137360" y="447840"/>
            <a:ext cx="590400" cy="317160"/>
          </p:xfrm>
          <a:graphic>
            <a:graphicData uri="http://schemas.openxmlformats.org/presentationml/2006/ole">
              <p:oleObj r:id="rId63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64"/>
                    <a:stretch/>
                  </p:blipFill>
                  <p:spPr>
                    <a:xfrm>
                      <a:off x="7137360" y="447840"/>
                      <a:ext cx="590400" cy="31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9" name=""/>
            <p:cNvGraphicFramePr/>
            <p:nvPr/>
          </p:nvGraphicFramePr>
          <p:xfrm>
            <a:off x="5986440" y="333360"/>
            <a:ext cx="503280" cy="476280"/>
          </p:xfrm>
          <a:graphic>
            <a:graphicData uri="http://schemas.openxmlformats.org/presentationml/2006/ole">
              <p:oleObj r:id="rId65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66"/>
                    <a:stretch/>
                  </p:blipFill>
                  <p:spPr>
                    <a:xfrm>
                      <a:off x="5986440" y="333360"/>
                      <a:ext cx="50328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1" name=""/>
            <p:cNvGraphicFramePr/>
            <p:nvPr/>
          </p:nvGraphicFramePr>
          <p:xfrm>
            <a:off x="8318520" y="452520"/>
            <a:ext cx="547560" cy="455400"/>
          </p:xfrm>
          <a:graphic>
            <a:graphicData uri="http://schemas.openxmlformats.org/presentationml/2006/ole">
              <p:oleObj r:id="rId67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68"/>
                    <a:stretch/>
                  </p:blipFill>
                  <p:spPr>
                    <a:xfrm>
                      <a:off x="8318520" y="452520"/>
                      <a:ext cx="547560" cy="45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3" name=""/>
            <p:cNvSpPr/>
            <p:nvPr/>
          </p:nvSpPr>
          <p:spPr>
            <a:xfrm>
              <a:off x="5481720" y="260280"/>
              <a:ext cx="57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晴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61000" y="333360"/>
              <a:ext cx="57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阴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85000" y="333360"/>
              <a:ext cx="57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04920" y="586728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绘制扇形统计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3:11:17Z</dcterms:created>
  <dc:creator>  </dc:creator>
  <dc:description/>
  <dc:language>en-US</dc:language>
  <cp:lastModifiedBy>tenyears</cp:lastModifiedBy>
  <dcterms:modified xsi:type="dcterms:W3CDTF">2008-02-13T12:19:02Z</dcterms:modified>
  <cp:revision>24</cp:revision>
  <dc:subject/>
  <dc:title>PowerPoint 演示文稿</dc:title>
</cp:coreProperties>
</file>