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B2-7AF3-4D90-A294-1EED04DC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454-7B62-4F80-BC1F-AD70F39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33E-AA86-4D1A-8653-1A723137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98B-6F91-46C6-AB6A-B7CCB8D4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913D-F703-474E-B425-6464B05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649F-7C37-415A-9606-FE383F6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7695-50F0-40D2-952B-61DDB52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B93-F688-49CB-88FA-080AA1C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1E64-C657-4286-BC7A-8D85AEF2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63E2-5D87-491B-8C35-16489633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967-0A08-43DC-8B1C-FC5E728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AA5-6D88-4F29-9BFB-A3FEA3D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DA6D-E6CF-4169-9A0D-F67EA4F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110-6FDD-4BBA-9136-460CEDB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236-0434-4B51-A7DA-4A79FB5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F1C-0530-4FFA-8047-F13144AE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FFD-BE92-4F14-9126-1118795B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554-5DED-4DAC-A29D-290B7983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A2F-2ED1-4A8A-9EB9-89A7E64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0C7-D56F-4CF2-AF6B-D17B77B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BF2-3383-4081-B5E6-9A1C0B2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9BF-6281-4637-8E45-92545B8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65A-7E6A-4B69-9456-7B33D5A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A0D-9DCD-4DA2-9068-AE007B0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779-7F57-4395-81AD-599B4A83A2DF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D8D-41C2-4AF6-8FB8-07889FF8994D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3.xml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slide" Target="slide6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6.xml"/><Relationship Id="rId12" Type="http://schemas.openxmlformats.org/officeDocument/2006/relationships/image" Target="../media/image7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0" Type="http://schemas.openxmlformats.org/officeDocument/2006/relationships/image" Target="../media/image18.jpeg"/><Relationship Id="rId3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2" Type="http://schemas.openxmlformats.org/officeDocument/2006/relationships/image" Target="../media/image18.jpeg"/><Relationship Id="rId3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4" Type="http://schemas.openxmlformats.org/officeDocument/2006/relationships/image" Target="../media/image18.jpeg"/><Relationship Id="rId3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6" Type="http://schemas.openxmlformats.org/officeDocument/2006/relationships/image" Target="../media/image18.jpeg"/><Relationship Id="rId3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38" Type="http://schemas.openxmlformats.org/officeDocument/2006/relationships/image" Target="../media/image18.jpeg"/><Relationship Id="rId3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0" Type="http://schemas.openxmlformats.org/officeDocument/2006/relationships/image" Target="../media/image18.jpeg"/><Relationship Id="rId41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2" Type="http://schemas.openxmlformats.org/officeDocument/2006/relationships/image" Target="../media/image18.jpeg"/><Relationship Id="rId43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4" Type="http://schemas.openxmlformats.org/officeDocument/2006/relationships/image" Target="../media/image18.jpeg"/><Relationship Id="rId45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6" Type="http://schemas.openxmlformats.org/officeDocument/2006/relationships/image" Target="../media/image18.jpeg"/><Relationship Id="rId47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48" Type="http://schemas.openxmlformats.org/officeDocument/2006/relationships/image" Target="../media/image18.jpeg"/><Relationship Id="rId49" Type="http://schemas.openxmlformats.org/officeDocument/2006/relationships/hyperlink" Target="http://images.google.com/imgres?imgurl=www.coin-china.com/newbbs/zhu/upload/&#24247;&#29081;&#23453;&#28304;&#35797;&#38136;&#24403;&#21313;&#22411;&#22823;&#38065;.JPG_1202.JPG&amp;imgrefurl=http://www.coin-china.com/newbbs/zhu/showprint.asp%3Ftopic_id%3D9987%26forum_id%3D10&amp;h=732&amp;w=708&amp;sz=51&amp;tbnid=mRvTEc4HfK8J:&amp;tbnh=138&amp;tbnw=134&amp;start=241&amp;prev=/images%3Fq%3D%25E9%2592%25B1%25E5%25B8%2581%26start%3D240%26hl%3Den%26lr%3D%26ie%3DUTF-8%26sa%3DN" TargetMode="External"/><Relationship Id="rId50" Type="http://schemas.openxmlformats.org/officeDocument/2006/relationships/image" Target="../media/image18.jpeg"/><Relationship Id="rId51" Type="http://schemas.openxmlformats.org/officeDocument/2006/relationships/image" Target="../media/image18.jpeg"/><Relationship Id="rId5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205000"/>
            <a:ext cx="424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.3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鸡兔同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629400" y="617220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404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《孙子算经》下卷第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题“雉兔同笼”题为：“今有雉（鸡）兔同笼，上有三十五头，下有九十四足．问雉兔各几何？”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3"/>
          <a:srcRect l="-2586" t="9482" r="0" b="0"/>
          <a:stretch/>
        </p:blipFill>
        <p:spPr>
          <a:xfrm>
            <a:off x="2386080" y="1989000"/>
            <a:ext cx="2913120" cy="428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5724360" y="1989000"/>
            <a:ext cx="2833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705720" y="6172200"/>
            <a:ext cx="1726920" cy="50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68720" y="191628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“上有三十五头”的意思是什么？“下有九十四足”呢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5840" y="278136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你能根据（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）的数量关系列出方程吗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404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《孙子算经》下卷第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题“雉兔同笼”题为：“今有雉（鸡）兔同笼，上有三十五头，下有九十四足．问雉兔各几何？”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2268360" y="3618000"/>
            <a:ext cx="223704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>
            <a:lum bright="18000"/>
          </a:blip>
          <a:srcRect l="0" t="0" r="14267" b="4612"/>
          <a:stretch/>
        </p:blipFill>
        <p:spPr>
          <a:xfrm>
            <a:off x="6696000" y="400536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4788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59480" y="2133720"/>
            <a:ext cx="2684520" cy="388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1680" y="609588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0468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讨论一下如何解决这个问题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19640" y="1341360"/>
            <a:ext cx="3620880" cy="1668240"/>
            <a:chOff x="3419640" y="1341360"/>
            <a:chExt cx="3620880" cy="1668240"/>
          </a:xfrm>
        </p:grpSpPr>
        <p:sp>
          <p:nvSpPr>
            <p:cNvPr id="118" name=""/>
            <p:cNvSpPr/>
            <p:nvPr/>
          </p:nvSpPr>
          <p:spPr>
            <a:xfrm>
              <a:off x="4068360" y="134136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设有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只雉，有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只兔子，则有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419640" y="1898640"/>
                  <a:ext cx="259236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"/>
          <p:cNvGrpSpPr/>
          <p:nvPr/>
        </p:nvGrpSpPr>
        <p:grpSpPr>
          <a:xfrm>
            <a:off x="3534840" y="3141720"/>
            <a:ext cx="2514960" cy="1055520"/>
            <a:chOff x="3534840" y="3141720"/>
            <a:chExt cx="2514960" cy="1055520"/>
          </a:xfrm>
        </p:grpSpPr>
        <p:sp>
          <p:nvSpPr>
            <p:cNvPr id="121" name=""/>
            <p:cNvSpPr/>
            <p:nvPr/>
          </p:nvSpPr>
          <p:spPr>
            <a:xfrm>
              <a:off x="3534840" y="3357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可解得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643280" y="3141720"/>
                  <a:ext cx="140652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010280" y="6095880"/>
            <a:ext cx="1727280" cy="507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2000" y="36972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以绳测井．若将绳三折测之，绳多五尺；若将绳四折测之，绳多一尺．绳长、井深各几何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18280" y="3429000"/>
            <a:ext cx="3561840" cy="925560"/>
            <a:chOff x="4418280" y="3429000"/>
            <a:chExt cx="3561840" cy="925560"/>
          </a:xfrm>
        </p:grpSpPr>
        <p:sp>
          <p:nvSpPr>
            <p:cNvPr id="131" name=""/>
            <p:cNvSpPr/>
            <p:nvPr/>
          </p:nvSpPr>
          <p:spPr>
            <a:xfrm>
              <a:off x="4418280" y="3716280"/>
              <a:ext cx="15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① — ②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，得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6516720" y="3429000"/>
                  <a:ext cx="14634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932360" y="4149720"/>
            <a:ext cx="2951280" cy="1050840"/>
            <a:chOff x="4932360" y="4149720"/>
            <a:chExt cx="2951280" cy="105084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932360" y="4149720"/>
                  <a:ext cx="115236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804000" y="4437000"/>
                  <a:ext cx="107964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403240" y="5157720"/>
            <a:ext cx="23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将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=48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代入①，得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=1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05400" y="56610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所以绳长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尺，井深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尺．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31440" y="1557360"/>
            <a:ext cx="2955600" cy="2027160"/>
            <a:chOff x="4231440" y="1557360"/>
            <a:chExt cx="2955600" cy="2027160"/>
          </a:xfrm>
        </p:grpSpPr>
        <p:sp>
          <p:nvSpPr>
            <p:cNvPr id="139" name=""/>
            <p:cNvSpPr/>
            <p:nvPr/>
          </p:nvSpPr>
          <p:spPr>
            <a:xfrm>
              <a:off x="4231440" y="1557360"/>
              <a:ext cx="29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解：设绳长</a:t>
              </a:r>
              <a:r>
                <a:rPr b="1" i="1" lang="zh-CN" sz="2400" spc="-1" strike="noStrike">
                  <a:solidFill>
                    <a:srgbClr val="292929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尺，井深</a:t>
              </a:r>
              <a:r>
                <a:rPr b="1" i="1" lang="zh-CN" sz="2400" spc="-1" strike="noStrike">
                  <a:solidFill>
                    <a:srgbClr val="292929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292929"/>
                  </a:solidFill>
                  <a:latin typeface="Times New Roman"/>
                </a:rPr>
                <a:t>尺，则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356000" y="1990800"/>
                  <a:ext cx="1942920" cy="15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536520" y="2278080"/>
              <a:ext cx="447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29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29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971640" y="437508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2268360" y="3141720"/>
            <a:ext cx="16560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11140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720" y="25686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720" y="30258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720" y="3483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3520" y="3987720"/>
            <a:ext cx="1726920" cy="507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162920" y="6095880"/>
            <a:ext cx="1726920" cy="50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76720" y="836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今有牛五、羊二，直金十两．牛二、羊五，直金八两．牛、羊个直金几何？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2627280" y="2205000"/>
            <a:ext cx="2016000" cy="118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2340000" y="4086360"/>
            <a:ext cx="1944720" cy="157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4572000" y="400536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4932360" y="2133720"/>
            <a:ext cx="1871640" cy="1239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17"/>
          </p:cNvPr>
          <p:cNvPicPr/>
          <p:nvPr/>
        </p:nvPicPr>
        <p:blipFill>
          <a:blip r:embed="rId18"/>
          <a:srcRect l="0" t="10990" r="9837" b="1459"/>
          <a:stretch/>
        </p:blipFill>
        <p:spPr>
          <a:xfrm>
            <a:off x="6804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19"/>
          </p:cNvPr>
          <p:cNvPicPr/>
          <p:nvPr/>
        </p:nvPicPr>
        <p:blipFill>
          <a:blip r:embed="rId20"/>
          <a:srcRect l="0" t="10990" r="9837" b="1459"/>
          <a:stretch/>
        </p:blipFill>
        <p:spPr>
          <a:xfrm>
            <a:off x="6804000" y="263700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21"/>
          </p:cNvPr>
          <p:cNvPicPr/>
          <p:nvPr/>
        </p:nvPicPr>
        <p:blipFill>
          <a:blip r:embed="rId22"/>
          <a:srcRect l="0" t="10990" r="9837" b="1459"/>
          <a:stretch/>
        </p:blipFill>
        <p:spPr>
          <a:xfrm>
            <a:off x="730872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3"/>
          </p:cNvPr>
          <p:cNvPicPr/>
          <p:nvPr/>
        </p:nvPicPr>
        <p:blipFill>
          <a:blip r:embed="rId24"/>
          <a:srcRect l="0" t="10990" r="9837" b="1459"/>
          <a:stretch/>
        </p:blipFill>
        <p:spPr>
          <a:xfrm>
            <a:off x="7812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5"/>
          </p:cNvPr>
          <p:cNvPicPr/>
          <p:nvPr/>
        </p:nvPicPr>
        <p:blipFill>
          <a:blip r:embed="rId26"/>
          <a:srcRect l="0" t="10990" r="9837" b="1459"/>
          <a:stretch/>
        </p:blipFill>
        <p:spPr>
          <a:xfrm>
            <a:off x="824400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27"/>
          </p:cNvPr>
          <p:cNvPicPr/>
          <p:nvPr/>
        </p:nvPicPr>
        <p:blipFill>
          <a:blip r:embed="rId28"/>
          <a:srcRect l="0" t="10990" r="9837" b="1459"/>
          <a:stretch/>
        </p:blipFill>
        <p:spPr>
          <a:xfrm>
            <a:off x="864072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9"/>
          </p:cNvPr>
          <p:cNvPicPr/>
          <p:nvPr/>
        </p:nvPicPr>
        <p:blipFill>
          <a:blip r:embed="rId30"/>
          <a:srcRect l="0" t="10990" r="9837" b="1459"/>
          <a:stretch/>
        </p:blipFill>
        <p:spPr>
          <a:xfrm>
            <a:off x="7236000" y="2637000"/>
            <a:ext cx="502920" cy="50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1"/>
          </p:cNvPr>
          <p:cNvPicPr/>
          <p:nvPr/>
        </p:nvPicPr>
        <p:blipFill>
          <a:blip r:embed="rId32"/>
          <a:srcRect l="0" t="10990" r="9837" b="1459"/>
          <a:stretch/>
        </p:blipFill>
        <p:spPr>
          <a:xfrm>
            <a:off x="7667640" y="263700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3"/>
          </p:cNvPr>
          <p:cNvPicPr/>
          <p:nvPr/>
        </p:nvPicPr>
        <p:blipFill>
          <a:blip r:embed="rId34"/>
          <a:srcRect l="0" t="10990" r="9837" b="1459"/>
          <a:stretch/>
        </p:blipFill>
        <p:spPr>
          <a:xfrm>
            <a:off x="8101080" y="2638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5"/>
          </p:cNvPr>
          <p:cNvPicPr/>
          <p:nvPr/>
        </p:nvPicPr>
        <p:blipFill>
          <a:blip r:embed="rId36"/>
          <a:srcRect l="0" t="10990" r="9837" b="1459"/>
          <a:stretch/>
        </p:blipFill>
        <p:spPr>
          <a:xfrm>
            <a:off x="8640720" y="2708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7"/>
          </p:cNvPr>
          <p:cNvPicPr/>
          <p:nvPr/>
        </p:nvPicPr>
        <p:blipFill>
          <a:blip r:embed="rId38"/>
          <a:srcRect l="0" t="10990" r="9837" b="1459"/>
          <a:stretch/>
        </p:blipFill>
        <p:spPr>
          <a:xfrm>
            <a:off x="687708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9"/>
          </p:cNvPr>
          <p:cNvPicPr/>
          <p:nvPr/>
        </p:nvPicPr>
        <p:blipFill>
          <a:blip r:embed="rId40"/>
          <a:srcRect l="0" t="10990" r="9837" b="1459"/>
          <a:stretch/>
        </p:blipFill>
        <p:spPr>
          <a:xfrm>
            <a:off x="687708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1"/>
          </p:cNvPr>
          <p:cNvPicPr/>
          <p:nvPr/>
        </p:nvPicPr>
        <p:blipFill>
          <a:blip r:embed="rId42"/>
          <a:srcRect l="0" t="10990" r="9837" b="1459"/>
          <a:stretch/>
        </p:blipFill>
        <p:spPr>
          <a:xfrm>
            <a:off x="738180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43"/>
          </p:cNvPr>
          <p:cNvPicPr/>
          <p:nvPr/>
        </p:nvPicPr>
        <p:blipFill>
          <a:blip r:embed="rId44"/>
          <a:srcRect l="0" t="10990" r="9837" b="1459"/>
          <a:stretch/>
        </p:blipFill>
        <p:spPr>
          <a:xfrm>
            <a:off x="7885080" y="4294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45"/>
          </p:cNvPr>
          <p:cNvPicPr/>
          <p:nvPr/>
        </p:nvPicPr>
        <p:blipFill>
          <a:blip r:embed="rId46"/>
          <a:srcRect l="0" t="10990" r="9837" b="1459"/>
          <a:stretch/>
        </p:blipFill>
        <p:spPr>
          <a:xfrm>
            <a:off x="730872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47"/>
          </p:cNvPr>
          <p:cNvPicPr/>
          <p:nvPr/>
        </p:nvPicPr>
        <p:blipFill>
          <a:blip r:embed="rId48"/>
          <a:srcRect l="0" t="10990" r="9837" b="1459"/>
          <a:stretch/>
        </p:blipFill>
        <p:spPr>
          <a:xfrm>
            <a:off x="774072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49"/>
          </p:cNvPr>
          <p:cNvPicPr/>
          <p:nvPr/>
        </p:nvPicPr>
        <p:blipFill>
          <a:blip r:embed="rId50"/>
          <a:srcRect l="0" t="10990" r="9837" b="1459"/>
          <a:stretch/>
        </p:blipFill>
        <p:spPr>
          <a:xfrm>
            <a:off x="8244000" y="4797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1"/>
          <a:srcRect l="0" t="10990" r="9837" b="1459"/>
          <a:stretch/>
        </p:blipFill>
        <p:spPr>
          <a:xfrm>
            <a:off x="8388360" y="4292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2:32:25Z</dcterms:created>
  <dc:creator> </dc:creator>
  <dc:description/>
  <dc:language>en-US</dc:language>
  <cp:lastModifiedBy>微软用户</cp:lastModifiedBy>
  <dcterms:modified xsi:type="dcterms:W3CDTF">2008-02-18T02:55:07Z</dcterms:modified>
  <cp:revision>8</cp:revision>
  <dc:subject/>
  <dc:title>PowerPoint 演示文稿</dc:title>
</cp:coreProperties>
</file>