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whoosh.wav" ContentType="audio/x-wav"/>
  <Override PartName="/ppt/media/image22.wmf" ContentType="image/x-wmf"/>
  <Override PartName="/ppt/media/image19.png" ContentType="image/png"/>
  <Override PartName="/ppt/media/image4.png" ContentType="image/png"/>
  <Override PartName="/ppt/media/image12.wmf" ContentType="image/x-wmf"/>
  <Override PartName="/ppt/media/chimes.wav" ContentType="audio/x-wav"/>
  <Override PartName="/ppt/media/image7.wmf" ContentType="image/x-wmf"/>
  <Override PartName="/ppt/media/image8.png" ContentType="image/png"/>
  <Override PartName="/ppt/media/image16.wmf" ContentType="image/x-wmf"/>
  <Override PartName="/ppt/media/image17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29.gif" ContentType="image/gif"/>
  <Override PartName="/ppt/media/image25.wmf" ContentType="image/x-wmf"/>
  <Override PartName="/ppt/media/image26.wmf" ContentType="image/x-wmf"/>
  <Override PartName="/ppt/media/image27.wmf" ContentType="image/x-wmf"/>
  <Override PartName="/ppt/media/image6.wmf" ContentType="image/x-wmf"/>
  <Override PartName="/ppt/media/image11.png" ContentType="image/png"/>
  <Override PartName="/ppt/media/image3.gif" ContentType="image/gif"/>
  <Override PartName="/ppt/media/camera.wav" ContentType="audio/x-wav"/>
  <Override PartName="/ppt/media/image2.gif" ContentType="image/gif"/>
  <Override PartName="/ppt/media/image13.wmf" ContentType="image/x-wmf"/>
  <Override PartName="/ppt/media/image1.png" ContentType="image/png"/>
  <Override PartName="/ppt/media/image14.png" ContentType="image/png"/>
  <Override PartName="/ppt/media/image9.png" ContentType="image/png"/>
  <Override PartName="/ppt/media/cashreg.wav" ContentType="audio/x-wav"/>
  <Override PartName="/ppt/media/image15.gif" ContentType="image/gif"/>
  <Override PartName="/ppt/media/image20.wmf" ContentType="image/x-wmf"/>
  <Override PartName="/ppt/media/image18.png" ContentType="image/png"/>
  <Override PartName="/ppt/media/type.wav" ContentType="audio/x-wav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682-C5DD-4831-932D-123AF1F5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21BD-B8C9-4DDE-85B8-7F177FAC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EBB-4669-4778-BDF8-13232898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CE9-B67C-47BE-B197-0C83CD90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D2A0-B453-4DAC-8E18-6EC99AB0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6BBE-399B-4DB4-9A86-FB32106F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340B-7FFC-4878-9752-38E6AD85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6CAC-36A5-4E06-A699-5C6DE86C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EA37-A5DC-422E-82BD-98B10DBA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F022-DC3C-4505-AA73-492FC241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89F7-F941-4E44-AAAF-4904F22E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D0F-5331-42F4-B3F9-953026DC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CFFB-2BAA-4F05-A072-7C568CFF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864F-209F-4926-A4C6-8A36D238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F3B1-E652-4E54-BAE4-7B95AF90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C6A0-C165-4B5F-9D24-E8789323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3742-E858-4A73-B7DD-88E0AC6B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01E-C296-4D96-9677-B142AF9B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3D0-648F-4CD9-BD3B-ED774488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30D-51E5-4D8E-A1F3-3A2B58BF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8D9-A546-4BA8-B2EA-19B08876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EACA-1F67-4310-BFE0-5509EB59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F3DA-CBEB-4045-950A-C32F6B89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E08-5943-4C4B-AA03-5FF95CF7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0970-4D4C-495C-AF9E-63F0F99BBFB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13ED-C88E-493E-8D9D-70F27518BE6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type.wav"/><Relationship Id="rId24" Type="http://schemas.openxmlformats.org/officeDocument/2006/relationships/audio" Target="../media/type.wav"/><Relationship Id="rId2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chimes.wav"/><Relationship Id="rId7" Type="http://schemas.openxmlformats.org/officeDocument/2006/relationships/audio" Target="../media/whoosh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Arial"/>
              </a:rPr>
              <a:t>北师大版</a:t>
            </a:r>
            <a:r>
              <a:rPr b="1" lang="zh-CN" sz="2800" spc="-1" strike="noStrike">
                <a:solidFill>
                  <a:srgbClr val="00ff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ffff"/>
                </a:solidFill>
                <a:latin typeface="Arial"/>
              </a:rPr>
              <a:t>年级数学第七章　二元一次方程组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076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隶书"/>
                <a:ea typeface="隶书"/>
              </a:rPr>
              <a:t>鸡 兔 同 笼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28600" y="51814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05120" y="3962520"/>
            <a:ext cx="5943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819520" y="5562720"/>
            <a:ext cx="3314520" cy="942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welcome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963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二、选择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、甲、乙两人赛跑，若乙先跑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米，甲跑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秒即可追上乙；若乙先跑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秒，则甲跑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秒就可追上乙。设甲速为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米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秒，乙速为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米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秒，则可列方程组为（　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　　       　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B                    C                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、某车间有工人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54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人，每人平均每天加工轴杆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个或轴承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个，一个轴杆与两个轴承配成一套。若分配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个工人加工轴杆，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个工人加工轴承，正好使每天加工的产品成套，那么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的值是（　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    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 B     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C    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66680" y="2967120"/>
            <a:ext cx="1816200" cy="923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124080" y="3044880"/>
            <a:ext cx="1743120" cy="768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105520" y="3009960"/>
            <a:ext cx="167616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391520" y="2971800"/>
            <a:ext cx="1752480" cy="890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800600" y="28195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23623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25780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1219320" y="5638680"/>
            <a:ext cx="1523880" cy="803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5181480" y="5638680"/>
            <a:ext cx="1676520" cy="827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7391520" y="5638680"/>
            <a:ext cx="1752480" cy="857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3276720" y="5715000"/>
            <a:ext cx="160020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3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3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3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3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0" y="2388960"/>
            <a:ext cx="86868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</a:rPr>
              <a:t>今有牛五、羊二，直金十两。牛二、羊五，直金八两。牛、羊各值几何？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5840" y="228600"/>
            <a:ext cx="15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加 油 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295280"/>
            <a:ext cx="431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黑体"/>
              </a:rPr>
              <a:t>列方程组解古算题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题目大意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头牛、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只羊共价值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两“金”；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头牛、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只羊共价值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两“金”。问每头牛、每只羊各价值多少“金”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7010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374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Arial"/>
                <a:ea typeface="黑体"/>
              </a:rPr>
              <a:t>小     结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列方程组解应用题应注意的问题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ffff"/>
                </a:solidFill>
                <a:latin typeface="Times New Roman"/>
              </a:rPr>
              <a:t>、设出两个未知数；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ffff"/>
                </a:solidFill>
                <a:latin typeface="Times New Roman"/>
              </a:rPr>
              <a:t>、找出两个等量关系；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ffff"/>
                </a:solidFill>
                <a:latin typeface="Times New Roman"/>
              </a:rPr>
              <a:t>、列出两个方程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09520" y="609120"/>
            <a:ext cx="388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黑体"/>
              </a:rPr>
              <a:t>想 一 想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6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　　    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某商场计划拨款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万元从厂家购进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台电视机，已知该厂家生产三种不同型号的电视机，出厂价分别为：甲种每台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1500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元，乙种每台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2100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元，丙种每台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2500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元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）若商场同时购进其中两种不同型号电视机共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台，用去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万元请你研究一下商场的进货方案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）若商场销售一台甲种电视机可获利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150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元，销售一台乙种电视机可获利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元，销售一台丙种电视机可获利</a:t>
            </a: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250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元。在同时购进两种不同型号电视机的方案中，为使销售时获利最多，你选择哪种进货方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148608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Arial"/>
                <a:ea typeface="黑体"/>
              </a:rPr>
              <a:t>作       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1532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课本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P195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　　习题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7.4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　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、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5438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898560"/>
            <a:ext cx="7467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隶书"/>
                <a:ea typeface="隶书"/>
              </a:rPr>
              <a:t>祝各位同学：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8000" spc="-1" strike="noStrike">
                <a:solidFill>
                  <a:srgbClr val="ffff00"/>
                </a:solidFill>
                <a:latin typeface="隶书"/>
                <a:ea typeface="隶书"/>
              </a:rPr>
              <a:t>学习进步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05040" y="38098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再   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49528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</a:rPr>
              <a:t>2004.12.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25905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华文新魏"/>
              </a:rPr>
              <a:t>今有鸡兔同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华文新魏"/>
              </a:rPr>
              <a:t>上有三十五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华文新魏"/>
              </a:rPr>
              <a:t>下有九十四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华文新魏"/>
              </a:rPr>
              <a:t>问鸡兔各几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952880" y="457200"/>
            <a:ext cx="3505320" cy="4342680"/>
            <a:chOff x="4952880" y="457200"/>
            <a:chExt cx="3505320" cy="4342680"/>
          </a:xfrm>
        </p:grpSpPr>
        <p:grpSp>
          <p:nvGrpSpPr>
            <p:cNvPr id="95" name=""/>
            <p:cNvGrpSpPr/>
            <p:nvPr/>
          </p:nvGrpSpPr>
          <p:grpSpPr>
            <a:xfrm>
              <a:off x="4952880" y="457200"/>
              <a:ext cx="3375720" cy="4342680"/>
              <a:chOff x="4952880" y="457200"/>
              <a:chExt cx="3375720" cy="4342680"/>
            </a:xfrm>
          </p:grpSpPr>
          <p:sp>
            <p:nvSpPr>
              <p:cNvPr id="96" name=""/>
              <p:cNvSpPr/>
              <p:nvPr/>
            </p:nvSpPr>
            <p:spPr>
              <a:xfrm>
                <a:off x="4952880" y="3822840"/>
                <a:ext cx="3375720" cy="97704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59520" y="1216080"/>
                <a:ext cx="0" cy="336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260760" y="1434240"/>
                <a:ext cx="0" cy="336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12280" y="1434240"/>
                <a:ext cx="0" cy="336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295400" y="1434240"/>
                <a:ext cx="0" cy="336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708320" y="1324080"/>
                <a:ext cx="0" cy="336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53200" y="1216080"/>
                <a:ext cx="0" cy="336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502960" y="1324080"/>
                <a:ext cx="0" cy="336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47840" y="1434240"/>
                <a:ext cx="0" cy="336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52880" y="998280"/>
                <a:ext cx="0" cy="336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28600" y="890640"/>
                <a:ext cx="0" cy="336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952880" y="457200"/>
                <a:ext cx="3375720" cy="97704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6179760" y="2627640"/>
              <a:ext cx="1045440" cy="178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5249160" y="2923920"/>
              <a:ext cx="1096560" cy="178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7439760" y="2627640"/>
              <a:ext cx="1018440" cy="19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 flipH="1">
              <a:off x="5614200" y="2035800"/>
              <a:ext cx="104580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 flipH="1">
              <a:off x="6729120" y="2530080"/>
              <a:ext cx="1018440" cy="1958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3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Arial"/>
                <a:ea typeface="黑体"/>
              </a:rPr>
              <a:t>鸡兔同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今有鸡兔同笼，上有三十五头，下有九十四足，问鸡兔各几何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1333440" cy="1305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42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880" y="3733920"/>
            <a:ext cx="76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）“上有三十五头”的意思是什么？“下有九十四足”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66ff99"/>
                </a:solidFill>
                <a:latin typeface="宋体"/>
              </a:rPr>
              <a:t>今有鸡兔同笼，上有三十五头，下有九十四足，问鸡兔各几何？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73204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99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66ff99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66ff99"/>
                </a:solidFill>
                <a:latin typeface="宋体"/>
              </a:rPr>
              <a:t>）题中有哪两个等量关系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99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62040" y="3733920"/>
            <a:ext cx="6019920" cy="1969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333440" cy="1305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905600" y="304920"/>
            <a:ext cx="12384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14320" y="1142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今有鸡兔同笼，上有三十五头，下有九十四足，问鸡兔各几何？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）怎样设未知数？设几个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905600" y="304920"/>
            <a:ext cx="1238400" cy="142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333440" cy="1305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30440" y="3429000"/>
            <a:ext cx="58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解：设鸡有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x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只，兔有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今有鸡兔同笼，上有三十五头，下有九十四足，问鸡兔各几何？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）你能列出方程组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333440" cy="1305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905600" y="304920"/>
            <a:ext cx="1238400" cy="1428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723960" y="2798640"/>
            <a:ext cx="3848040" cy="1258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029200" y="2722680"/>
            <a:ext cx="3581280" cy="131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19040" y="40384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）你能解决这个有趣的问题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495288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(2)-(1)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，得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y=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y=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4876920"/>
            <a:ext cx="312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将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y=1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代入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得：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x=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75000" y="6067440"/>
            <a:ext cx="33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所以鸡有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23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只，兔有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12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只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417160" y="334476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401320" y="259092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4343400" cy="18162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ffff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00ffff"/>
                </a:solidFill>
                <a:latin typeface="黑体"/>
                <a:ea typeface="黑体"/>
              </a:rPr>
              <a:t>以绳测井。若将绳三折测之，绳多五尺；若将绳四折测之，绳多一尺，绳长、井深各几何？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080" y="220968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解：设绳长为</a:t>
            </a:r>
            <a:r>
              <a:rPr b="1" lang="en-GB" sz="3200" spc="-1" strike="noStrike">
                <a:solidFill>
                  <a:srgbClr val="ffff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尺，井深为</a:t>
            </a:r>
            <a:r>
              <a:rPr b="1" lang="en-GB" sz="3200" spc="-1" strike="noStrike">
                <a:solidFill>
                  <a:srgbClr val="ffff00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尺，据题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86400" y="2819520"/>
            <a:ext cx="2276640" cy="1828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-131040" y="4648320"/>
            <a:ext cx="47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(1)-(2)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，得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905120" y="5257800"/>
            <a:ext cx="175572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5105520"/>
            <a:ext cx="1219320" cy="965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248520" y="5334120"/>
            <a:ext cx="1380960" cy="466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09480" y="6019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将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x=48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代入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(1),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得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y=1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41800" y="6019920"/>
            <a:ext cx="31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所以绳长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48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尺，井深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11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09200" y="29908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5040" y="37339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90720" y="4800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解这个方程组得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5867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答：绳长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48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尺，井深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11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419720" y="4572000"/>
            <a:ext cx="2514600" cy="1219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28600" y="2759040"/>
            <a:ext cx="4343400" cy="1339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812960" y="601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ffff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00ffff"/>
                </a:solidFill>
                <a:latin typeface="黑体"/>
                <a:ea typeface="黑体"/>
              </a:rPr>
              <a:t>以绳测井。若将绳三折测之，绳多五尺；若将绳四折测之，绳多一尺，绳长、井深各几何？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03120" y="190512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解：设绳长为</a:t>
            </a:r>
            <a:r>
              <a:rPr b="1" lang="en-GB" sz="3200" spc="-1" strike="noStrike">
                <a:solidFill>
                  <a:srgbClr val="ffff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尺，井深为</a:t>
            </a:r>
            <a:r>
              <a:rPr b="1" lang="en-GB" sz="3200" spc="-1" strike="noStrike">
                <a:solidFill>
                  <a:srgbClr val="ffff00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尺，据题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257800" y="2700360"/>
            <a:ext cx="27813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Arial"/>
              </a:rPr>
              <a:t>基 础 题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一、填空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、设甲数为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x</a:t>
            </a: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，乙数为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y</a:t>
            </a: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，则“甲数的　与乙数的　　的和是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15”</a:t>
            </a: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，列出方程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            </a:t>
            </a: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、小刚有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角硬币和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元硬币各若干枚，币值共有六元五角，设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角有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x</a:t>
            </a: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枚，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元有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y</a:t>
            </a: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枚，列出方程为：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___________</a:t>
            </a: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33520" y="3124080"/>
            <a:ext cx="3047760" cy="990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334120" y="5791320"/>
            <a:ext cx="2315880" cy="685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077320" y="2057400"/>
            <a:ext cx="409320" cy="771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3048120" y="2666880"/>
            <a:ext cx="438120" cy="762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3962520"/>
            <a:ext cx="2362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6:17:33Z</dcterms:created>
  <dc:creator> </dc:creator>
  <dc:description/>
  <dc:language>en-US</dc:language>
  <cp:lastModifiedBy>耿昌明</cp:lastModifiedBy>
  <dcterms:modified xsi:type="dcterms:W3CDTF">2005-12-20T00:59:14Z</dcterms:modified>
  <cp:revision>39</cp:revision>
  <dc:subject/>
  <dc:title>第七章　二元一次方程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