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BF71-847A-4E1E-8060-B2715E45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255-51DD-4C11-8323-8A187F1B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5AC3-9053-43EC-BBAA-46A2B15B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2169-5796-4013-81B5-A5AB3B06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83CF-BC5C-48A9-9138-02B7211D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B9DB-8FF7-4836-856E-21F1EDB3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8A68-FC19-4A7F-AAE7-CBC6B2CD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DD1E-D8FB-4406-9533-269AC6D4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FDB9-52E2-40DF-AE9F-042C931D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E7F6-12E1-497C-9BFF-B3E6E3B5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8E76-5BB3-4129-879F-2A64CC46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CD2-5503-4A4A-BD33-C946D424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4B62-384C-4A5B-B103-874F41B6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A068-5EB4-4F07-82FB-20B7593D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7FA8-83B7-4AC2-AEC9-886BBEF5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8DC1-CDA4-4317-9867-57468ED1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EDE7-4B0A-402C-BEEC-7E012B23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D507-0BD7-4E19-B923-E01A897C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E0D-3ED1-47FA-B4AD-323ADA06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CE5-EEC2-461D-9C19-7657A329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99EE-B241-407F-A09C-F87018D9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2E9-A2F1-4792-9839-DD6E715D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CA5-CD37-4FF1-A9A6-8199961F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C07-0845-4791-A1D9-A54FAA74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1937-DB9A-4E36-BBEA-2C18242131DF}" type="slidenum">
              <a:rPr b="0" lang="zh-CN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E14E-7641-4E73-8FBD-70E8B65DD9FA}" type="slidenum">
              <a:rPr b="0" lang="zh-CN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7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7.png"/><Relationship Id="rId11" Type="http://schemas.openxmlformats.org/officeDocument/2006/relationships/slide" Target="slide3.xml"/><Relationship Id="rId12" Type="http://schemas.openxmlformats.org/officeDocument/2006/relationships/image" Target="../media/image4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slide" Target="slide4.xml"/><Relationship Id="rId7" Type="http://schemas.openxmlformats.org/officeDocument/2006/relationships/image" Target="../media/image5.png"/><Relationship Id="rId8" Type="http://schemas.openxmlformats.org/officeDocument/2006/relationships/slide" Target="slide5.xml"/><Relationship Id="rId9" Type="http://schemas.openxmlformats.org/officeDocument/2006/relationships/image" Target="../media/image6.png"/><Relationship Id="rId10" Type="http://schemas.openxmlformats.org/officeDocument/2006/relationships/slide" Target="slide6.xml"/><Relationship Id="rId11" Type="http://schemas.openxmlformats.org/officeDocument/2006/relationships/image" Target="../media/image7.png"/><Relationship Id="rId12" Type="http://schemas.openxmlformats.org/officeDocument/2006/relationships/slide" Target="slide4.xm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7.png"/><Relationship Id="rId11" Type="http://schemas.openxmlformats.org/officeDocument/2006/relationships/slide" Target="slide5.xml"/><Relationship Id="rId12" Type="http://schemas.openxmlformats.org/officeDocument/2006/relationships/image" Target="../media/image6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7.png"/><Relationship Id="rId11" Type="http://schemas.openxmlformats.org/officeDocument/2006/relationships/slide" Target="slide6.xml"/><Relationship Id="rId12" Type="http://schemas.openxmlformats.org/officeDocument/2006/relationships/image" Target="../media/image7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18" Type="http://schemas.openxmlformats.org/officeDocument/2006/relationships/image" Target="../media/image18.jpeg"/><Relationship Id="rId19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20" Type="http://schemas.openxmlformats.org/officeDocument/2006/relationships/image" Target="../media/image18.jpeg"/><Relationship Id="rId21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22" Type="http://schemas.openxmlformats.org/officeDocument/2006/relationships/image" Target="../media/image18.jpeg"/><Relationship Id="rId23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24" Type="http://schemas.openxmlformats.org/officeDocument/2006/relationships/image" Target="../media/image18.jpeg"/><Relationship Id="rId25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26" Type="http://schemas.openxmlformats.org/officeDocument/2006/relationships/image" Target="../media/image18.jpeg"/><Relationship Id="rId27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28" Type="http://schemas.openxmlformats.org/officeDocument/2006/relationships/image" Target="../media/image18.jpeg"/><Relationship Id="rId29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30" Type="http://schemas.openxmlformats.org/officeDocument/2006/relationships/image" Target="../media/image18.jpeg"/><Relationship Id="rId31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32" Type="http://schemas.openxmlformats.org/officeDocument/2006/relationships/image" Target="../media/image18.jpeg"/><Relationship Id="rId33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34" Type="http://schemas.openxmlformats.org/officeDocument/2006/relationships/image" Target="../media/image18.jpeg"/><Relationship Id="rId35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36" Type="http://schemas.openxmlformats.org/officeDocument/2006/relationships/image" Target="../media/image18.jpeg"/><Relationship Id="rId37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38" Type="http://schemas.openxmlformats.org/officeDocument/2006/relationships/image" Target="../media/image18.jpeg"/><Relationship Id="rId39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40" Type="http://schemas.openxmlformats.org/officeDocument/2006/relationships/image" Target="../media/image18.jpeg"/><Relationship Id="rId41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42" Type="http://schemas.openxmlformats.org/officeDocument/2006/relationships/image" Target="../media/image18.jpeg"/><Relationship Id="rId43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44" Type="http://schemas.openxmlformats.org/officeDocument/2006/relationships/image" Target="../media/image18.jpeg"/><Relationship Id="rId45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46" Type="http://schemas.openxmlformats.org/officeDocument/2006/relationships/image" Target="../media/image18.jpeg"/><Relationship Id="rId47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48" Type="http://schemas.openxmlformats.org/officeDocument/2006/relationships/image" Target="../media/image18.jpeg"/><Relationship Id="rId49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50" Type="http://schemas.openxmlformats.org/officeDocument/2006/relationships/image" Target="../media/image18.jpeg"/><Relationship Id="rId51" Type="http://schemas.openxmlformats.org/officeDocument/2006/relationships/image" Target="../media/image18.jpeg"/><Relationship Id="rId5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76720" y="2205000"/>
            <a:ext cx="424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7.3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鸡兔同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211140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58720" y="25686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8720" y="30258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8720" y="34830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3520" y="3987720"/>
            <a:ext cx="17269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211140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58720" y="25686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8720" y="30258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8720" y="34830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3520" y="398772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629400" y="6172200"/>
            <a:ext cx="1727280" cy="507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03640" y="40464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《孙子算经》下卷第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31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题“雉兔同笼”题为：“今有雉（鸡）兔同笼，上有三十五头，下有九十四足．问雉兔各几何？”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3"/>
          <a:srcRect l="-2586" t="9482" r="0" b="0"/>
          <a:stretch/>
        </p:blipFill>
        <p:spPr>
          <a:xfrm>
            <a:off x="2386080" y="1989000"/>
            <a:ext cx="2913120" cy="4283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4"/>
          <a:stretch/>
        </p:blipFill>
        <p:spPr>
          <a:xfrm>
            <a:off x="5724360" y="1989000"/>
            <a:ext cx="28339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211140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58720" y="25686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8720" y="30258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8720" y="34830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3520" y="398772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705720" y="6172200"/>
            <a:ext cx="1726920" cy="507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168720" y="191628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）“上有三十五头”的意思是什么？“下有九十四足”呢？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55840" y="2781360"/>
            <a:ext cx="56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）你能根据（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）的数量关系列出方程吗？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40464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《孙子算经》下卷第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31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题“雉兔同笼”题为：“今有雉（鸡）兔同笼，上有三十五头，下有九十四足．问雉兔各几何？”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2268360" y="3618000"/>
            <a:ext cx="2237040" cy="3240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4">
            <a:lum bright="18000"/>
          </a:blip>
          <a:srcRect l="0" t="0" r="14267" b="4612"/>
          <a:stretch/>
        </p:blipFill>
        <p:spPr>
          <a:xfrm>
            <a:off x="6696000" y="4005360"/>
            <a:ext cx="2448000" cy="1968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5"/>
          <a:stretch/>
        </p:blipFill>
        <p:spPr>
          <a:xfrm>
            <a:off x="4788000" y="4005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59480" y="2133720"/>
            <a:ext cx="2684520" cy="3889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211140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8720" y="25686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58720" y="30258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58720" y="34830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33520" y="398772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81680" y="6095880"/>
            <a:ext cx="1727280" cy="507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404680" y="62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讨论一下如何解决这个问题？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419640" y="1341360"/>
            <a:ext cx="3620880" cy="1668240"/>
            <a:chOff x="3419640" y="1341360"/>
            <a:chExt cx="3620880" cy="1668240"/>
          </a:xfrm>
        </p:grpSpPr>
        <p:sp>
          <p:nvSpPr>
            <p:cNvPr id="118" name=""/>
            <p:cNvSpPr/>
            <p:nvPr/>
          </p:nvSpPr>
          <p:spPr>
            <a:xfrm>
              <a:off x="4068360" y="1341360"/>
              <a:ext cx="29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设有</a:t>
              </a: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只雉，有</a:t>
              </a: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只兔子，则有</a:t>
              </a: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3419640" y="1898640"/>
                  <a:ext cx="2592360" cy="111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5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" name=""/>
          <p:cNvGrpSpPr/>
          <p:nvPr/>
        </p:nvGrpSpPr>
        <p:grpSpPr>
          <a:xfrm>
            <a:off x="3534840" y="3141720"/>
            <a:ext cx="2514960" cy="1055520"/>
            <a:chOff x="3534840" y="3141720"/>
            <a:chExt cx="2514960" cy="1055520"/>
          </a:xfrm>
        </p:grpSpPr>
        <p:sp>
          <p:nvSpPr>
            <p:cNvPr id="121" name=""/>
            <p:cNvSpPr/>
            <p:nvPr/>
          </p:nvSpPr>
          <p:spPr>
            <a:xfrm>
              <a:off x="3534840" y="33573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可解得</a:t>
              </a: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4643280" y="3141720"/>
                  <a:ext cx="140652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211140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58720" y="25686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8720" y="30258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8720" y="34830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3520" y="398772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010280" y="6095880"/>
            <a:ext cx="1727280" cy="507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2000" y="369720"/>
            <a:ext cx="57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1 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以绳测井．若将绳三折测之，绳多五尺；若将绳四折测之，绳多一尺．绳长、井深各几何？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418280" y="3429000"/>
            <a:ext cx="3561840" cy="925560"/>
            <a:chOff x="4418280" y="3429000"/>
            <a:chExt cx="3561840" cy="925560"/>
          </a:xfrm>
        </p:grpSpPr>
        <p:sp>
          <p:nvSpPr>
            <p:cNvPr id="131" name=""/>
            <p:cNvSpPr/>
            <p:nvPr/>
          </p:nvSpPr>
          <p:spPr>
            <a:xfrm>
              <a:off x="4418280" y="3716280"/>
              <a:ext cx="159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① — ②</a:t>
              </a: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，得</a:t>
              </a: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6516720" y="3429000"/>
                  <a:ext cx="146340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"/>
          <p:cNvGrpSpPr/>
          <p:nvPr/>
        </p:nvGrpSpPr>
        <p:grpSpPr>
          <a:xfrm>
            <a:off x="4932360" y="4149720"/>
            <a:ext cx="2951280" cy="1050840"/>
            <a:chOff x="4932360" y="4149720"/>
            <a:chExt cx="2951280" cy="1050840"/>
          </a:xfrm>
        </p:grpSpPr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4932360" y="4149720"/>
                  <a:ext cx="1152360" cy="105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6804000" y="4437000"/>
                  <a:ext cx="107964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"/>
          <p:cNvSpPr/>
          <p:nvPr/>
        </p:nvSpPr>
        <p:spPr>
          <a:xfrm>
            <a:off x="5403240" y="5157720"/>
            <a:ext cx="23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将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=48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代入①，得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=11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05400" y="56610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所以绳长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48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尺，井深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尺．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231440" y="1557360"/>
            <a:ext cx="2955600" cy="2027160"/>
            <a:chOff x="4231440" y="1557360"/>
            <a:chExt cx="2955600" cy="2027160"/>
          </a:xfrm>
        </p:grpSpPr>
        <p:sp>
          <p:nvSpPr>
            <p:cNvPr id="139" name=""/>
            <p:cNvSpPr/>
            <p:nvPr/>
          </p:nvSpPr>
          <p:spPr>
            <a:xfrm>
              <a:off x="4231440" y="1557360"/>
              <a:ext cx="295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解：设绳长</a:t>
              </a:r>
              <a:r>
                <a:rPr b="1" i="1" lang="zh-CN" sz="2400" spc="-1" strike="noStrike">
                  <a:solidFill>
                    <a:srgbClr val="292929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尺，井深</a:t>
              </a:r>
              <a:r>
                <a:rPr b="1" i="1" lang="zh-CN" sz="2400" spc="-1" strike="noStrike">
                  <a:solidFill>
                    <a:srgbClr val="292929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尺，则</a:t>
              </a: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4356000" y="1990800"/>
                  <a:ext cx="1942920" cy="15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x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5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1" name=""/>
            <p:cNvSpPr/>
            <p:nvPr/>
          </p:nvSpPr>
          <p:spPr>
            <a:xfrm>
              <a:off x="6536520" y="2278080"/>
              <a:ext cx="447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2929"/>
                  </a:solidFill>
                  <a:latin typeface="Times New Roman"/>
                </a:rPr>
                <a:t>①</a:t>
              </a: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2929"/>
                  </a:solidFill>
                  <a:latin typeface="Times New Roman"/>
                </a:rPr>
                <a:t>②</a:t>
              </a: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13"/>
          <a:stretch/>
        </p:blipFill>
        <p:spPr>
          <a:xfrm>
            <a:off x="971640" y="4375080"/>
            <a:ext cx="3311280" cy="2482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4"/>
          <a:stretch/>
        </p:blipFill>
        <p:spPr>
          <a:xfrm>
            <a:off x="2268360" y="3141720"/>
            <a:ext cx="165600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211140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58720" y="25686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8720" y="30258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8720" y="34830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3520" y="398772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162920" y="6095880"/>
            <a:ext cx="1726920" cy="507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76720" y="83664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今有牛五、羊二，直金十两．牛二、羊五，直金八两．牛、羊个直金几何？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3"/>
          <a:stretch/>
        </p:blipFill>
        <p:spPr>
          <a:xfrm>
            <a:off x="2627280" y="2205000"/>
            <a:ext cx="2016000" cy="1185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4"/>
          <a:stretch/>
        </p:blipFill>
        <p:spPr>
          <a:xfrm>
            <a:off x="2340000" y="4086360"/>
            <a:ext cx="1944720" cy="1571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5"/>
          <a:stretch/>
        </p:blipFill>
        <p:spPr>
          <a:xfrm>
            <a:off x="4572000" y="400536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6"/>
          <a:stretch/>
        </p:blipFill>
        <p:spPr>
          <a:xfrm>
            <a:off x="4932360" y="2133720"/>
            <a:ext cx="1871640" cy="1239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17"/>
          </p:cNvPr>
          <p:cNvPicPr/>
          <p:nvPr/>
        </p:nvPicPr>
        <p:blipFill>
          <a:blip r:embed="rId18"/>
          <a:srcRect l="0" t="10990" r="9837" b="1459"/>
          <a:stretch/>
        </p:blipFill>
        <p:spPr>
          <a:xfrm>
            <a:off x="6804000" y="2133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19"/>
          </p:cNvPr>
          <p:cNvPicPr/>
          <p:nvPr/>
        </p:nvPicPr>
        <p:blipFill>
          <a:blip r:embed="rId20"/>
          <a:srcRect l="0" t="10990" r="9837" b="1459"/>
          <a:stretch/>
        </p:blipFill>
        <p:spPr>
          <a:xfrm>
            <a:off x="6804000" y="2637000"/>
            <a:ext cx="503280" cy="502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21"/>
          </p:cNvPr>
          <p:cNvPicPr/>
          <p:nvPr/>
        </p:nvPicPr>
        <p:blipFill>
          <a:blip r:embed="rId22"/>
          <a:srcRect l="0" t="10990" r="9837" b="1459"/>
          <a:stretch/>
        </p:blipFill>
        <p:spPr>
          <a:xfrm>
            <a:off x="7308720" y="2133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23"/>
          </p:cNvPr>
          <p:cNvPicPr/>
          <p:nvPr/>
        </p:nvPicPr>
        <p:blipFill>
          <a:blip r:embed="rId24"/>
          <a:srcRect l="0" t="10990" r="9837" b="1459"/>
          <a:stretch/>
        </p:blipFill>
        <p:spPr>
          <a:xfrm>
            <a:off x="7812000" y="2133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25"/>
          </p:cNvPr>
          <p:cNvPicPr/>
          <p:nvPr/>
        </p:nvPicPr>
        <p:blipFill>
          <a:blip r:embed="rId26"/>
          <a:srcRect l="0" t="10990" r="9837" b="1459"/>
          <a:stretch/>
        </p:blipFill>
        <p:spPr>
          <a:xfrm>
            <a:off x="8244000" y="2133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27"/>
          </p:cNvPr>
          <p:cNvPicPr/>
          <p:nvPr/>
        </p:nvPicPr>
        <p:blipFill>
          <a:blip r:embed="rId28"/>
          <a:srcRect l="0" t="10990" r="9837" b="1459"/>
          <a:stretch/>
        </p:blipFill>
        <p:spPr>
          <a:xfrm>
            <a:off x="8640720" y="2133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29"/>
          </p:cNvPr>
          <p:cNvPicPr/>
          <p:nvPr/>
        </p:nvPicPr>
        <p:blipFill>
          <a:blip r:embed="rId30"/>
          <a:srcRect l="0" t="10990" r="9837" b="1459"/>
          <a:stretch/>
        </p:blipFill>
        <p:spPr>
          <a:xfrm>
            <a:off x="7236000" y="2637000"/>
            <a:ext cx="502920" cy="502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31"/>
          </p:cNvPr>
          <p:cNvPicPr/>
          <p:nvPr/>
        </p:nvPicPr>
        <p:blipFill>
          <a:blip r:embed="rId32"/>
          <a:srcRect l="0" t="10990" r="9837" b="1459"/>
          <a:stretch/>
        </p:blipFill>
        <p:spPr>
          <a:xfrm>
            <a:off x="7667640" y="2637000"/>
            <a:ext cx="503280" cy="502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33"/>
          </p:cNvPr>
          <p:cNvPicPr/>
          <p:nvPr/>
        </p:nvPicPr>
        <p:blipFill>
          <a:blip r:embed="rId34"/>
          <a:srcRect l="0" t="10990" r="9837" b="1459"/>
          <a:stretch/>
        </p:blipFill>
        <p:spPr>
          <a:xfrm>
            <a:off x="8101080" y="26384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35"/>
          </p:cNvPr>
          <p:cNvPicPr/>
          <p:nvPr/>
        </p:nvPicPr>
        <p:blipFill>
          <a:blip r:embed="rId36"/>
          <a:srcRect l="0" t="10990" r="9837" b="1459"/>
          <a:stretch/>
        </p:blipFill>
        <p:spPr>
          <a:xfrm>
            <a:off x="8640720" y="27082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37"/>
          </p:cNvPr>
          <p:cNvPicPr/>
          <p:nvPr/>
        </p:nvPicPr>
        <p:blipFill>
          <a:blip r:embed="rId38"/>
          <a:srcRect l="0" t="10990" r="9837" b="1459"/>
          <a:stretch/>
        </p:blipFill>
        <p:spPr>
          <a:xfrm>
            <a:off x="6877080" y="4294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39"/>
          </p:cNvPr>
          <p:cNvPicPr/>
          <p:nvPr/>
        </p:nvPicPr>
        <p:blipFill>
          <a:blip r:embed="rId40"/>
          <a:srcRect l="0" t="10990" r="9837" b="1459"/>
          <a:stretch/>
        </p:blipFill>
        <p:spPr>
          <a:xfrm>
            <a:off x="6877080" y="4797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41"/>
          </p:cNvPr>
          <p:cNvPicPr/>
          <p:nvPr/>
        </p:nvPicPr>
        <p:blipFill>
          <a:blip r:embed="rId42"/>
          <a:srcRect l="0" t="10990" r="9837" b="1459"/>
          <a:stretch/>
        </p:blipFill>
        <p:spPr>
          <a:xfrm>
            <a:off x="7381800" y="4294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43"/>
          </p:cNvPr>
          <p:cNvPicPr/>
          <p:nvPr/>
        </p:nvPicPr>
        <p:blipFill>
          <a:blip r:embed="rId44"/>
          <a:srcRect l="0" t="10990" r="9837" b="1459"/>
          <a:stretch/>
        </p:blipFill>
        <p:spPr>
          <a:xfrm>
            <a:off x="7885080" y="4294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45"/>
          </p:cNvPr>
          <p:cNvPicPr/>
          <p:nvPr/>
        </p:nvPicPr>
        <p:blipFill>
          <a:blip r:embed="rId46"/>
          <a:srcRect l="0" t="10990" r="9837" b="1459"/>
          <a:stretch/>
        </p:blipFill>
        <p:spPr>
          <a:xfrm>
            <a:off x="7308720" y="4797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47"/>
          </p:cNvPr>
          <p:cNvPicPr/>
          <p:nvPr/>
        </p:nvPicPr>
        <p:blipFill>
          <a:blip r:embed="rId48"/>
          <a:srcRect l="0" t="10990" r="9837" b="1459"/>
          <a:stretch/>
        </p:blipFill>
        <p:spPr>
          <a:xfrm>
            <a:off x="7740720" y="4797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49"/>
          </p:cNvPr>
          <p:cNvPicPr/>
          <p:nvPr/>
        </p:nvPicPr>
        <p:blipFill>
          <a:blip r:embed="rId50"/>
          <a:srcRect l="0" t="10990" r="9837" b="1459"/>
          <a:stretch/>
        </p:blipFill>
        <p:spPr>
          <a:xfrm>
            <a:off x="8244000" y="4797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1"/>
          <a:srcRect l="0" t="10990" r="9837" b="1459"/>
          <a:stretch/>
        </p:blipFill>
        <p:spPr>
          <a:xfrm>
            <a:off x="8388360" y="429264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02:32:25Z</dcterms:created>
  <dc:creator> </dc:creator>
  <dc:description/>
  <dc:language>en-US</dc:language>
  <cp:lastModifiedBy>微软用户</cp:lastModifiedBy>
  <dcterms:modified xsi:type="dcterms:W3CDTF">2008-02-18T02:55:07Z</dcterms:modified>
  <cp:revision>8</cp:revision>
  <dc:subject/>
  <dc:title>PowerPoint 演示文稿</dc:title>
</cp:coreProperties>
</file>