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CF8-7DDA-44FA-8952-2A56E689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64B-52CD-4F1A-86A8-998A8584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772-2612-419C-A919-7F3FF64F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A7B-66BB-4A26-A0A7-91DB1CD8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4FF8-BA91-431B-B2E2-5B348A38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2C8E-9E2C-4C5B-902E-3FD27542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6053-D9FB-4BF2-A1B9-3F1FBE2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CC97-859D-4C42-B3CE-E715A575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E8D4-8614-4F1A-8551-57A3ECA4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0789-4E0E-476F-9198-DA9B1B71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CCFE-D944-45D3-869F-8BED8A9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879-18A8-421C-BD3F-3B74DE1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0CE-A5B5-4BA9-A697-9B5B0CD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2B5A-9A86-4DF3-8C34-F488FC0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026F-C16E-4BA3-A378-1018CB98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5A81-D100-45E0-B3B9-D486E3F8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FE37-7A33-4047-8E78-1BD799A2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71B-AED6-48B6-A2D5-249C5A1E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9EA-2485-4690-BA73-3C0C89EF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F38-CD95-4B4B-B30B-918AABC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D49-FA5D-41A3-9572-5F529944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D52-DA7F-4196-BC5C-8EE895DB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D7F-FF0A-4B20-90C9-9E10158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64B-4110-47F7-8086-25AB76F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36CC-2EEB-4785-AE2E-17E370CABE4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B9F7-ADF9-42CC-954B-40709202D1B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mys.com/big8.htm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http://gmys.com/biao1big.htm" TargetMode="Externa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68360" y="1052640"/>
            <a:ext cx="475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生活中的负数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39200" y="169992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们是利用什么工具来测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温度的呢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6245" t="26097" r="34380" b="0"/>
          <a:stretch/>
        </p:blipFill>
        <p:spPr>
          <a:xfrm>
            <a:off x="6443640" y="2997360"/>
            <a:ext cx="18162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04640"/>
            <a:ext cx="7621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440240" y="1839960"/>
            <a:ext cx="8618400" cy="360"/>
            <a:chOff x="4440240" y="1839960"/>
            <a:chExt cx="8618400" cy="360"/>
          </a:xfrm>
        </p:grpSpPr>
        <p:sp>
          <p:nvSpPr>
            <p:cNvPr id="148" name=""/>
            <p:cNvSpPr/>
            <p:nvPr/>
          </p:nvSpPr>
          <p:spPr>
            <a:xfrm>
              <a:off x="4440240" y="1839960"/>
              <a:ext cx="86184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440240" y="1839960"/>
              <a:ext cx="8618400" cy="360"/>
              <a:chOff x="4440240" y="1839960"/>
              <a:chExt cx="8618400" cy="360"/>
            </a:xfrm>
          </p:grpSpPr>
          <p:sp>
            <p:nvSpPr>
              <p:cNvPr id="150" name=""/>
              <p:cNvSpPr/>
              <p:nvPr/>
            </p:nvSpPr>
            <p:spPr>
              <a:xfrm>
                <a:off x="4440240" y="1839960"/>
                <a:ext cx="8618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4440240" y="1839960"/>
                <a:ext cx="6835680" cy="360"/>
                <a:chOff x="4440240" y="1839960"/>
                <a:chExt cx="6835680" cy="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440240" y="1839960"/>
                  <a:ext cx="68356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440240" y="1839960"/>
                  <a:ext cx="6378480" cy="360"/>
                  <a:chOff x="4440240" y="1839960"/>
                  <a:chExt cx="6378480" cy="3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440240" y="1839960"/>
                    <a:ext cx="63784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440240" y="1839960"/>
                    <a:ext cx="63784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1093680" cy="6095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66960" y="18399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372360" y="0"/>
            <a:ext cx="1752480" cy="6629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95640" y="206064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763640" y="404640"/>
            <a:ext cx="51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温度计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温度计上的刻度是怎样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排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？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2133360" cy="6629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334120" y="762120"/>
            <a:ext cx="1908000" cy="6095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280" y="1484280"/>
            <a:ext cx="1008000" cy="1728720"/>
          </a:xfrm>
          <a:prstGeom prst="wedgeRoundRectCallout">
            <a:avLst>
              <a:gd name="adj1" fmla="val 135041"/>
              <a:gd name="adj2" fmla="val 65884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1960" y="14335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室内温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0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70028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读作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2637000"/>
            <a:ext cx="28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零摄氏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30481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508720" y="386064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科学家把</a:t>
            </a:r>
            <a:r>
              <a:rPr b="1" lang="zh-CN" sz="4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水结冰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温度定为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℃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490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2276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读作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3429000"/>
            <a:ext cx="396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正十四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摄氏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或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十四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摄氏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3068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2276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读作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342900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Times New Roman"/>
              </a:rPr>
              <a:t>负十</a:t>
            </a:r>
            <a:r>
              <a:rPr b="1" lang="zh-CN" sz="4800" spc="-1" strike="noStrike">
                <a:solidFill>
                  <a:srgbClr val="3399ff"/>
                </a:solidFill>
                <a:latin typeface="Arial"/>
              </a:rPr>
              <a:t>摄氏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3047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490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2276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读作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91040" y="33130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</a:rPr>
              <a:t>负</a:t>
            </a:r>
            <a:r>
              <a:rPr b="1" lang="zh-CN" sz="4800" spc="-1" strike="noStrike">
                <a:solidFill>
                  <a:srgbClr val="3399ff"/>
                </a:solidFill>
                <a:latin typeface="Times New Roman"/>
              </a:rPr>
              <a:t>十五</a:t>
            </a:r>
            <a:r>
              <a:rPr b="1" lang="zh-CN" sz="4800" spc="-1" strike="noStrike">
                <a:solidFill>
                  <a:srgbClr val="3399ff"/>
                </a:solidFill>
                <a:latin typeface="Arial"/>
              </a:rPr>
              <a:t>摄氏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3020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2556000" cy="4191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105520" y="380880"/>
            <a:ext cx="250956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909440" y="46483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-10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4400" y="46483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-15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2000" y="54100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哪个温度低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4572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＞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2556000" cy="4190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257800" y="304920"/>
            <a:ext cx="250992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85400" y="44197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-10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14400" y="43434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-15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19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＞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029200"/>
            <a:ext cx="16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-10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5029200"/>
            <a:ext cx="99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-15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5080" y="5791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哪个数大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952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＞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哪个城市的温度高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68360" y="1197000"/>
          <a:ext cx="3600720" cy="537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197000"/>
                    <a:ext cx="36007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508720" y="2852640"/>
            <a:ext cx="718920" cy="360360"/>
          </a:xfrm>
          <a:prstGeom prst="wedgeRoundRectCallout">
            <a:avLst>
              <a:gd name="adj1" fmla="val -109824"/>
              <a:gd name="adj2" fmla="val -17402"/>
              <a:gd name="adj3" fmla="val 16667"/>
            </a:avLst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8℃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2349360"/>
            <a:ext cx="719280" cy="360360"/>
          </a:xfrm>
          <a:prstGeom prst="wedgeRoundRectCallout">
            <a:avLst>
              <a:gd name="adj1" fmla="val 76490"/>
              <a:gd name="adj2" fmla="val 226212"/>
              <a:gd name="adj3" fmla="val 16667"/>
            </a:avLst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2℃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3789360"/>
            <a:ext cx="719280" cy="360360"/>
          </a:xfrm>
          <a:prstGeom prst="wedgeRoundRectCallout">
            <a:avLst>
              <a:gd name="adj1" fmla="val -106069"/>
              <a:gd name="adj2" fmla="val -106828"/>
              <a:gd name="adj3" fmla="val 16667"/>
            </a:avLst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0℃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3357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Times New Roman"/>
                <a:ea typeface="黑体"/>
              </a:rPr>
              <a:t>青岛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4292640"/>
            <a:ext cx="718920" cy="360360"/>
          </a:xfrm>
          <a:prstGeom prst="wedgeRoundRectCallout">
            <a:avLst>
              <a:gd name="adj1" fmla="val -164791"/>
              <a:gd name="adj2" fmla="val 4185"/>
              <a:gd name="adj3" fmla="val 16667"/>
            </a:avLst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℃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990720" y="3886200"/>
          <a:ext cx="7619760" cy="17240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69720"/>
                <a:gridCol w="1270080"/>
                <a:gridCol w="1270080"/>
              </a:tblGrid>
              <a:tr h="57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足球比赛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转学情况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帐目结算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上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三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下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五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143000" y="2163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要求：听清信息，独立思考，选择自己喜欢的方式，把听到的信息准确、简洁的表示出来。关键是让别人一眼就能明白你表示的意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1560" y="631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记录相反意义的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605680" y="24915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你能说几个正数和负数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80880" y="3429000"/>
          <a:ext cx="16732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429000"/>
                    <a:ext cx="1673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6858000" y="1905120"/>
            <a:ext cx="1600200" cy="1600200"/>
            <a:chOff x="6858000" y="1905120"/>
            <a:chExt cx="1600200" cy="1600200"/>
          </a:xfrm>
        </p:grpSpPr>
        <p:sp>
          <p:nvSpPr>
            <p:cNvPr id="221" name=""/>
            <p:cNvSpPr/>
            <p:nvPr/>
          </p:nvSpPr>
          <p:spPr>
            <a:xfrm>
              <a:off x="6858000" y="1905120"/>
              <a:ext cx="160020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6858000" y="2133720"/>
            <a:ext cx="1600200" cy="1346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0" y="2133720"/>
                      <a:ext cx="1600200" cy="13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4" name=""/>
          <p:cNvGraphicFramePr/>
          <p:nvPr/>
        </p:nvGraphicFramePr>
        <p:xfrm>
          <a:off x="304920" y="1219320"/>
          <a:ext cx="1676160" cy="15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219320"/>
                    <a:ext cx="16761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657600" y="456840"/>
            <a:ext cx="175248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汇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2781360"/>
            <a:ext cx="8077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既不是正数，也不是负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3429000"/>
          <a:ext cx="98892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429000"/>
                    <a:ext cx="988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304920" y="2286000"/>
            <a:ext cx="1066680" cy="1066680"/>
            <a:chOff x="304920" y="2286000"/>
            <a:chExt cx="1066680" cy="1066680"/>
          </a:xfrm>
        </p:grpSpPr>
        <p:sp>
          <p:nvSpPr>
            <p:cNvPr id="231" name=""/>
            <p:cNvSpPr/>
            <p:nvPr/>
          </p:nvSpPr>
          <p:spPr>
            <a:xfrm>
              <a:off x="304920" y="2286000"/>
              <a:ext cx="106668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304920" y="2438280"/>
            <a:ext cx="1066680" cy="897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920" y="2438280"/>
                      <a:ext cx="10666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4" name=""/>
          <p:cNvGraphicFramePr/>
          <p:nvPr/>
        </p:nvGraphicFramePr>
        <p:xfrm>
          <a:off x="304920" y="1219320"/>
          <a:ext cx="1143000" cy="107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219320"/>
                    <a:ext cx="11430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476360" y="63086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105520" y="3505320"/>
            <a:ext cx="9144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505320"/>
            <a:ext cx="9144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066320"/>
            <a:ext cx="34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所有正数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比，有什么关系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所有负数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比，有什么关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84640" y="3657600"/>
            <a:ext cx="24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负数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&lt; 0 &lt;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69560" y="251388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有正数比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大，所有负数比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57600" y="456840"/>
            <a:ext cx="175248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汇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04920" y="3429000"/>
          <a:ext cx="98892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429000"/>
                    <a:ext cx="988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"/>
          <p:cNvGrpSpPr/>
          <p:nvPr/>
        </p:nvGrpSpPr>
        <p:grpSpPr>
          <a:xfrm>
            <a:off x="304920" y="2286000"/>
            <a:ext cx="1066680" cy="1066680"/>
            <a:chOff x="304920" y="2286000"/>
            <a:chExt cx="1066680" cy="1066680"/>
          </a:xfrm>
        </p:grpSpPr>
        <p:sp>
          <p:nvSpPr>
            <p:cNvPr id="246" name=""/>
            <p:cNvSpPr/>
            <p:nvPr/>
          </p:nvSpPr>
          <p:spPr>
            <a:xfrm>
              <a:off x="304920" y="2286000"/>
              <a:ext cx="106668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304920" y="2438280"/>
            <a:ext cx="1066680" cy="897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920" y="2438280"/>
                      <a:ext cx="10666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9" name=""/>
          <p:cNvGraphicFramePr/>
          <p:nvPr/>
        </p:nvGraphicFramePr>
        <p:xfrm>
          <a:off x="304920" y="1219320"/>
          <a:ext cx="1143000" cy="107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219320"/>
                    <a:ext cx="11430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476360" y="63086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8000" y="2565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负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一对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1557360"/>
            <a:ext cx="91440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037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生活中你见过带“</a:t>
            </a:r>
            <a:r>
              <a:rPr b="1" lang="en-US" sz="6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-”</a:t>
            </a:r>
            <a:r>
              <a:rPr b="1" lang="zh-CN" sz="6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号的数吗？</a:t>
            </a:r>
            <a:endParaRPr b="1" lang="en-US" sz="60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1076400" cy="1150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435640" y="4149720"/>
            <a:ext cx="11523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733920" y="22003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叔叔上五楼开会，阿姨到地下二楼取车，应按哪两个键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449424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五楼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地下二楼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2120" y="2000160"/>
            <a:ext cx="1676160" cy="3733920"/>
            <a:chOff x="762120" y="2000160"/>
            <a:chExt cx="1676160" cy="3733920"/>
          </a:xfrm>
        </p:grpSpPr>
        <p:sp>
          <p:nvSpPr>
            <p:cNvPr id="259" name=""/>
            <p:cNvSpPr/>
            <p:nvPr/>
          </p:nvSpPr>
          <p:spPr>
            <a:xfrm>
              <a:off x="762120" y="2000160"/>
              <a:ext cx="1676160" cy="3733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676520" y="2436840"/>
              <a:ext cx="457200" cy="2959200"/>
              <a:chOff x="1676520" y="2436840"/>
              <a:chExt cx="457200" cy="2959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676520" y="243684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676520" y="297036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76520" y="350352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76520" y="403704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76520" y="457056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76520" y="502776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060560" y="2444760"/>
              <a:ext cx="457200" cy="2959200"/>
              <a:chOff x="1060560" y="2444760"/>
              <a:chExt cx="457200" cy="2959200"/>
            </a:xfrm>
          </p:grpSpPr>
          <p:sp>
            <p:nvSpPr>
              <p:cNvPr id="268" name=""/>
              <p:cNvSpPr/>
              <p:nvPr/>
            </p:nvSpPr>
            <p:spPr>
              <a:xfrm>
                <a:off x="1060560" y="244476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060560" y="297828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60560" y="351144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60560" y="404496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60560" y="457848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60560" y="5035680"/>
                <a:ext cx="4572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2438280" y="613440"/>
            <a:ext cx="36576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生活中的应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0920" y="620640"/>
            <a:ext cx="259236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彩云"/>
              </a:rPr>
              <a:t>高楼地下室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941720"/>
            <a:ext cx="1295280" cy="703440"/>
          </a:xfrm>
          <a:prstGeom prst="rect">
            <a:avLst/>
          </a:prstGeom>
          <a:solidFill>
            <a:srgbClr val="ff99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收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2492280"/>
            <a:ext cx="230328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华文彩云"/>
              </a:rPr>
              <a:t>湖泊海洋的深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5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假如地下室有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层，你走到最底下时，你可以说你是站在负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层。电梯记号为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-5F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2000" y="2565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当你往下潜十米时，你是在负十米的深度，如果在往下潜十米，你就在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3399ff"/>
                </a:solidFill>
                <a:uFillTx/>
                <a:latin typeface="Times New Roman"/>
              </a:rPr>
              <a:t>-20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米的深度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79736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月工资收入可记住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+180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元，支出可记住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或者生意上赢利记住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+45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元，亏本记住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爸爸工资收入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500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水、电、煤气支出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电话费支出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妈妈工资收入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400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613440"/>
            <a:ext cx="36576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生活中的应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602240" y="2198520"/>
          <a:ext cx="3774960" cy="3535560"/>
        </p:xfrm>
        <a:graphic>
          <a:graphicData uri="http://schemas.openxmlformats.org/drawingml/2006/table">
            <a:tbl>
              <a:tblPr/>
              <a:tblGrid>
                <a:gridCol w="1746000"/>
                <a:gridCol w="2028960"/>
              </a:tblGrid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收支情况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月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+15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月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月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月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6948360" y="3716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2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414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1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720" y="47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+14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9640" y="306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上图每格表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米，小华刚开始的位置在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057400"/>
            <a:ext cx="73915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189864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19051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18907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15200" y="19051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19051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85200" y="1911240"/>
            <a:ext cx="0" cy="1526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76560" y="19051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94080" y="19051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84600" y="18907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1905120"/>
            <a:ext cx="0" cy="1522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1911240"/>
            <a:ext cx="0" cy="15264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2209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2209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2209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3932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 小华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点向东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米，表示为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+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那么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点向西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米，表示为（    ）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 rot="10800000">
            <a:off x="3048120" y="1315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西                         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4700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 如果小华的位置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+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米说明他是向（   ）行（    ）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5203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  如果小华的位置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-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米说明他是向（   ）行（    ）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49440" y="42926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07240" y="4653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43640" y="4627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96360" y="5157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5157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8880"/>
            <a:ext cx="36576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生活中的应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570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如果小华先向东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米，又向西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米，这时小华的位置表示为（    ）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79640" y="602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8600" y="3886200"/>
            <a:ext cx="4419720" cy="16002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16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你理解这些信息的意义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886200"/>
            <a:ext cx="4419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1676520"/>
            <a:ext cx="4209840" cy="3530520"/>
          </a:xfrm>
          <a:custGeom>
            <a:avLst/>
            <a:gdLst/>
            <a:ahLst/>
            <a:rect l="l" t="t" r="r" b="b"/>
            <a:pathLst>
              <a:path w="2652" h="2224">
                <a:moveTo>
                  <a:pt x="0" y="1594"/>
                </a:moveTo>
                <a:cubicBezTo>
                  <a:pt x="32" y="1602"/>
                  <a:pt x="71" y="1598"/>
                  <a:pt x="94" y="1621"/>
                </a:cubicBezTo>
                <a:cubicBezTo>
                  <a:pt x="104" y="1631"/>
                  <a:pt x="98" y="1650"/>
                  <a:pt x="107" y="1661"/>
                </a:cubicBezTo>
                <a:cubicBezTo>
                  <a:pt x="117" y="1674"/>
                  <a:pt x="134" y="1679"/>
                  <a:pt x="147" y="1688"/>
                </a:cubicBezTo>
                <a:cubicBezTo>
                  <a:pt x="203" y="1771"/>
                  <a:pt x="249" y="1835"/>
                  <a:pt x="281" y="1929"/>
                </a:cubicBezTo>
                <a:cubicBezTo>
                  <a:pt x="291" y="1960"/>
                  <a:pt x="335" y="2010"/>
                  <a:pt x="335" y="2010"/>
                </a:cubicBezTo>
                <a:cubicBezTo>
                  <a:pt x="352" y="2063"/>
                  <a:pt x="389" y="2140"/>
                  <a:pt x="442" y="2170"/>
                </a:cubicBezTo>
                <a:cubicBezTo>
                  <a:pt x="498" y="2202"/>
                  <a:pt x="580" y="2213"/>
                  <a:pt x="643" y="2224"/>
                </a:cubicBezTo>
                <a:cubicBezTo>
                  <a:pt x="688" y="2219"/>
                  <a:pt x="733" y="2217"/>
                  <a:pt x="777" y="2210"/>
                </a:cubicBezTo>
                <a:cubicBezTo>
                  <a:pt x="791" y="2208"/>
                  <a:pt x="807" y="2207"/>
                  <a:pt x="817" y="2197"/>
                </a:cubicBezTo>
                <a:cubicBezTo>
                  <a:pt x="853" y="2161"/>
                  <a:pt x="875" y="2112"/>
                  <a:pt x="911" y="2076"/>
                </a:cubicBezTo>
                <a:cubicBezTo>
                  <a:pt x="928" y="2005"/>
                  <a:pt x="925" y="1995"/>
                  <a:pt x="978" y="1943"/>
                </a:cubicBezTo>
                <a:cubicBezTo>
                  <a:pt x="1011" y="1841"/>
                  <a:pt x="987" y="1884"/>
                  <a:pt x="1045" y="1809"/>
                </a:cubicBezTo>
                <a:cubicBezTo>
                  <a:pt x="1069" y="1733"/>
                  <a:pt x="1103" y="1678"/>
                  <a:pt x="1138" y="1608"/>
                </a:cubicBezTo>
                <a:cubicBezTo>
                  <a:pt x="1189" y="1504"/>
                  <a:pt x="1108" y="1632"/>
                  <a:pt x="1179" y="1527"/>
                </a:cubicBezTo>
                <a:cubicBezTo>
                  <a:pt x="1212" y="1425"/>
                  <a:pt x="1261" y="1319"/>
                  <a:pt x="1326" y="1233"/>
                </a:cubicBezTo>
                <a:cubicBezTo>
                  <a:pt x="1358" y="1137"/>
                  <a:pt x="1337" y="1176"/>
                  <a:pt x="1379" y="1112"/>
                </a:cubicBezTo>
                <a:cubicBezTo>
                  <a:pt x="1418" y="960"/>
                  <a:pt x="1364" y="1144"/>
                  <a:pt x="1420" y="1018"/>
                </a:cubicBezTo>
                <a:cubicBezTo>
                  <a:pt x="1483" y="875"/>
                  <a:pt x="1412" y="989"/>
                  <a:pt x="1473" y="898"/>
                </a:cubicBezTo>
                <a:cubicBezTo>
                  <a:pt x="1487" y="833"/>
                  <a:pt x="1506" y="786"/>
                  <a:pt x="1527" y="724"/>
                </a:cubicBezTo>
                <a:cubicBezTo>
                  <a:pt x="1547" y="662"/>
                  <a:pt x="1537" y="649"/>
                  <a:pt x="1554" y="576"/>
                </a:cubicBezTo>
                <a:cubicBezTo>
                  <a:pt x="1570" y="505"/>
                  <a:pt x="1608" y="435"/>
                  <a:pt x="1647" y="375"/>
                </a:cubicBezTo>
                <a:cubicBezTo>
                  <a:pt x="1670" y="289"/>
                  <a:pt x="1718" y="208"/>
                  <a:pt x="1768" y="134"/>
                </a:cubicBezTo>
                <a:cubicBezTo>
                  <a:pt x="1792" y="63"/>
                  <a:pt x="1788" y="26"/>
                  <a:pt x="1862" y="0"/>
                </a:cubicBezTo>
                <a:cubicBezTo>
                  <a:pt x="1924" y="22"/>
                  <a:pt x="1987" y="33"/>
                  <a:pt x="2049" y="54"/>
                </a:cubicBezTo>
                <a:cubicBezTo>
                  <a:pt x="2062" y="58"/>
                  <a:pt x="2089" y="67"/>
                  <a:pt x="2089" y="67"/>
                </a:cubicBezTo>
                <a:cubicBezTo>
                  <a:pt x="2210" y="147"/>
                  <a:pt x="2216" y="301"/>
                  <a:pt x="2290" y="415"/>
                </a:cubicBezTo>
                <a:cubicBezTo>
                  <a:pt x="2313" y="548"/>
                  <a:pt x="2305" y="685"/>
                  <a:pt x="2331" y="817"/>
                </a:cubicBezTo>
                <a:cubicBezTo>
                  <a:pt x="2349" y="908"/>
                  <a:pt x="2376" y="995"/>
                  <a:pt x="2398" y="1085"/>
                </a:cubicBezTo>
                <a:cubicBezTo>
                  <a:pt x="2400" y="1092"/>
                  <a:pt x="2416" y="1167"/>
                  <a:pt x="2424" y="1179"/>
                </a:cubicBezTo>
                <a:cubicBezTo>
                  <a:pt x="2460" y="1233"/>
                  <a:pt x="2583" y="1273"/>
                  <a:pt x="2652" y="1273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1523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玉山最高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海拔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95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434340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台湾海峡最深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海拔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231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海平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海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陆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29200" y="2743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把海平面当成正数和负数的分界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86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玉山最高峰是海平面以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95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51055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台湾海峡最深处是海平面以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31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613440"/>
            <a:ext cx="36576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生活中的应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2120" y="762120"/>
          <a:ext cx="7619760" cy="2216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447920"/>
                <a:gridCol w="1092240"/>
                <a:gridCol w="1269720"/>
              </a:tblGrid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足球比赛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转学情况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帐目结算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上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+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+24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三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+20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下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五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16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540800" y="3199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知道像上面的数叫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87000" y="378936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+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怎么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141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3773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读作：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4760" y="508392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你知道像下面的数叫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566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-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怎么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5070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负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5661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读作：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11840" y="4299120"/>
            <a:ext cx="8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149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+”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叫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20516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58360" y="6093000"/>
            <a:ext cx="15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叫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7080" y="609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负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某超市每个月的成本为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，去年下半年收入分别如下：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份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04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，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份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12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，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份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，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份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98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，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份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01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，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份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97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万元（盈利用正数表示，亏本用负数表示）。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3068640"/>
          <a:ext cx="8540640" cy="1368360"/>
        </p:xfrm>
        <a:graphic>
          <a:graphicData uri="http://schemas.openxmlformats.org/drawingml/2006/table">
            <a:tbl>
              <a:tblPr/>
              <a:tblGrid>
                <a:gridCol w="1746000"/>
                <a:gridCol w="1008360"/>
                <a:gridCol w="1008000"/>
                <a:gridCol w="1009440"/>
                <a:gridCol w="1008000"/>
                <a:gridCol w="1440000"/>
                <a:gridCol w="13208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七月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八月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九月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十月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十一月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十二月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收支情况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2050920" y="38354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7640" y="38354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3860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76720" y="386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-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3860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67640" y="38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-3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09480" y="204156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刘翔在第十届世界田径锦标赛半决赛中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米栏的成绩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3.4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秒，当时赛场风速为每秒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-0.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766080"/>
            <a:ext cx="36576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ccff"/>
                </a:solidFill>
                <a:latin typeface="Arial"/>
              </a:rPr>
              <a:t>生活中的应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98000" y="3580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讨论：风速怎么会有负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358056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风速和刘翔是对着跑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13240" y="47995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请两生分别代表刘翔和风速表演，是相反的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835280" y="250884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生活中有更多的负数等待你们去发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2590920" y="1413000"/>
            <a:ext cx="4495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3600" y="436572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请你读上面各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268280"/>
          <a:ext cx="7619760" cy="2216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69720"/>
                <a:gridCol w="1447920"/>
                <a:gridCol w="1092240"/>
                <a:gridCol w="1270080"/>
              </a:tblGrid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足球比赛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转学情况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帐目结算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上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+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+24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三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+20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下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五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16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914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为了简单可以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+2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简写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如果去掉正号，这些数你们熟悉吗？是我们过去学的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2209680"/>
          <a:ext cx="7620120" cy="221616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  <a:gridCol w="1447560"/>
                <a:gridCol w="1092240"/>
                <a:gridCol w="1270080"/>
              </a:tblGrid>
              <a:tr h="574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足球比赛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转学情况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帐目结算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上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三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下半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五年级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四月份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-160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550520" y="4724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负数前的负号可以去掉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3800" y="54100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能，去掉负号，就没办法和正数区分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0920" y="205992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人们通常用正数表示零上的温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3213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通常用负数表示零下的温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57200" y="51498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61519" t="0" r="2767" b="0"/>
          <a:stretch/>
        </p:blipFill>
        <p:spPr>
          <a:xfrm>
            <a:off x="0" y="0"/>
            <a:ext cx="2362320" cy="647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56000" y="450864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正好是零上温度和零下温度的分界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-1116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116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048120" y="4572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北京最高温度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℃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最低温度是零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 ℃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北京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-5~5℃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514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青岛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0~6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哈尔滨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-12~3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733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拉萨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-20~  -3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572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台北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5~10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4864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上面的天气预报图中你了解到哪些信息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-1116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116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048120" y="4572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北京最高温度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℃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最低温度是零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 ℃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北京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-5~5℃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514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青岛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0~6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哈尔滨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-12~3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733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拉萨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-20~  -3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572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台北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5~10 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486400"/>
            <a:ext cx="487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51240" y="571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负数吗？请你读出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7128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北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5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5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样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4724280"/>
          <a:ext cx="16732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724280"/>
                    <a:ext cx="1673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6934320" y="2895480"/>
            <a:ext cx="1600200" cy="1600200"/>
            <a:chOff x="6934320" y="2895480"/>
            <a:chExt cx="1600200" cy="1600200"/>
          </a:xfrm>
        </p:grpSpPr>
        <p:sp>
          <p:nvSpPr>
            <p:cNvPr id="136" name=""/>
            <p:cNvSpPr/>
            <p:nvPr/>
          </p:nvSpPr>
          <p:spPr>
            <a:xfrm>
              <a:off x="6934320" y="2895480"/>
              <a:ext cx="160020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6934320" y="3124080"/>
            <a:ext cx="1600200" cy="1346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34320" y="3124080"/>
                      <a:ext cx="1600200" cy="13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9" name=""/>
          <p:cNvGraphicFramePr/>
          <p:nvPr/>
        </p:nvGraphicFramePr>
        <p:xfrm>
          <a:off x="533520" y="1371600"/>
          <a:ext cx="1676160" cy="157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1371600"/>
                    <a:ext cx="16761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498760" y="1589040"/>
            <a:ext cx="57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-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不一样，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-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表示零下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度，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表示零上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摄氏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048120"/>
            <a:ext cx="57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-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不一样，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-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表示比零度还要低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摄氏度，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表示比零度高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摄氏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105520"/>
            <a:ext cx="57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-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不一样，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-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比零摄度冷，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5℃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表示比零摄氏度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3:14:46Z</dcterms:created>
  <dc:creator>番茄花园</dc:creator>
  <dc:description/>
  <dc:language>en-US</dc:language>
  <cp:lastModifiedBy>数学组2</cp:lastModifiedBy>
  <dcterms:modified xsi:type="dcterms:W3CDTF">2006-12-28T23:58:23Z</dcterms:modified>
  <cp:revision>12</cp:revision>
  <dc:subject/>
  <dc:title>幻灯片 1</dc:title>
</cp:coreProperties>
</file>