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B8C-963A-4542-9A71-D5AB9D89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278-73AD-4BD7-9078-84144286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7E5-E307-4C01-A9D4-A5E69794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034-8592-400E-BCD6-119BFCB3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D74-94A7-4216-98FF-87980DE3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B39-70E8-4193-82CE-B2257DB6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8FC-5BB7-4F0E-9BC3-E8CA7C71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2DA-4522-41F4-ADED-9EFBE6D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142-AFAF-4454-A28A-2523C44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300-99B4-4386-8FD6-E7807A2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098-2B34-4B2C-A76A-CACA7D8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637-C311-4C4B-9C0A-0848267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84B0-9B0D-4B85-AC75-AC4D9E5390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hyperlink" Target="http://free6.kaxiu.com/modules/967519643/mudan_cs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838080" y="-811080"/>
            <a:ext cx="10210680" cy="861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182880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516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49640" y="2987640"/>
            <a:ext cx="914400" cy="884160"/>
            <a:chOff x="4049640" y="2987640"/>
            <a:chExt cx="914400" cy="884160"/>
          </a:xfrm>
        </p:grpSpPr>
        <p:sp>
          <p:nvSpPr>
            <p:cNvPr id="45" name=""/>
            <p:cNvSpPr/>
            <p:nvPr/>
          </p:nvSpPr>
          <p:spPr>
            <a:xfrm>
              <a:off x="4049640" y="298764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49640" y="2987640"/>
              <a:ext cx="9144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zh-CN" sz="4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676520" y="12952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简单条形统计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5562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4952880"/>
            <a:ext cx="5331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962520"/>
            <a:ext cx="53316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057400"/>
            <a:ext cx="53316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457200"/>
            <a:ext cx="533160" cy="510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808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44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533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76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676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762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304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890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914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57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7640" y="4648320"/>
            <a:ext cx="1600560" cy="914400"/>
            <a:chOff x="6857640" y="4648320"/>
            <a:chExt cx="1600560" cy="914400"/>
          </a:xfrm>
        </p:grpSpPr>
        <p:sp>
          <p:nvSpPr>
            <p:cNvPr id="102" name=""/>
            <p:cNvSpPr/>
            <p:nvPr/>
          </p:nvSpPr>
          <p:spPr>
            <a:xfrm flipH="1">
              <a:off x="6857640" y="502920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15200" y="4648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81080" y="2819520"/>
            <a:ext cx="1600200" cy="459720"/>
            <a:chOff x="1981080" y="2819520"/>
            <a:chExt cx="1600200" cy="459720"/>
          </a:xfrm>
        </p:grpSpPr>
        <p:sp>
          <p:nvSpPr>
            <p:cNvPr id="105" name=""/>
            <p:cNvSpPr/>
            <p:nvPr/>
          </p:nvSpPr>
          <p:spPr>
            <a:xfrm flipH="1">
              <a:off x="1981080" y="29718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2819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943040" y="228600"/>
            <a:ext cx="9118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华新小学计算机年度增长统计图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99—0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6019560"/>
            <a:ext cx="5143680" cy="840960"/>
            <a:chOff x="1828800" y="6019560"/>
            <a:chExt cx="5143680" cy="840960"/>
          </a:xfrm>
        </p:grpSpPr>
        <p:sp>
          <p:nvSpPr>
            <p:cNvPr id="109" name=""/>
            <p:cNvSpPr/>
            <p:nvPr/>
          </p:nvSpPr>
          <p:spPr>
            <a:xfrm rot="16200000">
              <a:off x="4133880" y="3714120"/>
              <a:ext cx="533160" cy="51436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133920 h 5143680"/>
                <a:gd name="textAreaBottom" fmla="*/ 5009760 h 514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64008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统计项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226280" y="1523880"/>
            <a:ext cx="1079640" cy="1981440"/>
            <a:chOff x="7226280" y="1523880"/>
            <a:chExt cx="1079640" cy="1981440"/>
          </a:xfrm>
        </p:grpSpPr>
        <p:sp>
          <p:nvSpPr>
            <p:cNvPr id="112" name=""/>
            <p:cNvSpPr/>
            <p:nvPr/>
          </p:nvSpPr>
          <p:spPr>
            <a:xfrm>
              <a:off x="7924680" y="220968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26280" y="1523880"/>
              <a:ext cx="5461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统计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yq" descr=""/>
          <p:cNvPicPr/>
          <p:nvPr/>
        </p:nvPicPr>
        <p:blipFill>
          <a:blip r:embed="rId2"/>
          <a:stretch/>
        </p:blipFill>
        <p:spPr>
          <a:xfrm>
            <a:off x="0" y="-220680"/>
            <a:ext cx="9677520" cy="7726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981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Times New Roman"/>
                <a:ea typeface="隶书"/>
              </a:rPr>
              <a:t>简单条形统计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14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华新小学四（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）班小组数学期中考试成绩统计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438280"/>
          <a:ext cx="6096240" cy="1676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陈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李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张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孙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9907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219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447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676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733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505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2767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048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819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2590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362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1337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962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191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44197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648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876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105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562720"/>
            <a:ext cx="7010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752480" y="0"/>
            <a:ext cx="0" cy="556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09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438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954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52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09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267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7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95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724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952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38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95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244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81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10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238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74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6960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381880" y="9907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陈 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571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孙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838080"/>
            <a:ext cx="10666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1676520"/>
            <a:ext cx="6858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38280" y="1676520"/>
            <a:ext cx="685800" cy="3886200"/>
            <a:chOff x="2438280" y="1676520"/>
            <a:chExt cx="685800" cy="3886200"/>
          </a:xfrm>
        </p:grpSpPr>
        <p:sp>
          <p:nvSpPr>
            <p:cNvPr id="176" name=""/>
            <p:cNvSpPr/>
            <p:nvPr/>
          </p:nvSpPr>
          <p:spPr>
            <a:xfrm>
              <a:off x="2438280" y="1676520"/>
              <a:ext cx="0" cy="3886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676520"/>
              <a:ext cx="0" cy="3886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09880" y="2057400"/>
            <a:ext cx="6858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781680" y="2590920"/>
            <a:ext cx="685800" cy="2971800"/>
            <a:chOff x="6781680" y="2590920"/>
            <a:chExt cx="685800" cy="2971800"/>
          </a:xfrm>
        </p:grpSpPr>
        <p:sp>
          <p:nvSpPr>
            <p:cNvPr id="180" name=""/>
            <p:cNvSpPr/>
            <p:nvPr/>
          </p:nvSpPr>
          <p:spPr>
            <a:xfrm>
              <a:off x="7467480" y="2590920"/>
              <a:ext cx="0" cy="2895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2590920"/>
              <a:ext cx="0" cy="2971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181480" y="1447920"/>
            <a:ext cx="685800" cy="4114800"/>
            <a:chOff x="5181480" y="1447920"/>
            <a:chExt cx="685800" cy="4114800"/>
          </a:xfrm>
        </p:grpSpPr>
        <p:sp>
          <p:nvSpPr>
            <p:cNvPr id="183" name=""/>
            <p:cNvSpPr/>
            <p:nvPr/>
          </p:nvSpPr>
          <p:spPr>
            <a:xfrm>
              <a:off x="5867280" y="1447920"/>
              <a:ext cx="0" cy="4114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1447920"/>
              <a:ext cx="0" cy="4114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809880" y="2057400"/>
            <a:ext cx="685800" cy="3505320"/>
            <a:chOff x="3809880" y="2057400"/>
            <a:chExt cx="685800" cy="3505320"/>
          </a:xfrm>
        </p:grpSpPr>
        <p:sp>
          <p:nvSpPr>
            <p:cNvPr id="186" name=""/>
            <p:cNvSpPr/>
            <p:nvPr/>
          </p:nvSpPr>
          <p:spPr>
            <a:xfrm>
              <a:off x="3809880" y="2057400"/>
              <a:ext cx="0" cy="35053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5680" y="2057400"/>
              <a:ext cx="0" cy="35053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181480" y="1447920"/>
            <a:ext cx="6858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2590920"/>
            <a:ext cx="6858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762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6078600"/>
            <a:ext cx="632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华新小学四（ ）班数学期中考试成绩统计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                                                        ——</a:t>
            </a: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年——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676520"/>
            <a:ext cx="685800" cy="388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057400"/>
            <a:ext cx="685800" cy="3505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1447920"/>
            <a:ext cx="685800" cy="4114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590920"/>
            <a:ext cx="685800" cy="297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120348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371600"/>
            <a:ext cx="10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华新小学四（ ）班数学期中考试成绩统计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                                            </a:t>
            </a: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年——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39716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9228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8596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7964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53520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34152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14640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5272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75760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56392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36844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17476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73068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92436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11948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31316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450684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89600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702320"/>
            <a:ext cx="396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091120"/>
            <a:ext cx="410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80880" y="360000"/>
            <a:ext cx="0" cy="4730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44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494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826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494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158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1844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3176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4508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58436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71936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5256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8928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8612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11932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25432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8752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52108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5428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92248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560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1892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3242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45744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910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242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592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9240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12596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59160" y="120312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5181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5181480"/>
            <a:ext cx="8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孙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286000"/>
            <a:ext cx="4014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2640" y="1785960"/>
            <a:ext cx="0" cy="3305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84400" y="1785960"/>
            <a:ext cx="0" cy="3305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4360" y="2109960"/>
            <a:ext cx="4017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24200" y="2563920"/>
            <a:ext cx="0" cy="2462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24240" y="2563920"/>
            <a:ext cx="0" cy="252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9280" y="1592280"/>
            <a:ext cx="0" cy="34988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87520" y="1592280"/>
            <a:ext cx="0" cy="34988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84360" y="2109960"/>
            <a:ext cx="401760" cy="2981160"/>
            <a:chOff x="1584360" y="2109960"/>
            <a:chExt cx="401760" cy="2981160"/>
          </a:xfrm>
        </p:grpSpPr>
        <p:sp>
          <p:nvSpPr>
            <p:cNvPr id="266" name=""/>
            <p:cNvSpPr/>
            <p:nvPr/>
          </p:nvSpPr>
          <p:spPr>
            <a:xfrm>
              <a:off x="1584360" y="2109960"/>
              <a:ext cx="0" cy="2981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6120" y="2109960"/>
              <a:ext cx="0" cy="2981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387520" y="1592280"/>
            <a:ext cx="4017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24240" y="2563920"/>
            <a:ext cx="3999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676520"/>
            <a:ext cx="6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121932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133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640" y="1785960"/>
            <a:ext cx="401760" cy="3305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84360" y="2109960"/>
            <a:ext cx="401760" cy="298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87520" y="1592280"/>
            <a:ext cx="401760" cy="349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4240" y="2577960"/>
            <a:ext cx="399960" cy="2527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560" y="61920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16208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819520"/>
            <a:ext cx="6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5715000"/>
            <a:ext cx="495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华新小学四（ ）班数学期中考试成绩统计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                                             ——</a:t>
            </a:r>
            <a:r>
              <a:rPr b="0" lang="zh-CN" sz="1800" spc="-1" strike="noStrike">
                <a:solidFill>
                  <a:srgbClr val="ff3399"/>
                </a:solidFill>
                <a:latin typeface="Times New Roman"/>
              </a:rPr>
              <a:t>年——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36044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155880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175752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195408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353844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34008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314172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294480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274644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54952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23493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5280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373680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93372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413244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432900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4529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92444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72608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5121360"/>
            <a:ext cx="3952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105520" y="304560"/>
            <a:ext cx="0" cy="481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3404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3625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4928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499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6214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87844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1372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658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3943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5232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42464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6517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8024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9105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0390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1676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2961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5549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6834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8120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9405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80694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1993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278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845676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58528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871380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8844120" y="116208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52578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陈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51814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52578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58080" y="5253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孙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312408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2819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92880" y="3429000"/>
            <a:ext cx="385560" cy="1692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5800" y="3657600"/>
            <a:ext cx="385920" cy="146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39080" y="3352680"/>
            <a:ext cx="385560" cy="1768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58160" y="3809880"/>
            <a:ext cx="387360" cy="1338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18280" y="57168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52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828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20" y="4921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495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5400" y="1447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30960" y="1066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572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33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2209680"/>
            <a:ext cx="45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3809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971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4191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0020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查本班同学最喜欢看的球类比赛的人数（每人只能选一项），填入下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962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108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2971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足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篮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排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乒乓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羽毛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62120" y="76212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四（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）班数学期中考试成绩统计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3880" y="2133720"/>
          <a:ext cx="6096240" cy="1944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1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gend" descr=""/>
          <p:cNvPicPr/>
          <p:nvPr/>
        </p:nvPicPr>
        <p:blipFill>
          <a:blip r:embed="rId1"/>
          <a:stretch/>
        </p:blipFill>
        <p:spPr>
          <a:xfrm>
            <a:off x="-380880" y="-81000"/>
            <a:ext cx="9829800" cy="6966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438280" y="121932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Times New Roman"/>
                <a:ea typeface="隶书"/>
              </a:rPr>
              <a:t>再 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0:21:21Z</dcterms:created>
  <dc:creator>aaa</dc:creator>
  <dc:description/>
  <dc:language>en-US</dc:language>
  <cp:lastModifiedBy>Billgates</cp:lastModifiedBy>
  <dcterms:modified xsi:type="dcterms:W3CDTF">2005-05-10T11:43:56Z</dcterms:modified>
  <cp:revision>4</cp:revision>
  <dc:subject/>
  <dc:title>PowerPoint 演示文稿</dc:title>
</cp:coreProperties>
</file>