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0.wmf" ContentType="image/x-wmf"/>
  <Override PartName="/ppt/media/image2.png" ContentType="image/png"/>
  <Override PartName="/ppt/media/image7.gif" ContentType="image/gi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.png" ContentType="image/png"/>
  <Override PartName="/ppt/media/image4.png" ContentType="image/png"/>
  <Override PartName="/ppt/media/image12.wmf" ContentType="image/x-wmf"/>
  <Override PartName="/ppt/media/image30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8.gif" ContentType="image/gi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22D-8930-4DB7-8820-05A2E699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D6A-53CA-4C30-9BD3-9770890C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160-DF03-4C99-AEC9-BCF4F983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72A-BC71-4446-8CF4-4C9BDBC4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57E8-80E6-43EE-B17F-37B276AB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97AC-B79D-4C65-8E47-C19B8D90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A017-BFF8-4093-8214-F516A8B7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A50F-8F49-47F4-B6FD-D66A5F5C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D48D-DE78-4FD3-934F-1A0920A0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33E2-19AF-4E15-BE37-E2BF936A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7E00-C509-45A3-9F9F-C457BF26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4A5-4848-4B48-A63D-8C0E470D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9FF8-547D-46CE-B5FD-F8484D08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2F55-1453-4CC1-8AEA-510F9908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D858-DFD2-41E7-B302-EE7DBBDA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CAF3-0E08-4F4F-B7F9-53081EA1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2E6A-A5B0-4E96-9356-EE02DF67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159-F79D-4A5F-819B-A456D44F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6BA-43C1-439F-BEB2-8F2950E0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0E6-483D-4099-BFAB-ECA18D4D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446-2929-4993-B453-7B03CABC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0EA-A2D5-4DA0-B716-A4EC72EE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495-6D56-40B1-8473-77DDCD7C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B0F-E0A5-48B0-BCC8-0CBB423E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BC65-A819-454F-9EE7-8F07F951C9C7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0361-D6E8-499F-961E-63FC5F3197B8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59280" y="13716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Times New Roman"/>
                <a:ea typeface="黑体"/>
              </a:rPr>
              <a:t>统计图的选择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45147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990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1999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年国家统计局数字，发展中国家人口占世界总人口的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85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发达国家人口占世界总人口的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15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；但发展中国家国内生产总值占世界的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23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发达国家国内生产总值占世界的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77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38080" y="2895480"/>
          <a:ext cx="3814920" cy="33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895480"/>
                    <a:ext cx="3814920" cy="33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954080" y="274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人口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343400" y="2895480"/>
          <a:ext cx="3814920" cy="339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3814920" cy="33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502056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国内生产总值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228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议一议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380880" y="228600"/>
            <a:ext cx="76212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152280" y="1600200"/>
          <a:ext cx="8839440" cy="1447560"/>
        </p:xfrm>
        <a:graphic>
          <a:graphicData uri="http://schemas.openxmlformats.org/drawingml/2006/table">
            <a:tbl>
              <a:tblPr/>
              <a:tblGrid>
                <a:gridCol w="60984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月份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气温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3.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3.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5.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8.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1.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4.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5.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5.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3.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0.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6.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3.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降水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69.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49.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50.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67.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58.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52.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57.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62.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80.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62.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90.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73.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1349280" y="99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某地气候资料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19640" y="1197000"/>
            <a:ext cx="37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（气温：</a:t>
            </a:r>
            <a:r>
              <a:rPr b="1" lang="zh-CN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°C  </a:t>
            </a: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</a:t>
            </a: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降水量：毫米）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3581280"/>
          <a:ext cx="457200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581280"/>
                    <a:ext cx="4572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676520" y="3124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降水量条形图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343400" y="3505320"/>
          <a:ext cx="4572000" cy="266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3505320"/>
                    <a:ext cx="4572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172200" y="3124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气温变化折线图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228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议一议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380880" y="228600"/>
            <a:ext cx="76212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3520" y="1066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一所中学准备搬迁到新校舍，在迁入新校舍之前，同学们就该校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30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名学生如何到校问题进行了一次调查，并得到下列数据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23880" y="2819520"/>
          <a:ext cx="6095880" cy="21333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步行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60</a:t>
                      </a: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人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骑自行车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00</a:t>
                      </a: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人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坐公共汽车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30</a:t>
                      </a: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人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其他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人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685800" y="5257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将上面的数据用适当的统计图表示出来，并进行比较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228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做一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990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2971800" y="152280"/>
          <a:ext cx="361944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52280"/>
                    <a:ext cx="36194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2448720" y="18702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条形统计图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能清楚地表示出每个项目的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具体数目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133720" y="2286000"/>
          <a:ext cx="4829040" cy="127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286000"/>
                    <a:ext cx="48290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450520" y="350532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折线统计图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能清楚地反映事物的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变化情况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286000" y="4038480"/>
          <a:ext cx="3673440" cy="1819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4038480"/>
                    <a:ext cx="367344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2301120" y="57340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扇形统计图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能清楚地表现出各部分在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总体中所占的百分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066680" y="228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做一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990360" cy="792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33520" y="1295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分小组选取一个感兴趣的问题进行调查，将所收集的数据用适当的统计图表示出来。从中可以获得那些信息？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2971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思考练习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50920" y="692280"/>
            <a:ext cx="709560" cy="612720"/>
            <a:chOff x="250920" y="692280"/>
            <a:chExt cx="709560" cy="612720"/>
          </a:xfrm>
        </p:grpSpPr>
        <p:sp>
          <p:nvSpPr>
            <p:cNvPr id="139" name=""/>
            <p:cNvSpPr/>
            <p:nvPr/>
          </p:nvSpPr>
          <p:spPr>
            <a:xfrm>
              <a:off x="463680" y="802800"/>
              <a:ext cx="287280" cy="392760"/>
            </a:xfrm>
            <a:custGeom>
              <a:avLst/>
              <a:gdLst/>
              <a:ahLst/>
              <a:rect l="l" t="t" r="r" b="b"/>
              <a:pathLst>
                <a:path w="543" h="844">
                  <a:moveTo>
                    <a:pt x="186" y="228"/>
                  </a:moveTo>
                  <a:lnTo>
                    <a:pt x="240" y="171"/>
                  </a:lnTo>
                  <a:lnTo>
                    <a:pt x="336" y="207"/>
                  </a:lnTo>
                  <a:lnTo>
                    <a:pt x="328" y="302"/>
                  </a:lnTo>
                  <a:lnTo>
                    <a:pt x="211" y="376"/>
                  </a:lnTo>
                  <a:lnTo>
                    <a:pt x="190" y="585"/>
                  </a:lnTo>
                  <a:lnTo>
                    <a:pt x="211" y="650"/>
                  </a:lnTo>
                  <a:lnTo>
                    <a:pt x="173" y="723"/>
                  </a:lnTo>
                  <a:lnTo>
                    <a:pt x="181" y="797"/>
                  </a:lnTo>
                  <a:lnTo>
                    <a:pt x="264" y="844"/>
                  </a:lnTo>
                  <a:lnTo>
                    <a:pt x="371" y="810"/>
                  </a:lnTo>
                  <a:lnTo>
                    <a:pt x="405" y="723"/>
                  </a:lnTo>
                  <a:lnTo>
                    <a:pt x="362" y="640"/>
                  </a:lnTo>
                  <a:lnTo>
                    <a:pt x="409" y="593"/>
                  </a:lnTo>
                  <a:lnTo>
                    <a:pt x="409" y="478"/>
                  </a:lnTo>
                  <a:lnTo>
                    <a:pt x="530" y="380"/>
                  </a:lnTo>
                  <a:lnTo>
                    <a:pt x="543" y="232"/>
                  </a:lnTo>
                  <a:lnTo>
                    <a:pt x="465" y="73"/>
                  </a:lnTo>
                  <a:lnTo>
                    <a:pt x="311" y="0"/>
                  </a:lnTo>
                  <a:lnTo>
                    <a:pt x="139" y="47"/>
                  </a:lnTo>
                  <a:lnTo>
                    <a:pt x="39" y="143"/>
                  </a:lnTo>
                  <a:lnTo>
                    <a:pt x="0" y="289"/>
                  </a:lnTo>
                  <a:lnTo>
                    <a:pt x="5" y="376"/>
                  </a:lnTo>
                  <a:lnTo>
                    <a:pt x="181" y="366"/>
                  </a:lnTo>
                  <a:lnTo>
                    <a:pt x="18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9520" y="819720"/>
              <a:ext cx="255600" cy="273960"/>
            </a:xfrm>
            <a:custGeom>
              <a:avLst/>
              <a:gdLst/>
              <a:ahLst/>
              <a:rect l="l" t="t" r="r" b="b"/>
              <a:pathLst>
                <a:path w="481" h="588">
                  <a:moveTo>
                    <a:pt x="0" y="297"/>
                  </a:moveTo>
                  <a:lnTo>
                    <a:pt x="70" y="284"/>
                  </a:lnTo>
                  <a:lnTo>
                    <a:pt x="109" y="297"/>
                  </a:lnTo>
                  <a:lnTo>
                    <a:pt x="107" y="216"/>
                  </a:lnTo>
                  <a:lnTo>
                    <a:pt x="136" y="125"/>
                  </a:lnTo>
                  <a:lnTo>
                    <a:pt x="253" y="91"/>
                  </a:lnTo>
                  <a:lnTo>
                    <a:pt x="309" y="129"/>
                  </a:lnTo>
                  <a:lnTo>
                    <a:pt x="368" y="189"/>
                  </a:lnTo>
                  <a:lnTo>
                    <a:pt x="351" y="293"/>
                  </a:lnTo>
                  <a:lnTo>
                    <a:pt x="240" y="341"/>
                  </a:lnTo>
                  <a:lnTo>
                    <a:pt x="210" y="413"/>
                  </a:lnTo>
                  <a:lnTo>
                    <a:pt x="219" y="487"/>
                  </a:lnTo>
                  <a:lnTo>
                    <a:pt x="205" y="588"/>
                  </a:lnTo>
                  <a:lnTo>
                    <a:pt x="316" y="588"/>
                  </a:lnTo>
                  <a:lnTo>
                    <a:pt x="330" y="513"/>
                  </a:lnTo>
                  <a:lnTo>
                    <a:pt x="321" y="426"/>
                  </a:lnTo>
                  <a:lnTo>
                    <a:pt x="390" y="379"/>
                  </a:lnTo>
                  <a:lnTo>
                    <a:pt x="441" y="354"/>
                  </a:lnTo>
                  <a:lnTo>
                    <a:pt x="481" y="241"/>
                  </a:lnTo>
                  <a:lnTo>
                    <a:pt x="445" y="120"/>
                  </a:lnTo>
                  <a:lnTo>
                    <a:pt x="326" y="0"/>
                  </a:lnTo>
                  <a:lnTo>
                    <a:pt x="179" y="10"/>
                  </a:lnTo>
                  <a:lnTo>
                    <a:pt x="62" y="82"/>
                  </a:lnTo>
                  <a:lnTo>
                    <a:pt x="11" y="173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3120" y="1113120"/>
              <a:ext cx="81000" cy="62640"/>
            </a:xfrm>
            <a:custGeom>
              <a:avLst/>
              <a:gdLst/>
              <a:ahLst/>
              <a:rect l="l" t="t" r="r" b="b"/>
              <a:pathLst>
                <a:path w="155" h="134">
                  <a:moveTo>
                    <a:pt x="55" y="0"/>
                  </a:moveTo>
                  <a:lnTo>
                    <a:pt x="11" y="25"/>
                  </a:lnTo>
                  <a:lnTo>
                    <a:pt x="0" y="90"/>
                  </a:lnTo>
                  <a:lnTo>
                    <a:pt x="34" y="134"/>
                  </a:lnTo>
                  <a:lnTo>
                    <a:pt x="121" y="134"/>
                  </a:lnTo>
                  <a:lnTo>
                    <a:pt x="155" y="82"/>
                  </a:lnTo>
                  <a:lnTo>
                    <a:pt x="125" y="18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0920" y="692280"/>
              <a:ext cx="709560" cy="612720"/>
            </a:xfrm>
            <a:custGeom>
              <a:avLst/>
              <a:gdLst/>
              <a:ahLst/>
              <a:rect l="l" t="t" r="r" b="b"/>
              <a:pathLst>
                <a:path w="1341" h="1314">
                  <a:moveTo>
                    <a:pt x="836" y="0"/>
                  </a:moveTo>
                  <a:lnTo>
                    <a:pt x="569" y="4"/>
                  </a:lnTo>
                  <a:lnTo>
                    <a:pt x="367" y="70"/>
                  </a:lnTo>
                  <a:lnTo>
                    <a:pt x="159" y="203"/>
                  </a:lnTo>
                  <a:lnTo>
                    <a:pt x="64" y="397"/>
                  </a:lnTo>
                  <a:lnTo>
                    <a:pt x="21" y="594"/>
                  </a:lnTo>
                  <a:lnTo>
                    <a:pt x="0" y="794"/>
                  </a:lnTo>
                  <a:lnTo>
                    <a:pt x="95" y="939"/>
                  </a:lnTo>
                  <a:lnTo>
                    <a:pt x="212" y="1132"/>
                  </a:lnTo>
                  <a:lnTo>
                    <a:pt x="484" y="1287"/>
                  </a:lnTo>
                  <a:lnTo>
                    <a:pt x="745" y="1314"/>
                  </a:lnTo>
                  <a:lnTo>
                    <a:pt x="927" y="1261"/>
                  </a:lnTo>
                  <a:lnTo>
                    <a:pt x="1039" y="1197"/>
                  </a:lnTo>
                  <a:lnTo>
                    <a:pt x="1159" y="1153"/>
                  </a:lnTo>
                  <a:lnTo>
                    <a:pt x="1203" y="1047"/>
                  </a:lnTo>
                  <a:lnTo>
                    <a:pt x="1307" y="877"/>
                  </a:lnTo>
                  <a:lnTo>
                    <a:pt x="1341" y="677"/>
                  </a:lnTo>
                  <a:lnTo>
                    <a:pt x="1311" y="448"/>
                  </a:lnTo>
                  <a:lnTo>
                    <a:pt x="1229" y="220"/>
                  </a:lnTo>
                  <a:lnTo>
                    <a:pt x="1116" y="134"/>
                  </a:lnTo>
                  <a:lnTo>
                    <a:pt x="978" y="21"/>
                  </a:lnTo>
                  <a:lnTo>
                    <a:pt x="905" y="203"/>
                  </a:lnTo>
                  <a:lnTo>
                    <a:pt x="1080" y="331"/>
                  </a:lnTo>
                  <a:lnTo>
                    <a:pt x="1149" y="439"/>
                  </a:lnTo>
                  <a:lnTo>
                    <a:pt x="1190" y="589"/>
                  </a:lnTo>
                  <a:lnTo>
                    <a:pt x="1142" y="830"/>
                  </a:lnTo>
                  <a:lnTo>
                    <a:pt x="1039" y="1007"/>
                  </a:lnTo>
                  <a:lnTo>
                    <a:pt x="935" y="1064"/>
                  </a:lnTo>
                  <a:lnTo>
                    <a:pt x="819" y="1119"/>
                  </a:lnTo>
                  <a:lnTo>
                    <a:pt x="631" y="1141"/>
                  </a:lnTo>
                  <a:lnTo>
                    <a:pt x="423" y="1098"/>
                  </a:lnTo>
                  <a:lnTo>
                    <a:pt x="259" y="917"/>
                  </a:lnTo>
                  <a:lnTo>
                    <a:pt x="185" y="796"/>
                  </a:lnTo>
                  <a:lnTo>
                    <a:pt x="181" y="607"/>
                  </a:lnTo>
                  <a:lnTo>
                    <a:pt x="221" y="448"/>
                  </a:lnTo>
                  <a:lnTo>
                    <a:pt x="327" y="314"/>
                  </a:lnTo>
                  <a:lnTo>
                    <a:pt x="387" y="229"/>
                  </a:lnTo>
                  <a:lnTo>
                    <a:pt x="531" y="193"/>
                  </a:lnTo>
                  <a:lnTo>
                    <a:pt x="685" y="138"/>
                  </a:lnTo>
                  <a:lnTo>
                    <a:pt x="905" y="203"/>
                  </a:lnTo>
                  <a:lnTo>
                    <a:pt x="978" y="21"/>
                  </a:lnTo>
                  <a:lnTo>
                    <a:pt x="8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440" y="702000"/>
              <a:ext cx="671400" cy="588960"/>
            </a:xfrm>
            <a:custGeom>
              <a:avLst/>
              <a:gdLst/>
              <a:ahLst/>
              <a:rect l="l" t="t" r="r" b="b"/>
              <a:pathLst>
                <a:path w="1270" h="1262">
                  <a:moveTo>
                    <a:pt x="687" y="91"/>
                  </a:moveTo>
                  <a:lnTo>
                    <a:pt x="540" y="91"/>
                  </a:lnTo>
                  <a:lnTo>
                    <a:pt x="325" y="177"/>
                  </a:lnTo>
                  <a:lnTo>
                    <a:pt x="191" y="325"/>
                  </a:lnTo>
                  <a:lnTo>
                    <a:pt x="126" y="514"/>
                  </a:lnTo>
                  <a:lnTo>
                    <a:pt x="87" y="669"/>
                  </a:lnTo>
                  <a:lnTo>
                    <a:pt x="174" y="909"/>
                  </a:lnTo>
                  <a:lnTo>
                    <a:pt x="277" y="994"/>
                  </a:lnTo>
                  <a:lnTo>
                    <a:pt x="346" y="1085"/>
                  </a:lnTo>
                  <a:lnTo>
                    <a:pt x="506" y="1138"/>
                  </a:lnTo>
                  <a:lnTo>
                    <a:pt x="657" y="1172"/>
                  </a:lnTo>
                  <a:lnTo>
                    <a:pt x="949" y="1073"/>
                  </a:lnTo>
                  <a:lnTo>
                    <a:pt x="1121" y="901"/>
                  </a:lnTo>
                  <a:lnTo>
                    <a:pt x="1186" y="664"/>
                  </a:lnTo>
                  <a:lnTo>
                    <a:pt x="1186" y="467"/>
                  </a:lnTo>
                  <a:lnTo>
                    <a:pt x="1104" y="333"/>
                  </a:lnTo>
                  <a:lnTo>
                    <a:pt x="988" y="187"/>
                  </a:lnTo>
                  <a:lnTo>
                    <a:pt x="687" y="91"/>
                  </a:lnTo>
                  <a:lnTo>
                    <a:pt x="672" y="0"/>
                  </a:lnTo>
                  <a:lnTo>
                    <a:pt x="809" y="22"/>
                  </a:lnTo>
                  <a:lnTo>
                    <a:pt x="993" y="74"/>
                  </a:lnTo>
                  <a:lnTo>
                    <a:pt x="1087" y="184"/>
                  </a:lnTo>
                  <a:lnTo>
                    <a:pt x="1208" y="306"/>
                  </a:lnTo>
                  <a:lnTo>
                    <a:pt x="1270" y="573"/>
                  </a:lnTo>
                  <a:lnTo>
                    <a:pt x="1259" y="767"/>
                  </a:lnTo>
                  <a:lnTo>
                    <a:pt x="1178" y="939"/>
                  </a:lnTo>
                  <a:lnTo>
                    <a:pt x="1061" y="1090"/>
                  </a:lnTo>
                  <a:lnTo>
                    <a:pt x="806" y="1223"/>
                  </a:lnTo>
                  <a:lnTo>
                    <a:pt x="604" y="1262"/>
                  </a:lnTo>
                  <a:lnTo>
                    <a:pt x="385" y="1209"/>
                  </a:lnTo>
                  <a:lnTo>
                    <a:pt x="147" y="1009"/>
                  </a:lnTo>
                  <a:lnTo>
                    <a:pt x="0" y="673"/>
                  </a:lnTo>
                  <a:lnTo>
                    <a:pt x="57" y="463"/>
                  </a:lnTo>
                  <a:lnTo>
                    <a:pt x="96" y="272"/>
                  </a:lnTo>
                  <a:lnTo>
                    <a:pt x="245" y="138"/>
                  </a:lnTo>
                  <a:lnTo>
                    <a:pt x="412" y="43"/>
                  </a:lnTo>
                  <a:lnTo>
                    <a:pt x="672" y="0"/>
                  </a:lnTo>
                  <a:lnTo>
                    <a:pt x="687" y="91"/>
                  </a:lnTo>
                  <a:close/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aphicFrame>
        <p:nvGraphicFramePr>
          <p:cNvPr id="144" name=""/>
          <p:cNvGraphicFramePr/>
          <p:nvPr/>
        </p:nvGraphicFramePr>
        <p:xfrm>
          <a:off x="4356000" y="2276640"/>
          <a:ext cx="4191120" cy="36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2276640"/>
                    <a:ext cx="419112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24000" y="1341360"/>
            <a:ext cx="417492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660066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该班共有多少人参加？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660066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哪小组人最多？哪小组人最少？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660066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根据上面数据做统计表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660066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由上表做扇形统计图。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7650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某市中学七（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）班参加兴趣小组，人数统计图如右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997360"/>
          <a:ext cx="3673440" cy="36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2997360"/>
                    <a:ext cx="367344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600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37800" y="990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条形统计图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7400" y="541008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条形统计图能清楚地表示出每个项目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具体数目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2133720"/>
            <a:ext cx="0" cy="215640"/>
          </a:xfrm>
          <a:prstGeom prst="line">
            <a:avLst/>
          </a:prstGeom>
          <a:ln w="12600">
            <a:solidFill>
              <a:srgbClr val="54547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40720" y="5013360"/>
            <a:ext cx="50328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87560" y="2163600"/>
            <a:ext cx="7045200" cy="2837160"/>
            <a:chOff x="1087560" y="2163600"/>
            <a:chExt cx="7045200" cy="2837160"/>
          </a:xfrm>
        </p:grpSpPr>
        <p:sp>
          <p:nvSpPr>
            <p:cNvPr id="155" name=""/>
            <p:cNvSpPr/>
            <p:nvPr/>
          </p:nvSpPr>
          <p:spPr>
            <a:xfrm>
              <a:off x="1608120" y="4419720"/>
              <a:ext cx="716040" cy="5792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5000" y="4219560"/>
              <a:ext cx="703440" cy="779400"/>
            </a:xfrm>
            <a:prstGeom prst="rect">
              <a:avLst/>
            </a:prstGeom>
            <a:solidFill>
              <a:srgbClr val="a7ccd9"/>
            </a:solidFill>
            <a:ln w="11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29280" y="2449440"/>
              <a:ext cx="716040" cy="254952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6160" y="4419720"/>
              <a:ext cx="704880" cy="579240"/>
            </a:xfrm>
            <a:prstGeom prst="rect">
              <a:avLst/>
            </a:prstGeom>
            <a:solidFill>
              <a:srgbClr val="cc99ff"/>
            </a:solidFill>
            <a:ln w="11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87560" y="2163600"/>
              <a:ext cx="1440" cy="2835360"/>
            </a:xfrm>
            <a:prstGeom prst="line">
              <a:avLst/>
            </a:prstGeom>
            <a:ln w="3492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87560" y="4998960"/>
              <a:ext cx="7045200" cy="1800"/>
            </a:xfrm>
            <a:prstGeom prst="line">
              <a:avLst/>
            </a:prstGeom>
            <a:ln w="3492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066680" y="1981080"/>
            <a:ext cx="73080" cy="2174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714120" y="8618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折线统计图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4280" y="46530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大家在哪些地方见过折线统计图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46120" y="1443240"/>
            <a:ext cx="7408800" cy="2693880"/>
            <a:chOff x="1446120" y="1443240"/>
            <a:chExt cx="7408800" cy="2693880"/>
          </a:xfrm>
        </p:grpSpPr>
        <p:sp>
          <p:nvSpPr>
            <p:cNvPr id="165" name=""/>
            <p:cNvSpPr/>
            <p:nvPr/>
          </p:nvSpPr>
          <p:spPr>
            <a:xfrm>
              <a:off x="1446120" y="1443240"/>
              <a:ext cx="1440" cy="269208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6120" y="4135320"/>
              <a:ext cx="96840" cy="180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46120" y="3863880"/>
              <a:ext cx="96840" cy="180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46120" y="3598920"/>
              <a:ext cx="96840" cy="144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46120" y="3328920"/>
              <a:ext cx="96840" cy="180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6120" y="3057480"/>
              <a:ext cx="96840" cy="180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46120" y="2792520"/>
              <a:ext cx="96840" cy="144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46120" y="2521080"/>
              <a:ext cx="96840" cy="144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46120" y="2249640"/>
              <a:ext cx="96840" cy="144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6120" y="1979640"/>
              <a:ext cx="96840" cy="144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46120" y="1714680"/>
              <a:ext cx="96840" cy="144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46120" y="1443240"/>
              <a:ext cx="96840" cy="144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46120" y="4135320"/>
              <a:ext cx="7407360" cy="180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446120" y="4081320"/>
              <a:ext cx="1440" cy="5364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303360" y="4081320"/>
              <a:ext cx="1800" cy="5364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149800" y="4081320"/>
              <a:ext cx="1440" cy="5364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007040" y="4081320"/>
              <a:ext cx="1440" cy="5364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8853480" y="4081320"/>
              <a:ext cx="1440" cy="53640"/>
            </a:xfrm>
            <a:prstGeom prst="line">
              <a:avLst/>
            </a:prstGeom>
            <a:ln w="36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68440" y="3395520"/>
              <a:ext cx="1859040" cy="190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227480" y="1714680"/>
              <a:ext cx="1844640" cy="16812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72120" y="1714680"/>
              <a:ext cx="1859040" cy="18716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95360" y="3544920"/>
              <a:ext cx="146160" cy="8244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46" y="0"/>
                  </a:moveTo>
                  <a:lnTo>
                    <a:pt x="92" y="26"/>
                  </a:lnTo>
                  <a:lnTo>
                    <a:pt x="46" y="52"/>
                  </a:lnTo>
                  <a:lnTo>
                    <a:pt x="0" y="2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4400" y="3355920"/>
              <a:ext cx="145800" cy="81000"/>
            </a:xfrm>
            <a:custGeom>
              <a:avLst/>
              <a:gdLst/>
              <a:ahLst/>
              <a:rect l="l" t="t" r="r" b="b"/>
              <a:pathLst>
                <a:path w="92" h="51">
                  <a:moveTo>
                    <a:pt x="46" y="0"/>
                  </a:moveTo>
                  <a:lnTo>
                    <a:pt x="92" y="25"/>
                  </a:lnTo>
                  <a:lnTo>
                    <a:pt x="46" y="51"/>
                  </a:lnTo>
                  <a:lnTo>
                    <a:pt x="0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00480" y="1673280"/>
              <a:ext cx="144720" cy="82440"/>
            </a:xfrm>
            <a:custGeom>
              <a:avLst/>
              <a:gdLst/>
              <a:ahLst/>
              <a:rect l="l" t="t" r="r" b="b"/>
              <a:pathLst>
                <a:path w="91" h="52">
                  <a:moveTo>
                    <a:pt x="45" y="0"/>
                  </a:moveTo>
                  <a:lnTo>
                    <a:pt x="91" y="26"/>
                  </a:lnTo>
                  <a:lnTo>
                    <a:pt x="45" y="52"/>
                  </a:lnTo>
                  <a:lnTo>
                    <a:pt x="0" y="2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58080" y="3544920"/>
              <a:ext cx="145800" cy="8244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46" y="0"/>
                  </a:moveTo>
                  <a:lnTo>
                    <a:pt x="92" y="26"/>
                  </a:lnTo>
                  <a:lnTo>
                    <a:pt x="46" y="52"/>
                  </a:lnTo>
                  <a:lnTo>
                    <a:pt x="0" y="2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8459640" y="4149720"/>
            <a:ext cx="576360" cy="0"/>
          </a:xfrm>
          <a:prstGeom prst="line">
            <a:avLst/>
          </a:prstGeom>
          <a:ln w="284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1197000"/>
            <a:ext cx="73080" cy="2174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26560" y="54450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折线统计图能清楚地反映事物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变化情况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752480" y="1295280"/>
          <a:ext cx="5791320" cy="37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295280"/>
                    <a:ext cx="579132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636720" y="76212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扇形统计图</a:t>
            </a:r>
            <a:r>
              <a:rPr b="1" lang="zh-CN" sz="18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4800" y="48690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扇形统计图能清楚地表示出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各部分在总体中所占的比例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28600" y="914400"/>
          <a:ext cx="4800600" cy="42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14400"/>
                    <a:ext cx="48006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924080" y="1143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亿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32480" y="48852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年后世界人口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73240" y="-299520"/>
            <a:ext cx="606960" cy="58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其中亚洲人口最多，将达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05400" y="646200"/>
            <a:ext cx="9115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5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48680" y="4765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9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56320" y="5334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亿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56520" y="4997520"/>
            <a:ext cx="10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52.68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42720" y="5638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亿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816280" y="3933720"/>
          <a:ext cx="4419720" cy="267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6280" y="3933720"/>
                    <a:ext cx="441972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048120" y="56386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0066"/>
                </a:solidFill>
                <a:latin typeface="Times New Roman"/>
              </a:rPr>
              <a:t>非洲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4114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0066"/>
                </a:solidFill>
                <a:latin typeface="Times New Roman"/>
              </a:rPr>
              <a:t>拉美</a:t>
            </a:r>
            <a:r>
              <a:rPr b="1" lang="zh-CN" sz="1200" spc="-1" strike="noStrike">
                <a:solidFill>
                  <a:srgbClr val="660066"/>
                </a:solidFill>
                <a:latin typeface="Times New Roman"/>
              </a:rPr>
              <a:t>/</a:t>
            </a:r>
            <a:r>
              <a:rPr b="1" lang="zh-CN" sz="1200" spc="-1" strike="noStrike">
                <a:solidFill>
                  <a:srgbClr val="660066"/>
                </a:solidFill>
                <a:latin typeface="Times New Roman"/>
              </a:rPr>
              <a:t>加勒比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4038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0066"/>
                </a:solidFill>
                <a:latin typeface="Times New Roman"/>
              </a:rPr>
              <a:t>欧洲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4038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0066"/>
                </a:solidFill>
                <a:latin typeface="Times New Roman"/>
              </a:rPr>
              <a:t>北美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5562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0066"/>
                </a:solidFill>
                <a:latin typeface="Times New Roman"/>
              </a:rPr>
              <a:t>亚洲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1143000" y="5257800"/>
            <a:ext cx="1219320" cy="1079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43200" y="1828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亿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5740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亿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90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亿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亿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14400" y="4572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亿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324000" y="6021360"/>
            <a:ext cx="539640" cy="50328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3159" h="21600">
                <a:moveTo>
                  <a:pt x="0" y="0"/>
                </a:moveTo>
                <a:lnTo>
                  <a:pt x="23159" y="0"/>
                </a:lnTo>
                <a:lnTo>
                  <a:pt x="23159" y="21600"/>
                </a:lnTo>
                <a:lnTo>
                  <a:pt x="0" y="21600"/>
                </a:lnTo>
                <a:close/>
              </a:path>
              <a:path fill="lightenLess" w="23159" h="21600">
                <a:moveTo>
                  <a:pt x="0" y="0"/>
                </a:moveTo>
                <a:lnTo>
                  <a:pt x="23159" y="0"/>
                </a:lnTo>
                <a:lnTo>
                  <a:pt x="21759" y="1400"/>
                </a:lnTo>
                <a:lnTo>
                  <a:pt x="1400" y="1400"/>
                </a:lnTo>
                <a:close/>
              </a:path>
              <a:path fill="darken" w="23159" h="21600">
                <a:moveTo>
                  <a:pt x="23159" y="0"/>
                </a:moveTo>
                <a:lnTo>
                  <a:pt x="23159" y="21600"/>
                </a:lnTo>
                <a:lnTo>
                  <a:pt x="21759" y="20200"/>
                </a:lnTo>
                <a:lnTo>
                  <a:pt x="21759" y="1400"/>
                </a:lnTo>
                <a:close/>
              </a:path>
              <a:path fill="darkenLess" w="23159" h="21600">
                <a:moveTo>
                  <a:pt x="2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9" y="20200"/>
                </a:lnTo>
                <a:close/>
              </a:path>
              <a:path fill="lighten" w="2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9" h="21600">
                <a:moveTo>
                  <a:pt x="4573" y="3794"/>
                </a:moveTo>
                <a:lnTo>
                  <a:pt x="18586" y="10800"/>
                </a:lnTo>
                <a:lnTo>
                  <a:pt x="4573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447920" y="609480"/>
          <a:ext cx="678168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609480"/>
                    <a:ext cx="67816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637440" y="2286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世界人口变化情况统计图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00720" y="3141720"/>
          <a:ext cx="4343400" cy="365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3141720"/>
                    <a:ext cx="43434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909040" y="28195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2050</a:t>
            </a: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年世界人口预测图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352680"/>
          <a:ext cx="4267080" cy="268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3352680"/>
                    <a:ext cx="426708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90120" y="306216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2050</a:t>
            </a:r>
            <a:r>
              <a:rPr b="1" lang="zh-CN" sz="1800" spc="-1" strike="noStrike">
                <a:solidFill>
                  <a:srgbClr val="660066"/>
                </a:solidFill>
                <a:latin typeface="Times New Roman"/>
              </a:rPr>
              <a:t>年世界人口分布预测图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8133" y="10800"/>
                </a:moveTo>
                <a:lnTo>
                  <a:pt x="22146" y="3794"/>
                </a:lnTo>
                <a:lnTo>
                  <a:pt x="22146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321800" y="200196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花卉开花期统计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28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议一议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762120" cy="758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838080" y="2971800"/>
            <a:ext cx="1279800" cy="1371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2362320" y="2971800"/>
            <a:ext cx="1218960" cy="1371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733920" y="2895480"/>
            <a:ext cx="1371600" cy="1430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5334120" y="2895480"/>
            <a:ext cx="1206360" cy="1447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6781680" y="2895480"/>
            <a:ext cx="121932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685800" y="2895480"/>
          <a:ext cx="7543800" cy="2590920"/>
        </p:xfrm>
        <a:graphic>
          <a:graphicData uri="http://schemas.openxmlformats.org/drawingml/2006/table">
            <a:tbl>
              <a:tblPr/>
              <a:tblGrid>
                <a:gridCol w="1523880"/>
                <a:gridCol w="1447920"/>
                <a:gridCol w="1600200"/>
                <a:gridCol w="1371600"/>
                <a:gridCol w="1600200"/>
              </a:tblGrid>
              <a:tr h="19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一串红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三色堇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水仙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芍药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百合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十个月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四个月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四个月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五个月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七个月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375640" y="10666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选择适当的统计图表示下列的数据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1523880" y="182880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8288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95920" y="1295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花卉开花期条形统计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228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议一议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76212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3:06:02Z</dcterms:created>
  <dc:creator>XMJ</dc:creator>
  <dc:description/>
  <dc:language>en-US</dc:language>
  <cp:lastModifiedBy>bobcow</cp:lastModifiedBy>
  <dcterms:modified xsi:type="dcterms:W3CDTF">2003-11-16T13:28:59Z</dcterms:modified>
  <cp:revision>52</cp:revision>
  <dc:subject/>
  <dc:title>PowerPoint 演示文稿</dc:title>
</cp:coreProperties>
</file>