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176-AD77-44E4-B097-00A0B299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2CB-CC75-483D-9550-7E056664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13D-9EBC-4BCD-810B-1639FE11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F2E-31FE-4146-9281-B28F6DF0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2E3-6C7E-4416-A2F6-EA3BB8B2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826-43B5-4109-9D2E-F16AC47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D01-80EA-470B-A309-772DA75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9E9-B076-434D-B7F0-A4A990A4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233-AE6C-41F1-88DA-C15C3DED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5A5-6AC6-4894-BACC-DA6CBE1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C0D-561A-4D68-9F9D-396726A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A9E-D63D-4D4B-BED2-FB81061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079C-23F9-47D5-844C-C6416266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8271;&#26041;&#20307;&#12289;&#27491;&#26041;&#20307;2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057400"/>
            <a:ext cx="2286000" cy="19051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429000" y="251460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429000" y="320040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上海制笔销售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宜兴洋新兴化工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195400">
            <a:off x="3276720" y="312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高级碳素墨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3080" y="2590920"/>
            <a:ext cx="110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Dolphin"/>
                <a:ea typeface="隶书"/>
              </a:rPr>
              <a:t>新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（     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0433000">
            <a:off x="3353040" y="28954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905120"/>
            <a:ext cx="2819520" cy="228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514600"/>
            <a:ext cx="0" cy="16765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220968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438280" y="3200400"/>
            <a:ext cx="609840" cy="5335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8195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北   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666880" y="25142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66880" y="28191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981080"/>
            <a:ext cx="2590920" cy="2362320"/>
          </a:xfrm>
          <a:prstGeom prst="parallelogram">
            <a:avLst>
              <a:gd name="adj" fmla="val 27419"/>
            </a:avLst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9810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43434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229240" y="220968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3434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724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4419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648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77320" y="2057400"/>
            <a:ext cx="6858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153280" y="213372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229600" y="213336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1492600">
            <a:off x="6552720" y="2209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学生字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29000" y="2057400"/>
            <a:ext cx="2286000" cy="190512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905120"/>
            <a:ext cx="2819520" cy="2286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1981080"/>
            <a:ext cx="2590920" cy="2362320"/>
          </a:xfrm>
          <a:prstGeom prst="parallelogram">
            <a:avLst>
              <a:gd name="adj" fmla="val 27419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686800" y="19810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43434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229240" y="220968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43434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4724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1905120"/>
            <a:ext cx="5105520" cy="2590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0920" y="19051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476760" y="19051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81080" y="19047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4956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477120" y="38858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514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909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81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86200"/>
            <a:ext cx="5105520" cy="609480"/>
          </a:xfrm>
          <a:prstGeom prst="parallelogram">
            <a:avLst>
              <a:gd name="adj" fmla="val 996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5400000">
            <a:off x="990360" y="2895480"/>
            <a:ext cx="2590560" cy="609840"/>
          </a:xfrm>
          <a:prstGeom prst="parallelogram">
            <a:avLst>
              <a:gd name="adj" fmla="val 10279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905120"/>
            <a:ext cx="4495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rot="5400000">
            <a:off x="5485680" y="2895480"/>
            <a:ext cx="2590560" cy="609480"/>
          </a:xfrm>
          <a:prstGeom prst="parallelogram">
            <a:avLst>
              <a:gd name="adj" fmla="val 10285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514600"/>
            <a:ext cx="449604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905120"/>
            <a:ext cx="5105520" cy="609480"/>
          </a:xfrm>
          <a:prstGeom prst="parallelogram">
            <a:avLst>
              <a:gd name="adj" fmla="val 9966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4800600"/>
            <a:ext cx="5105160" cy="609480"/>
          </a:xfrm>
          <a:prstGeom prst="parallelogram">
            <a:avLst>
              <a:gd name="adj" fmla="val 99662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5400000">
            <a:off x="913680" y="3809880"/>
            <a:ext cx="2590560" cy="609480"/>
          </a:xfrm>
          <a:prstGeom prst="parallelogram">
            <a:avLst>
              <a:gd name="adj" fmla="val 10285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19520"/>
            <a:ext cx="4495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5400000">
            <a:off x="5409360" y="3809880"/>
            <a:ext cx="2590560" cy="609480"/>
          </a:xfrm>
          <a:prstGeom prst="parallelogram">
            <a:avLst>
              <a:gd name="adj" fmla="val 10285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429000"/>
            <a:ext cx="4495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819520"/>
            <a:ext cx="5105160" cy="609480"/>
          </a:xfrm>
          <a:prstGeom prst="parallelogram">
            <a:avLst>
              <a:gd name="adj" fmla="val 99662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4191120"/>
            <a:ext cx="5105160" cy="609480"/>
          </a:xfrm>
          <a:prstGeom prst="parallelogram">
            <a:avLst>
              <a:gd name="adj" fmla="val 99662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rot="5400000">
            <a:off x="913320" y="3200040"/>
            <a:ext cx="2590920" cy="609480"/>
          </a:xfrm>
          <a:prstGeom prst="parallelogram">
            <a:avLst>
              <a:gd name="adj" fmla="val 10287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209680"/>
            <a:ext cx="4495680" cy="1981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5400000">
            <a:off x="5409360" y="3200040"/>
            <a:ext cx="2590920" cy="609480"/>
          </a:xfrm>
          <a:prstGeom prst="parallelogram">
            <a:avLst>
              <a:gd name="adj" fmla="val 10287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819520"/>
            <a:ext cx="4495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209680"/>
            <a:ext cx="5105160" cy="609840"/>
          </a:xfrm>
          <a:prstGeom prst="parallelogram">
            <a:avLst>
              <a:gd name="adj" fmla="val 99603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2:53:31Z</dcterms:created>
  <dc:creator>xjh</dc:creator>
  <dc:description/>
  <dc:language>en-US</dc:language>
  <cp:lastModifiedBy>xjh</cp:lastModifiedBy>
  <dcterms:modified xsi:type="dcterms:W3CDTF">2000-11-14T12:27:11Z</dcterms:modified>
  <cp:revision>7</cp:revision>
  <dc:subject/>
  <dc:title>没有幻灯片标题</dc:title>
</cp:coreProperties>
</file>