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11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5935F-86C8-4450-A0F6-EAFF6924F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72F29-C6FF-4874-A59B-360F730FF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5067E-D946-488C-8131-B73B289FC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E8685-1C9A-4CC0-9A59-93C0F6058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AC342-DB83-4E93-89A4-91EA918EF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0E06B-9776-4548-9804-D46678E13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54408-AF21-4DB2-A5DC-32ABB9448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F5DD6-9088-46CB-B826-A64260D09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F4B95-614E-42D2-970E-C71119B36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1898B-29A2-4BA9-8888-B49C5E199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171F6-73E7-46B2-9E4A-7DA0B56A8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FD713-3AB4-4B0E-A2A8-2E8AB8A9A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60485-AA1A-41B3-B2D9-4FFF0AE2400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743200" y="1676520"/>
            <a:ext cx="44956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50000">
                      <a:srgbClr val="4d0808"/>
                    </a:gs>
                    <a:gs pos="100000">
                      <a:srgbClr val="fff2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楷体_GB2312"/>
              </a:rPr>
              <a:t>雷雨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50000">
                    <a:srgbClr val="4d0808"/>
                  </a:gs>
                  <a:gs pos="100000">
                    <a:srgbClr val="fff2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楷体_GB2312"/>
              <a:ea typeface="楷体_GB2312"/>
            </a:endParaRPr>
          </a:p>
        </p:txBody>
      </p:sp>
      <p:pic>
        <p:nvPicPr>
          <p:cNvPr id="42" name="button106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469360" y="6173640"/>
            <a:ext cx="674640" cy="67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button106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469360" y="6173640"/>
            <a:ext cx="674640" cy="6750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1981080" y="1523880"/>
            <a:ext cx="5486400" cy="4130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447920" y="2057400"/>
            <a:ext cx="64767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思考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注意听他们把字音读准了没有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三个同学所读的内容分别是写什么时候的雷雨景色？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button106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469360" y="6173640"/>
            <a:ext cx="674640" cy="67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button106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469360" y="6173640"/>
            <a:ext cx="674640" cy="67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button106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469360" y="6173640"/>
            <a:ext cx="674640" cy="67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button106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469360" y="6173640"/>
            <a:ext cx="674640" cy="67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button106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469360" y="6173640"/>
            <a:ext cx="674640" cy="67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390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 txBox="1"/>
          <p:nvPr/>
        </p:nvSpPr>
        <p:spPr>
          <a:xfrm>
            <a:off x="2819520" y="1676520"/>
            <a:ext cx="2452680" cy="113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再见！</a:t>
            </a:r>
            <a:endParaRPr b="1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9T02:41:39Z</dcterms:created>
  <dc:creator>lichengquan</dc:creator>
  <dc:description/>
  <dc:language>en-US</dc:language>
  <cp:lastModifiedBy>yf</cp:lastModifiedBy>
  <dcterms:modified xsi:type="dcterms:W3CDTF">2004-02-05T03:27:05Z</dcterms:modified>
  <cp:revision>7</cp:revision>
  <dc:subject/>
  <dc:title>PowerPoint 演示文稿</dc:title>
</cp:coreProperties>
</file>