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519-3183-40B6-A16A-5C888BD3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EAD-1223-4927-A05B-30908C6F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7FF-563B-47DD-909F-6F7B204C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908-2EB0-4384-B972-9501FEEE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7AD7C-2FB9-4176-A20C-5890D2A3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D1769-3258-4C1D-9DA6-CA52832B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4162C-E45F-419B-8D30-3BCC7EA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32F9-FDE7-4D9D-9EFC-5B6E218C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BDAD8-7654-4836-B9F9-6067BD36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8828-8E5F-4838-815E-161E112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B6830-55FC-46AC-902C-5993D9C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2AB-AD2F-493C-90E4-29B0585B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189AE-3812-459D-95A9-E26C1C9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0B57F-F396-4D24-AE3D-3600623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CF59A-5152-48A9-8CCC-FE23FA5F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4DF2D-9751-48B3-B591-1CD35A18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D480D-7E7B-4565-90F9-BE316249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E94-287C-4155-960E-18F91C92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F49-C0D4-46D7-B350-662FF69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C92-E2E0-46DF-937B-AB8B2FBC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E96-B9E8-4A05-AC95-47704340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F06-AA7C-4D6B-9681-C548817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304-7B4F-4C4A-B5B0-9BA6C64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F03-EE66-45CE-810E-B0D0534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3DBD-BEEF-46B8-BF2A-0FF9E2BB72E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5C3A-4D9D-4495-8ABC-60569F56A29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新魏"/>
              </a:rPr>
              <a:t>诚信是金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拥有诚信，一根小小的火柴，可以燃烧一片心空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拥有诚信，一片小小的绿叶，可以倾倒一个季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拥有诚信，一朵小小的浪花，可以飞溅起一个海洋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10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200"/>
                            </p:stCondLst>
                            <p:childTnLst>
                              <p:par>
                                <p:cTn id="1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296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故事续编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一位彩票售票点的姑娘接受一位顾客电话订购彩票，而顾客没有及时去取彩票，无巧不成书，而恰恰这张彩票中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500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万大奖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00"/>
                </a:solidFill>
                <a:latin typeface="Arial"/>
                <a:ea typeface="华文新魏"/>
              </a:rPr>
              <a:t>问：你觉得事情会怎样发展？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20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2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故事大荟萃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古往今来，有关诚信和不诚信的故事你知道还有哪些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从这些故事中你了解到什么是诚信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005360"/>
            <a:ext cx="101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诚信即诚实守信。就是实事求是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诚实做人，做事讲信用。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《中国留学生就业遭遇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有一中国学生在国外潜心钻研，埋头苦学，终于获得博士学位。他想：“凭着自己的专业水平，在大企业找份工作应该不成问题。”于是，他去了一所有名的大企业应聘，一切都非常顺利，然后他就安心回家专等录取通知书。不久，收到一封信，告诉他：“你非常优秀，你聪明又有较高的专业水平，但很遗憾我们不能录取你……”。既然大企业不行，就找一家中等企业吧，他找了一家后去应聘，结果等来的仍然是“你很优秀，但很遗憾不能录用你……”，最后这个学生想，那我就从小企业做起，这总该可以了吧，但结果仍然一样。这个学生怎么也想不通，如此优秀的他竟没有一家企业录用他呢？而这一切都源于他曾经的几次乘公交车逃票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温州皮鞋的遭遇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世纪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代，温州皮鞋又叫“一日鞋”“晨昏鞋”，假冒伪劣的品质引起全国消费者的公愤，以至于很多商场贴出“本店无温州鞋”的安民告示。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7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在杭州武林广场，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双温州劣质皮鞋被市民扔进熊熊大火。这把火烧醒了温州人的诚信意识。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后，温州人用诚信重新拾起温州皮鞋的尊严，在“中国十大鞋王”中，温州皮鞋有三大品牌名列其中。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温州人又将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这个倍感耻辱的日子确定为“诚信日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e3e3ff"/>
                </a:solidFill>
                <a:latin typeface="华文新魏"/>
                <a:ea typeface="华文新魏"/>
              </a:rPr>
              <a:t>请大家自主阅读教材，以小组为单位，从《中国留学生就业遭遇》和《温州皮鞋的遭遇》及书本</a:t>
            </a:r>
            <a:r>
              <a:rPr b="1" lang="zh-CN" sz="3600" spc="-1" strike="noStrike">
                <a:solidFill>
                  <a:srgbClr val="e3e3ff"/>
                </a:solidFill>
                <a:latin typeface="华文新魏"/>
                <a:ea typeface="华文新魏"/>
              </a:rPr>
              <a:t>P116</a:t>
            </a:r>
            <a:r>
              <a:rPr b="1" lang="zh-CN" sz="3600" spc="-1" strike="noStrike">
                <a:solidFill>
                  <a:srgbClr val="e3e3ff"/>
                </a:solidFill>
                <a:latin typeface="华文新魏"/>
                <a:ea typeface="华文新魏"/>
              </a:rPr>
              <a:t>页上图片材料、相关链接材料中任选一则进行讨论。</a:t>
            </a:r>
            <a:br>
              <a:rPr sz="3600"/>
            </a:br>
            <a:r>
              <a:rPr b="1" lang="zh-CN" sz="3600" spc="-1" strike="noStrike">
                <a:solidFill>
                  <a:srgbClr val="e3e3ff"/>
                </a:solidFill>
                <a:latin typeface="华文新魏"/>
                <a:ea typeface="华文新魏"/>
              </a:rPr>
              <a:t>想一想：这些经历说明了什么？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0280"/>
            <a:ext cx="31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小组讨论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760" y="4508640"/>
            <a:ext cx="8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诚信是个人和企业生存、发展的根本。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自评互判：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日常生活中，在我们大家身边有没有存在对人不守信，对事不负责的现象？你是怎么看待的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日常生活中，你有没有过这样的行为，事后有何感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3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制作诚信卡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给自己设计制作一张“诚信卡”，正面可写上自己喜欢的一句有关诚信的格言，背面可写上自己在诚信方面的努力方向，行为标准，或者自己过去在诚信方面存在的问题，改进的计划等等，以经常提醒、督促自己，做一个诚实守信的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e3e3ff"/>
                </a:solidFill>
                <a:latin typeface="华文新魏"/>
                <a:ea typeface="华文新魏"/>
              </a:rPr>
              <a:t>《天上人间说诚信》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盘古说：“诚信是我开天的巨斧。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女娲说：“诚信是我补天的五彩晶石。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孙行者说：“诚信是王母蟠桃园里熟透的桃子。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孔已己说：“诚信是我站着喝酒时的长衫。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牛顿说：“诚信是我的三大定律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爱因斯坦说：“诚信是我的相对论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愚者说：“诚信是伪君子的假惺惺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智者说：“诚信是人类闪光的金子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哲人说：“诚信是世间万物的源泉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 妈妈说：“诚信是做人的准则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 老师说：“诚信是成长的基准”</a:t>
            </a:r>
            <a:br>
              <a:rPr sz="2800"/>
            </a:br>
            <a:r>
              <a:rPr b="1" lang="zh-CN" sz="2800" spc="-1" strike="noStrike">
                <a:solidFill>
                  <a:srgbClr val="e3e3ff"/>
                </a:solidFill>
                <a:latin typeface="华文新魏"/>
                <a:ea typeface="华文新魏"/>
              </a:rPr>
              <a:t> 朋友说：“诚信是交友的基础”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800600"/>
            <a:ext cx="29718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《我看诚信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8:38:09Z</dcterms:created>
  <dc:creator>aa</dc:creator>
  <dc:description/>
  <dc:language>en-US</dc:language>
  <cp:lastModifiedBy>user</cp:lastModifiedBy>
  <dcterms:modified xsi:type="dcterms:W3CDTF">2005-06-21T00:38:03Z</dcterms:modified>
  <cp:revision>19</cp:revision>
  <dc:subject/>
  <dc:title>诚信是金</dc:title>
</cp:coreProperties>
</file>