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5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24.jpeg" ContentType="image/jpeg"/>
  <Override PartName="/ppt/media/image4.wmf" ContentType="image/x-wmf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6.wmf" ContentType="image/x-wmf"/>
  <Override PartName="/ppt/media/image15.jpeg" ContentType="image/jpeg"/>
  <Override PartName="/ppt/media/image14.wmf" ContentType="image/x-wmf"/>
  <Override PartName="/ppt/media/image1.png" ContentType="image/pn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F5B2-E577-43C0-AB3D-BC19FAF6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7C73-1AD3-4C18-A84F-76E9BBF6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9971-37F7-4249-9B54-3558976D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F802-8DC8-4A32-93E1-5876275E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2EAC-7A73-4DB1-8A5D-61731771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0761-111E-49D4-BA64-B4E35E7A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24BD-B5E6-4907-898B-90CE7866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571C-CAFE-40D9-97FF-7007348C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CE89-B016-4362-B1EA-120D5280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CD2D-B3D8-4008-A72A-004A5B59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EBF7-BA7E-44B9-AD44-075D56D3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6810-E7B2-4197-9C95-0737E473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FF89-1CE9-44C3-97C1-B9DA094B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5B5E-82A4-47B7-9C12-50A54DE4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4E6C-CF89-48CF-91BE-FA932D54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DDBC-1B87-46B2-9389-B1E6A1B5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F4FA-CE1B-4C06-827D-F59519B1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0047-3C4F-405C-BCDB-6182F041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A27E-683F-4E78-8969-B659E8DB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C30B-58B2-4333-9AF2-7505D42D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D84D-76D4-4136-8D8C-85583D6F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E94A-435F-40BF-AD8A-1CFF0C04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36A-CA18-41F0-BAC6-129AFB30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9A22-3261-4A28-AB9F-9282530E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604C-3EE6-4BC6-96D3-2E24C61D98B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9024-7230-4BEA-AA6C-EC505A81144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carbrake.wav" TargetMode="External"/><Relationship Id="rId4" Type="http://schemas.microsoft.com/office/2007/relationships/media" Target="file:///tmp/home/.config/libreoffice/4/user/gallery/carbrake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  <a:ea typeface="隶书"/>
              </a:rPr>
              <a:t>《研究中西饮食文化的差异》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89" name="Vegetable9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3886200" cy="3733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-457200" y="54100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华文彩云"/>
              </a:rPr>
              <a:t>+4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华文彩云"/>
              </a:rPr>
              <a:t>、是否了解西餐的文化？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、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是    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B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、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不是    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C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、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有一点点了解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还要进一步加深对西方文化的了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483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canton10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38088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华文细黑"/>
              </a:rPr>
              <a:t>访问南昌宾馆饮食部经理记录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66ff66"/>
                </a:solidFill>
                <a:latin typeface="Times New Roman"/>
                <a:ea typeface="华文细黑"/>
              </a:rPr>
              <a:t>1</a:t>
            </a:r>
            <a:r>
              <a:rPr b="0" lang="zh-CN" sz="2800" spc="-1" strike="noStrike">
                <a:solidFill>
                  <a:srgbClr val="66ff66"/>
                </a:solidFill>
                <a:latin typeface="Times New Roman"/>
                <a:ea typeface="华文细黑"/>
              </a:rPr>
              <a:t>、问：你认为西餐是否可以列为健康饮食的行列，或西餐会不适合东方人的饮食习惯？</a:t>
            </a:r>
            <a:br>
              <a:rPr sz="2800"/>
            </a:br>
            <a:r>
              <a:rPr b="0" lang="zh-CN" sz="2800" spc="-1" strike="noStrike">
                <a:solidFill>
                  <a:srgbClr val="66ff66"/>
                </a:solidFill>
                <a:latin typeface="Times New Roman"/>
                <a:ea typeface="华文细黑"/>
              </a:rPr>
              <a:t>答：我认为是可以的，各个民族的饮食都有它存在的价值，西餐也一样，它也包含了大量营养，养育着西方一代又一代的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66"/>
                </a:solidFill>
                <a:latin typeface="Times New Roman"/>
                <a:ea typeface="华文细黑"/>
              </a:rPr>
              <a:t>2</a:t>
            </a:r>
            <a:r>
              <a:rPr b="0" lang="zh-CN" sz="2800" spc="-1" strike="noStrike">
                <a:solidFill>
                  <a:srgbClr val="66ff66"/>
                </a:solidFill>
                <a:latin typeface="Times New Roman"/>
                <a:ea typeface="华文细黑"/>
              </a:rPr>
              <a:t>、问：现在市场上出现很多的西餐厅，价格实在匪夷所思，但还是有很多人光顾，你认为这种现象说明了什么？</a:t>
            </a:r>
            <a:br>
              <a:rPr sz="2800"/>
            </a:br>
            <a:r>
              <a:rPr b="0" lang="zh-CN" sz="2800" spc="-1" strike="noStrike">
                <a:solidFill>
                  <a:srgbClr val="66ff66"/>
                </a:solidFill>
                <a:latin typeface="Times New Roman"/>
                <a:ea typeface="华文细黑"/>
              </a:rPr>
              <a:t>答：这并不奇怪，人们中餐吃得多了，理所当然会想要换换口味、换换氛围，增添一些新鲜感，满足他们的好奇心等等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Zhejiang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55736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3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、问：造成中西饮食文化差异的原因有很多，那么你认为最重要的原因是什么？</a:t>
            </a:r>
            <a:br>
              <a:rPr sz="2800"/>
            </a:b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答：它们食品的热量不同，制作时间也不同，做工方面不同，而且食用时间也不同，我想这就是它们的主要差别吧。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4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、问：从思想上来说，中国和西方可以说有很大的差距，你认为中西饮食文化差异是否跟思想有关呢？</a:t>
            </a:r>
            <a:br>
              <a:rPr sz="2800"/>
            </a:b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答：我认为这是没有关系的，如果连吃都要考虑是否与思想一致，那么西方人不就全都成思想家了吗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scdish8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8269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6fc00"/>
                </a:solidFill>
                <a:latin typeface="Times New Roman"/>
                <a:ea typeface="华文细黑"/>
              </a:rPr>
              <a:t>5</a:t>
            </a:r>
            <a:r>
              <a:rPr b="1" lang="zh-CN" sz="2400" spc="-1" strike="noStrike">
                <a:solidFill>
                  <a:srgbClr val="f6fc00"/>
                </a:solidFill>
                <a:latin typeface="Times New Roman"/>
                <a:ea typeface="华文细黑"/>
              </a:rPr>
              <a:t>、问：随着时间的变化，中方和西方的饮食都在变化，你认为这种变化是否和两个地区的文化交流有关？</a:t>
            </a:r>
            <a:br>
              <a:rPr sz="2400"/>
            </a:br>
            <a:r>
              <a:rPr b="1" lang="zh-CN" sz="2400" spc="-1" strike="noStrike">
                <a:solidFill>
                  <a:srgbClr val="f6fc00"/>
                </a:solidFill>
                <a:latin typeface="Times New Roman"/>
                <a:ea typeface="华文细黑"/>
              </a:rPr>
              <a:t>答：这是存在着一定关系的，这是营养、做工两方面的综合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6fc00"/>
                </a:solidFill>
                <a:latin typeface="Times New Roman"/>
                <a:ea typeface="华文细黑"/>
              </a:rPr>
              <a:t>6</a:t>
            </a:r>
            <a:r>
              <a:rPr b="1" lang="zh-CN" sz="2400" spc="-1" strike="noStrike">
                <a:solidFill>
                  <a:srgbClr val="f6fc00"/>
                </a:solidFill>
                <a:latin typeface="Times New Roman"/>
                <a:ea typeface="华文细黑"/>
              </a:rPr>
              <a:t>、问：东方饮食的精髓和西方饮食的精髓各是什么？</a:t>
            </a:r>
            <a:br>
              <a:rPr sz="2400"/>
            </a:br>
            <a:r>
              <a:rPr b="1" lang="zh-CN" sz="2400" spc="-1" strike="noStrike">
                <a:solidFill>
                  <a:srgbClr val="f6fc00"/>
                </a:solidFill>
                <a:latin typeface="Times New Roman"/>
                <a:ea typeface="华文细黑"/>
              </a:rPr>
              <a:t>答：东方在于选料广泛，而西方注重很好的搭配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6fc00"/>
                </a:solidFill>
                <a:latin typeface="Times New Roman"/>
                <a:ea typeface="华文细黑"/>
              </a:rPr>
              <a:t>7</a:t>
            </a:r>
            <a:r>
              <a:rPr b="1" lang="zh-CN" sz="2400" spc="-1" strike="noStrike">
                <a:solidFill>
                  <a:srgbClr val="f6fc00"/>
                </a:solidFill>
                <a:latin typeface="Times New Roman"/>
                <a:ea typeface="华文细黑"/>
              </a:rPr>
              <a:t>、问：很多人很在乎怎样吃东西的方法，而西方和东方的用餐方式都有不同的讲究。现在，有很多人都在学习西方的用餐礼仪，西餐也成为一种时尚，这是否意味着中国人已经渐渐西化？</a:t>
            </a:r>
            <a:br>
              <a:rPr sz="2400"/>
            </a:br>
            <a:r>
              <a:rPr b="1" lang="zh-CN" sz="2400" spc="-1" strike="noStrike">
                <a:solidFill>
                  <a:srgbClr val="f6fc00"/>
                </a:solidFill>
                <a:latin typeface="Times New Roman"/>
                <a:ea typeface="华文细黑"/>
              </a:rPr>
              <a:t>答：这不但没有使中国人西化，反而是引进西方竞争的好东西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confucia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13748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66"/>
                </a:solidFill>
                <a:latin typeface="Times New Roman"/>
                <a:ea typeface="华文细黑"/>
              </a:rPr>
              <a:t>8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  <a:ea typeface="华文细黑"/>
              </a:rPr>
              <a:t>、问：我国有各式各样富有民族特色的风味小吃，但这样的店却已渐渐被西餐厅、咖啡店所代替，你认为这样是否有利于中国民族小吃的发展，或会影响中国饮食业？</a:t>
            </a:r>
            <a:br>
              <a:rPr sz="2400"/>
            </a:br>
            <a:r>
              <a:rPr b="1" lang="zh-CN" sz="2400" spc="-1" strike="noStrike">
                <a:solidFill>
                  <a:srgbClr val="66ff66"/>
                </a:solidFill>
                <a:latin typeface="Times New Roman"/>
                <a:ea typeface="华文细黑"/>
              </a:rPr>
              <a:t>答：这是不会影响的，这更会促进中餐厅和风味小吃店注重服务和菜的质量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66ff66"/>
                </a:solidFill>
                <a:latin typeface="Times New Roman"/>
                <a:ea typeface="华文细黑"/>
              </a:rPr>
              <a:t>9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  <a:ea typeface="华文细黑"/>
              </a:rPr>
              <a:t>、问：中国加入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  <a:ea typeface="华文细黑"/>
              </a:rPr>
              <a:t>WTO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  <a:ea typeface="华文细黑"/>
              </a:rPr>
              <a:t>，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  <a:ea typeface="华文细黑"/>
              </a:rPr>
              <a:t>是否会影响中国饮食业？会不会对中国饮食业造成冲击？</a:t>
            </a:r>
            <a:br>
              <a:rPr sz="2400"/>
            </a:br>
            <a:r>
              <a:rPr b="1" lang="zh-CN" sz="2400" spc="-1" strike="noStrike">
                <a:solidFill>
                  <a:srgbClr val="66ff66"/>
                </a:solidFill>
                <a:latin typeface="Times New Roman"/>
                <a:ea typeface="华文细黑"/>
              </a:rPr>
              <a:t>答：这更有利于提高中国饮食，我们可以吸其精华，还会有各种各样的调味品进入中国，帮助提高中国的饮食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anhuidish8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557360"/>
            <a:ext cx="91440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10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、问：现在有很多茶餐厅，但装修却偏向于西方，那么这种茶餐厅是属于中国饮食还是西方饮食？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答：由于时代的变化，中西饮食逐渐结合，人们需要的演变，饮茶便取代饮食并与西方式的装修相结合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1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、问：如何看待饮食文化？在你眼中，饮食文化是什么？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答：这是通过历史、传统文化，针对个人口味，且随着人们对新事物的要求而改变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mbls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8380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cc33"/>
                </a:solidFill>
                <a:uFillTx/>
                <a:latin typeface="Times New Roman"/>
                <a:ea typeface="幼圆"/>
              </a:rPr>
              <a:t>内容概要</a:t>
            </a: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幼圆"/>
              </a:rPr>
              <a:t>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   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在改革开放的今天，人们的精神和物质生活水平在不断提高，对“吃”也就越来越讲究。随着中国加入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WT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中国的个行个业都面临着许多机遇和挑战，饮食业当然也不例外。这样我们接触的西方饮食的机会也就越来越多，吃着吃着，我们很自然的那其与中国的饮食相比较。从中国古代到现代，饮食习俗，特色小吃入手，与西方美国，德国，保加利亚等国家的饮食特点做比较，从而提出对我国饮食业的不足处的建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wn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8380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幼圆"/>
              </a:rPr>
              <a:t>体会</a:t>
            </a:r>
            <a:r>
              <a:rPr b="0" lang="zh-CN" sz="2800" spc="-1" strike="noStrike">
                <a:solidFill>
                  <a:srgbClr val="ff0033"/>
                </a:solidFill>
                <a:latin typeface="Times New Roman"/>
                <a:ea typeface="幼圆"/>
              </a:rPr>
              <a:t>：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33"/>
                </a:solidFill>
                <a:latin typeface="Times New Roman"/>
                <a:ea typeface="幼圆"/>
              </a:rPr>
              <a:t>    </a:t>
            </a:r>
            <a:r>
              <a:rPr b="0" lang="zh-CN" sz="2800" spc="-1" strike="noStrike">
                <a:solidFill>
                  <a:srgbClr val="ff0033"/>
                </a:solidFill>
                <a:latin typeface="Times New Roman"/>
                <a:ea typeface="幼圆"/>
              </a:rPr>
              <a:t>通过这一次的研究性学习，我们体会到了很多，也学到了很多。当我们走上社会时，需要的不仅是知识，还需要做人的原则和更多的实际能力。这一次我们的课题是《中西饮食文化的差异》，从中我们了解了中国和西方深刻的文化内涵。传统的和现代的，还有不同民族的异域风情。在以后的人生道路上，这次研究得经验一定可以用得上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jxfsts" descr=""/>
          <p:cNvPicPr/>
          <p:nvPr/>
        </p:nvPicPr>
        <p:blipFill>
          <a:blip r:embed="rId1"/>
          <a:stretch/>
        </p:blipFill>
        <p:spPr>
          <a:xfrm>
            <a:off x="0" y="0"/>
            <a:ext cx="93456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1295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心得体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通过这次的研究性学习，我学会了很多。我们的课题是《中西饮食文化的差异》，这个课题既有利于我的饮食知识，也增强我对中西文化的不同程度的了解。我从各个方面对造成趁中西饮食的不同原因进行了深入的研究。虽然我们遇到了各种不同大小的困难，但我们努力克服，让自己的意志得到锻炼和磨砺。可以说，这次的收获为我以后的社会实践打下了基础。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-304920" y="4876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anhuidish7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1143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幼圆"/>
              </a:rPr>
              <a:t>心得体会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幼圆"/>
              </a:rPr>
              <a:t>    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幼圆"/>
              </a:rPr>
              <a:t>从这次意义不同凡响的研究性学习中，我学到了很多。我不仅从一次又一次的研究考查中了解很多中西饮食文化的渊源，也培养了我的工作和独立解决问题的能力。更多的是在每次研究遇到困难时，我的研究伙伴们总能沉着冷静。我们认真的发觉困难的缘由，和问题的关键。积极主动的找资料，分析和总结。就在这样的共同奋斗下。我们终于完成了这次艰巨但却让我成长成熟的研究。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cc66"/>
                </a:solidFill>
                <a:uFillTx/>
                <a:latin typeface="Arial"/>
                <a:ea typeface="隶书"/>
              </a:rPr>
              <a:t>问卷调查结果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隶书"/>
              </a:rPr>
              <a:t>：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9dcf4"/>
                </a:solidFill>
                <a:latin typeface="Times New Roman"/>
                <a:ea typeface="华文彩云"/>
              </a:rPr>
              <a:t>1</a:t>
            </a:r>
            <a:r>
              <a:rPr b="0" lang="zh-CN" sz="2800" spc="-1" strike="noStrike">
                <a:solidFill>
                  <a:srgbClr val="e9dcf4"/>
                </a:solidFill>
                <a:latin typeface="Times New Roman"/>
                <a:ea typeface="华文彩云"/>
              </a:rPr>
              <a:t>、吃中餐时会不会讲究传统礼节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会  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B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不会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C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有时会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  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方便自然是首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483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yundish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28412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幼圆"/>
              </a:rPr>
              <a:t>心得体会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幼圆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幼圆"/>
              </a:rPr>
              <a:t>   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幼圆"/>
              </a:rPr>
              <a:t>通过开展研究性学习，我学到了很多课本上学不到的知识，使自己的动手能力有了很大的提高。在活动中，我们走进社会，认识社会，为以后的学习工作打下了一定的基础，且很好的把理论结合实际，对我们的课本学习也有很大的帮助。总之，研究性学习让我受益非浅，学习到了很多东西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huaiyang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2514600" y="2590920"/>
            <a:ext cx="3352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谢谢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!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zh-CN" sz="3600" spc="-1" strike="noStrike">
                <a:solidFill>
                  <a:srgbClr val="ffcc66"/>
                </a:solidFill>
                <a:latin typeface="Arial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ffcc66"/>
                </a:solidFill>
                <a:latin typeface="Arial"/>
                <a:ea typeface="楷体_GB2312"/>
              </a:rPr>
              <a:t>、有没有想过所吃食物的历史文化背景及其由来？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经常想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B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从未想过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C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偶尔会想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许多人并不了解饮食文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483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-30492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cc66"/>
                </a:solidFill>
                <a:latin typeface="Arial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ffcc66"/>
                </a:solidFill>
                <a:latin typeface="Arial"/>
                <a:ea typeface="楷体_GB2312"/>
              </a:rPr>
              <a:t>、是否认为中西饮食文化差异很大？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是  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B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不是 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C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不清楚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中西方文化的巨大差异已深深留在许多人脑子里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483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-30492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0" lang="zh-CN" sz="3200" spc="-1" strike="noStrike">
                <a:solidFill>
                  <a:srgbClr val="ffcc66"/>
                </a:solidFill>
                <a:latin typeface="Arial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ffcc66"/>
                </a:solidFill>
                <a:latin typeface="Arial"/>
                <a:ea typeface="楷体_GB2312"/>
              </a:rPr>
              <a:t>、是否认为中西饮食的差异对人身体健康的影响有很大不同？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是    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B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不是    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C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可能是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人们对这些问题不是很了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6483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-30492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cc66"/>
                </a:solidFill>
                <a:latin typeface="Arial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ffcc66"/>
                </a:solidFill>
                <a:latin typeface="Arial"/>
                <a:ea typeface="楷体_GB2312"/>
              </a:rPr>
              <a:t>、有没有接触过西餐，类似肯德基、牛排？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有     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B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没有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人们对西方事物接受得很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483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-304920" y="5334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ffcc66"/>
                </a:solidFill>
                <a:latin typeface="Arial"/>
                <a:ea typeface="隶书"/>
              </a:rPr>
              <a:t>第</a:t>
            </a:r>
            <a:r>
              <a:rPr b="0" lang="zh-CN" sz="4000" spc="-1" strike="noStrike">
                <a:solidFill>
                  <a:srgbClr val="ffcc66"/>
                </a:solidFill>
                <a:latin typeface="Arial"/>
                <a:ea typeface="隶书"/>
              </a:rPr>
              <a:t>5</a:t>
            </a:r>
            <a:r>
              <a:rPr b="0" lang="zh-CN" sz="4000" spc="-1" strike="noStrike">
                <a:solidFill>
                  <a:srgbClr val="ffcc66"/>
                </a:solidFill>
                <a:latin typeface="Arial"/>
                <a:ea typeface="隶书"/>
              </a:rPr>
              <a:t>题答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  <a:ea typeface="隶书"/>
              </a:rPr>
              <a:t>A</a:t>
            </a:r>
            <a:r>
              <a:rPr b="0" lang="zh-CN" sz="4000" spc="-1" strike="noStrike">
                <a:solidFill>
                  <a:srgbClr val="ffcc66"/>
                </a:solidFill>
                <a:latin typeface="Arial"/>
                <a:ea typeface="隶书"/>
              </a:rPr>
              <a:t>者回答以下问题：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+1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、西餐吃起来较麻烦还是中餐吃起来较麻烦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、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中餐 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B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、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西餐 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C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、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都麻烦 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、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都不麻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6483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-30492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华文彩云"/>
              </a:rPr>
              <a:t>+2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华文彩云"/>
              </a:rPr>
              <a:t>、中、西餐店相比较服务态度谁较好？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、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中餐店 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B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、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西餐店 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C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、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都好 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D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、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都不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细黑"/>
              </a:rPr>
              <a:t>看来中餐店的服务态度该改善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483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华文彩云"/>
              </a:rPr>
              <a:t>+3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华文彩云"/>
              </a:rPr>
              <a:t>、有没有想过西餐会对自己的身体不合适？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、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有    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B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、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没有    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C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、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偶尔会想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各种都有想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483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15:01:24Z</dcterms:created>
  <dc:creator>aa</dc:creator>
  <dc:description/>
  <dc:language>en-US</dc:language>
  <cp:lastModifiedBy>yf</cp:lastModifiedBy>
  <dcterms:modified xsi:type="dcterms:W3CDTF">2005-11-01T08:16:07Z</dcterms:modified>
  <cp:revision>8</cp:revision>
  <dc:subject/>
  <dc:title/>
</cp:coreProperties>
</file>