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6.gif" ContentType="image/gif"/>
  <Override PartName="/ppt/media/image15.jpeg" ContentType="image/jpeg"/>
  <Override PartName="/ppt/media/image14.gif" ContentType="image/gif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7.gif" ContentType="image/gif"/>
  <Override PartName="/ppt/media/image16.jpeg" ContentType="image/jpeg"/>
  <Override PartName="/ppt/media/chimes.wav" ContentType="audio/x-wav"/>
  <Override PartName="/ppt/media/image11.jpeg" ContentType="image/jpeg"/>
  <Override PartName="/ppt/media/image4.jpeg" ContentType="image/jpe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A1D-DFCD-46A8-9521-73B5BCBD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480-F595-4DCE-95FD-519A9586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0FB-D841-42C8-9F8A-B82AF495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D55-00F0-4A05-8A33-5841641F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796-3D08-4346-B5F3-E58974A5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8B3-68D8-42C7-B9B8-B4D5EF48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E64-B2E0-4226-A48E-D5D63A0D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85F-7582-4B9A-8A07-5768B79C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CCF-8DC5-491A-8EBB-6D23BE93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DCF-826F-4DAC-98AD-7EF957F3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A0A-B8DB-4389-9A01-CC5A7BB7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558-E161-4349-AC3D-3F71FA8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F054-4DE1-4BF4-82E8-CAE3E6B94A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audio" Target="../media/chimes.wav"/><Relationship Id="rId4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7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8.gif"/><Relationship Id="rId25" Type="http://schemas.openxmlformats.org/officeDocument/2006/relationships/image" Target="../media/image8.gif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0.gif"/><Relationship Id="rId18" Type="http://schemas.openxmlformats.org/officeDocument/2006/relationships/image" Target="../media/image11.jpeg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2.jpe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4.gif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4.jpeg"/><Relationship Id="rId42" Type="http://schemas.openxmlformats.org/officeDocument/2006/relationships/audio" Target="../media/chimes.wav"/><Relationship Id="rId4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未标题-1%20拷贝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90960" cy="4753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grpSp>
          <p:nvGrpSpPr>
            <p:cNvPr id="43" name=""/>
            <p:cNvGrpSpPr/>
            <p:nvPr/>
          </p:nvGrpSpPr>
          <p:grpSpPr>
            <a:xfrm>
              <a:off x="0" y="0"/>
              <a:ext cx="1676160" cy="6857640"/>
              <a:chOff x="0" y="0"/>
              <a:chExt cx="1676160" cy="685764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0" y="0"/>
                <a:ext cx="837720" cy="6857640"/>
                <a:chOff x="0" y="0"/>
                <a:chExt cx="837720" cy="6857640"/>
              </a:xfrm>
            </p:grpSpPr>
            <p:pic>
              <p:nvPicPr>
                <p:cNvPr id="45" name="tndottaupeoncreme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614844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" name="tndottaupeoncreme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543888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tndottaupeoncreme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48085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tndottaupeoncreme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409896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tndottaupeoncrem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33894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tndottaupeoncreme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2680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tndottaupeoncreme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20491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" name="tndottaupeoncreme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0" y="13399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tndottaupeoncreme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0" y="709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tndottaupeoncreme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0" y="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" name=""/>
              <p:cNvGrpSpPr/>
              <p:nvPr/>
            </p:nvGrpSpPr>
            <p:grpSpPr>
              <a:xfrm>
                <a:off x="838080" y="0"/>
                <a:ext cx="838080" cy="6857640"/>
                <a:chOff x="838080" y="0"/>
                <a:chExt cx="838080" cy="6857640"/>
              </a:xfrm>
            </p:grpSpPr>
            <p:pic>
              <p:nvPicPr>
                <p:cNvPr id="56" name="tndottaupeoncreme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38080" y="614844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tndottaupeoncreme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080" y="543888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tndottaupeoncreme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080" y="48085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tndottaupeoncreme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38080" y="409896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tndottaupeoncreme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080" y="33894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tndottaupeoncreme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080" y="2680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tndottaupeoncreme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8080" y="20491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tndottaupeoncreme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38080" y="13399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tndottaupeoncreme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38080" y="709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tndottaupeoncreme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8080" y="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6" name=""/>
            <p:cNvGrpSpPr/>
            <p:nvPr/>
          </p:nvGrpSpPr>
          <p:grpSpPr>
            <a:xfrm>
              <a:off x="7467480" y="0"/>
              <a:ext cx="1676160" cy="6857640"/>
              <a:chOff x="7467480" y="0"/>
              <a:chExt cx="1676160" cy="685764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7467480" y="0"/>
                <a:ext cx="837720" cy="6857640"/>
                <a:chOff x="7467480" y="0"/>
                <a:chExt cx="837720" cy="6857640"/>
              </a:xfrm>
            </p:grpSpPr>
            <p:pic>
              <p:nvPicPr>
                <p:cNvPr id="68" name="tndottaupeoncreme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467480" y="614844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tndottaupeoncreme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467480" y="543888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tndottaupeoncreme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467480" y="48085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tndottaupeoncreme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467480" y="409896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tndottaupeoncreme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467480" y="33894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tndottaupeoncreme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467480" y="2680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tndottaupeoncreme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467480" y="20491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tndottaupeoncreme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467480" y="13399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tndottaupeoncreme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7467480" y="709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tndottaupeoncreme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7467480" y="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8" name=""/>
              <p:cNvGrpSpPr/>
              <p:nvPr/>
            </p:nvGrpSpPr>
            <p:grpSpPr>
              <a:xfrm>
                <a:off x="8305560" y="0"/>
                <a:ext cx="838080" cy="6857640"/>
                <a:chOff x="8305560" y="0"/>
                <a:chExt cx="838080" cy="6857640"/>
              </a:xfrm>
            </p:grpSpPr>
            <p:pic>
              <p:nvPicPr>
                <p:cNvPr id="79" name="tndottaupeoncreme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305560" y="614844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tndottaupeoncreme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305560" y="543888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tndottaupeoncreme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305560" y="48085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tndottaupeoncreme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305560" y="409896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tndottaupeoncreme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305560" y="33894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tndottaupeoncreme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8305560" y="2680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tndottaupeoncreme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8305560" y="20491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tndottaupeoncreme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305560" y="13399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tndottaupeoncreme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305560" y="709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tndottaupeoncreme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305560" y="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89" name="line_maruko1a" descr=""/>
          <p:cNvPicPr/>
          <p:nvPr/>
        </p:nvPicPr>
        <p:blipFill>
          <a:blip r:embed="rId42"/>
          <a:stretch/>
        </p:blipFill>
        <p:spPr>
          <a:xfrm>
            <a:off x="1523880" y="6046920"/>
            <a:ext cx="6194520" cy="811080"/>
          </a:xfrm>
          <a:prstGeom prst="rect">
            <a:avLst/>
          </a:prstGeom>
          <a:ln w="0">
            <a:noFill/>
          </a:ln>
        </p:spPr>
      </p:pic>
      <p:pic>
        <p:nvPicPr>
          <p:cNvPr id="90" name="line_maruko1a" descr=""/>
          <p:cNvPicPr/>
          <p:nvPr/>
        </p:nvPicPr>
        <p:blipFill>
          <a:blip r:embed="rId43"/>
          <a:stretch/>
        </p:blipFill>
        <p:spPr>
          <a:xfrm>
            <a:off x="1523880" y="0"/>
            <a:ext cx="6194520" cy="811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64840" y="60948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我们的民族小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44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90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291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9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300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308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孔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312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0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321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329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27816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雀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32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333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1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342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350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舞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53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354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2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363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371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铜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74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375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3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384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8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392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粗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396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4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405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413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327816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尾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6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417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5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426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4" name=""/>
          <p:cNvSpPr/>
          <p:nvPr/>
        </p:nvSpPr>
        <p:spPr>
          <a:xfrm>
            <a:off x="2286360" y="2209680"/>
            <a:ext cx="4609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课文写得很美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我要好好读一读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再把喜欢的部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背下来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我很喜欢这所民族小学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让我们交流一下读后的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受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我把描写窗外安静的句子抄下来了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你抄了哪些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hhdot07" descr=""/>
          <p:cNvPicPr/>
          <p:nvPr/>
        </p:nvPicPr>
        <p:blipFill>
          <a:blip r:embed="rId17"/>
          <a:stretch/>
        </p:blipFill>
        <p:spPr>
          <a:xfrm>
            <a:off x="3505320" y="38088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436" name="00" descr=""/>
          <p:cNvPicPr/>
          <p:nvPr/>
        </p:nvPicPr>
        <p:blipFill>
          <a:blip r:embed="rId18"/>
          <a:stretch/>
        </p:blipFill>
        <p:spPr>
          <a:xfrm>
            <a:off x="10666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7" name="00" descr=""/>
          <p:cNvPicPr/>
          <p:nvPr/>
        </p:nvPicPr>
        <p:blipFill>
          <a:blip r:embed="rId19"/>
          <a:stretch/>
        </p:blipFill>
        <p:spPr>
          <a:xfrm>
            <a:off x="19810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8" name="00" descr=""/>
          <p:cNvPicPr/>
          <p:nvPr/>
        </p:nvPicPr>
        <p:blipFill>
          <a:blip r:embed="rId20"/>
          <a:stretch/>
        </p:blipFill>
        <p:spPr>
          <a:xfrm>
            <a:off x="29718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9" name="00" descr=""/>
          <p:cNvPicPr/>
          <p:nvPr/>
        </p:nvPicPr>
        <p:blipFill>
          <a:blip r:embed="rId21"/>
          <a:stretch/>
        </p:blipFill>
        <p:spPr>
          <a:xfrm>
            <a:off x="38862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0" name="00" descr=""/>
          <p:cNvPicPr/>
          <p:nvPr/>
        </p:nvPicPr>
        <p:blipFill>
          <a:blip r:embed="rId22"/>
          <a:stretch/>
        </p:blipFill>
        <p:spPr>
          <a:xfrm>
            <a:off x="48006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1" name="00" descr=""/>
          <p:cNvPicPr/>
          <p:nvPr/>
        </p:nvPicPr>
        <p:blipFill>
          <a:blip r:embed="rId23"/>
          <a:stretch/>
        </p:blipFill>
        <p:spPr>
          <a:xfrm>
            <a:off x="57150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2" name="00" descr=""/>
          <p:cNvPicPr/>
          <p:nvPr/>
        </p:nvPicPr>
        <p:blipFill>
          <a:blip r:embed="rId24"/>
          <a:stretch/>
        </p:blipFill>
        <p:spPr>
          <a:xfrm>
            <a:off x="66294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3" name="00" descr=""/>
          <p:cNvPicPr/>
          <p:nvPr/>
        </p:nvPicPr>
        <p:blipFill>
          <a:blip r:embed="rId25"/>
          <a:stretch/>
        </p:blipFill>
        <p:spPr>
          <a:xfrm>
            <a:off x="75438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6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45" name=""/>
            <p:cNvGrpSpPr/>
            <p:nvPr/>
          </p:nvGrpSpPr>
          <p:grpSpPr>
            <a:xfrm>
              <a:off x="0" y="0"/>
              <a:ext cx="868320" cy="6858000"/>
              <a:chOff x="0" y="0"/>
              <a:chExt cx="868320" cy="6858000"/>
            </a:xfrm>
          </p:grpSpPr>
          <p:pic>
            <p:nvPicPr>
              <p:cNvPr id="446" name="bg15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bg1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bg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bg1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bg15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bg15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bg1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029200"/>
                <a:ext cx="8683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bg15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89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4" name=""/>
            <p:cNvGrpSpPr/>
            <p:nvPr/>
          </p:nvGrpSpPr>
          <p:grpSpPr>
            <a:xfrm>
              <a:off x="8275680" y="0"/>
              <a:ext cx="868320" cy="6858000"/>
              <a:chOff x="8275680" y="0"/>
              <a:chExt cx="868320" cy="6858000"/>
            </a:xfrm>
          </p:grpSpPr>
          <p:pic>
            <p:nvPicPr>
              <p:cNvPr id="455" name="bg15" descr=""/>
              <p:cNvPicPr/>
              <p:nvPr/>
            </p:nvPicPr>
            <p:blipFill>
              <a:blip r:embed="rId9"/>
              <a:stretch/>
            </p:blipFill>
            <p:spPr>
              <a:xfrm>
                <a:off x="8275680" y="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bg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75680" y="8380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bg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5680" y="16765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bg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75680" y="251460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bg15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75680" y="3352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bg15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75680" y="41911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bg15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75680" y="5029200"/>
                <a:ext cx="8683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2" name="bg15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75680" y="5989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63" name="52" descr=""/>
          <p:cNvPicPr/>
          <p:nvPr/>
        </p:nvPicPr>
        <p:blipFill>
          <a:blip r:embed="rId17"/>
          <a:stretch/>
        </p:blipFill>
        <p:spPr>
          <a:xfrm>
            <a:off x="990720" y="304920"/>
            <a:ext cx="1170000" cy="11174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2675880" y="512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幼圆"/>
              </a:rPr>
              <a:t>资料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未标题-1%20拷贝" descr=""/>
          <p:cNvPicPr/>
          <p:nvPr/>
        </p:nvPicPr>
        <p:blipFill>
          <a:blip r:embed="rId18"/>
          <a:stretch/>
        </p:blipFill>
        <p:spPr>
          <a:xfrm>
            <a:off x="990720" y="1981080"/>
            <a:ext cx="7162560" cy="2481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209680" y="4648320"/>
            <a:ext cx="54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cc"/>
                </a:solidFill>
                <a:latin typeface="Times New Roman"/>
                <a:ea typeface="幼圆"/>
              </a:rPr>
              <a:t>傣族                                 阿昌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9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8" name=""/>
            <p:cNvGrpSpPr/>
            <p:nvPr/>
          </p:nvGrpSpPr>
          <p:grpSpPr>
            <a:xfrm>
              <a:off x="0" y="0"/>
              <a:ext cx="868320" cy="6858000"/>
              <a:chOff x="0" y="0"/>
              <a:chExt cx="868320" cy="6858000"/>
            </a:xfrm>
          </p:grpSpPr>
          <p:pic>
            <p:nvPicPr>
              <p:cNvPr id="469" name="bg15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0" name="bg1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1" name="bg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bg1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3" name="bg15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bg15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bg1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029200"/>
                <a:ext cx="8683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bg15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89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7" name=""/>
            <p:cNvGrpSpPr/>
            <p:nvPr/>
          </p:nvGrpSpPr>
          <p:grpSpPr>
            <a:xfrm>
              <a:off x="8275680" y="0"/>
              <a:ext cx="868320" cy="6858000"/>
              <a:chOff x="8275680" y="0"/>
              <a:chExt cx="868320" cy="6858000"/>
            </a:xfrm>
          </p:grpSpPr>
          <p:pic>
            <p:nvPicPr>
              <p:cNvPr id="478" name="bg15" descr=""/>
              <p:cNvPicPr/>
              <p:nvPr/>
            </p:nvPicPr>
            <p:blipFill>
              <a:blip r:embed="rId9"/>
              <a:stretch/>
            </p:blipFill>
            <p:spPr>
              <a:xfrm>
                <a:off x="8275680" y="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bg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75680" y="8380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bg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5680" y="16765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bg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75680" y="251460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" name="bg15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75680" y="3352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3" name="bg15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75680" y="41911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bg15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75680" y="5029200"/>
                <a:ext cx="8683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bg15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75680" y="5989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86" name="未标题-1%20拷贝" descr=""/>
          <p:cNvPicPr/>
          <p:nvPr/>
        </p:nvPicPr>
        <p:blipFill>
          <a:blip r:embed="rId17"/>
          <a:stretch/>
        </p:blipFill>
        <p:spPr>
          <a:xfrm>
            <a:off x="1066680" y="1752480"/>
            <a:ext cx="7010640" cy="24386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447920" y="4648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cc"/>
                </a:solidFill>
                <a:latin typeface="Times New Roman"/>
                <a:ea typeface="幼圆"/>
              </a:rPr>
              <a:t>景颇族               纳西族                   白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7640" y="4343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n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8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0" name="BGFO019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BGFO019" descr=""/>
            <p:cNvPicPr/>
            <p:nvPr/>
          </p:nvPicPr>
          <p:blipFill>
            <a:blip r:embed="rId2"/>
            <a:stretch/>
          </p:blipFill>
          <p:spPr>
            <a:xfrm>
              <a:off x="0" y="1143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BGFO019" descr=""/>
            <p:cNvPicPr/>
            <p:nvPr/>
          </p:nvPicPr>
          <p:blipFill>
            <a:blip r:embed="rId3"/>
            <a:stretch/>
          </p:blipFill>
          <p:spPr>
            <a:xfrm>
              <a:off x="8001000" y="4572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BGFO019" descr=""/>
            <p:cNvPicPr/>
            <p:nvPr/>
          </p:nvPicPr>
          <p:blipFill>
            <a:blip r:embed="rId4"/>
            <a:stretch/>
          </p:blipFill>
          <p:spPr>
            <a:xfrm>
              <a:off x="8001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BGFO019" descr=""/>
            <p:cNvPicPr/>
            <p:nvPr/>
          </p:nvPicPr>
          <p:blipFill>
            <a:blip r:embed="rId5"/>
            <a:stretch/>
          </p:blipFill>
          <p:spPr>
            <a:xfrm>
              <a:off x="6858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BGFO019" descr=""/>
            <p:cNvPicPr/>
            <p:nvPr/>
          </p:nvPicPr>
          <p:blipFill>
            <a:blip r:embed="rId6"/>
            <a:stretch/>
          </p:blipFill>
          <p:spPr>
            <a:xfrm>
              <a:off x="1143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BGFO019" descr=""/>
            <p:cNvPicPr/>
            <p:nvPr/>
          </p:nvPicPr>
          <p:blipFill>
            <a:blip r:embed="rId7"/>
            <a:stretch/>
          </p:blipFill>
          <p:spPr>
            <a:xfrm>
              <a:off x="0" y="2286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BGFO019" descr=""/>
            <p:cNvPicPr/>
            <p:nvPr/>
          </p:nvPicPr>
          <p:blipFill>
            <a:blip r:embed="rId8"/>
            <a:stretch/>
          </p:blipFill>
          <p:spPr>
            <a:xfrm>
              <a:off x="0" y="3429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BGFO019" descr=""/>
            <p:cNvPicPr/>
            <p:nvPr/>
          </p:nvPicPr>
          <p:blipFill>
            <a:blip r:embed="rId9"/>
            <a:stretch/>
          </p:blipFill>
          <p:spPr>
            <a:xfrm>
              <a:off x="8001000" y="2286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BGFO019" descr=""/>
            <p:cNvPicPr/>
            <p:nvPr/>
          </p:nvPicPr>
          <p:blipFill>
            <a:blip r:embed="rId10"/>
            <a:stretch/>
          </p:blipFill>
          <p:spPr>
            <a:xfrm>
              <a:off x="8001000" y="3429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BGFO019" descr=""/>
            <p:cNvPicPr/>
            <p:nvPr/>
          </p:nvPicPr>
          <p:blipFill>
            <a:blip r:embed="rId11"/>
            <a:stretch/>
          </p:blipFill>
          <p:spPr>
            <a:xfrm>
              <a:off x="0" y="4572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BGFO019" descr=""/>
            <p:cNvPicPr/>
            <p:nvPr/>
          </p:nvPicPr>
          <p:blipFill>
            <a:blip r:embed="rId12"/>
            <a:stretch/>
          </p:blipFill>
          <p:spPr>
            <a:xfrm>
              <a:off x="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BGFO019" descr=""/>
            <p:cNvPicPr/>
            <p:nvPr/>
          </p:nvPicPr>
          <p:blipFill>
            <a:blip r:embed="rId13"/>
            <a:stretch/>
          </p:blipFill>
          <p:spPr>
            <a:xfrm>
              <a:off x="8001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BGFO019" descr=""/>
            <p:cNvPicPr/>
            <p:nvPr/>
          </p:nvPicPr>
          <p:blipFill>
            <a:blip r:embed="rId14"/>
            <a:stretch/>
          </p:blipFill>
          <p:spPr>
            <a:xfrm>
              <a:off x="8001000" y="1143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BGFO019" descr=""/>
            <p:cNvPicPr/>
            <p:nvPr/>
          </p:nvPicPr>
          <p:blipFill>
            <a:blip r:embed="rId15"/>
            <a:stretch/>
          </p:blipFill>
          <p:spPr>
            <a:xfrm>
              <a:off x="2286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BGFO019" descr=""/>
            <p:cNvPicPr/>
            <p:nvPr/>
          </p:nvPicPr>
          <p:blipFill>
            <a:blip r:embed="rId16"/>
            <a:stretch/>
          </p:blipFill>
          <p:spPr>
            <a:xfrm>
              <a:off x="1143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BGFO019" descr=""/>
            <p:cNvPicPr/>
            <p:nvPr/>
          </p:nvPicPr>
          <p:blipFill>
            <a:blip r:embed="rId17"/>
            <a:stretch/>
          </p:blipFill>
          <p:spPr>
            <a:xfrm>
              <a:off x="5715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BGFO019" descr=""/>
            <p:cNvPicPr/>
            <p:nvPr/>
          </p:nvPicPr>
          <p:blipFill>
            <a:blip r:embed="rId18"/>
            <a:stretch/>
          </p:blipFill>
          <p:spPr>
            <a:xfrm>
              <a:off x="4572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BGFO019" descr=""/>
            <p:cNvPicPr/>
            <p:nvPr/>
          </p:nvPicPr>
          <p:blipFill>
            <a:blip r:embed="rId19"/>
            <a:stretch/>
          </p:blipFill>
          <p:spPr>
            <a:xfrm>
              <a:off x="2286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BGFO019" descr=""/>
            <p:cNvPicPr/>
            <p:nvPr/>
          </p:nvPicPr>
          <p:blipFill>
            <a:blip r:embed="rId20"/>
            <a:stretch/>
          </p:blipFill>
          <p:spPr>
            <a:xfrm>
              <a:off x="3429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BGFO019" descr=""/>
            <p:cNvPicPr/>
            <p:nvPr/>
          </p:nvPicPr>
          <p:blipFill>
            <a:blip r:embed="rId21"/>
            <a:stretch/>
          </p:blipFill>
          <p:spPr>
            <a:xfrm>
              <a:off x="6858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BGFO019" descr=""/>
            <p:cNvPicPr/>
            <p:nvPr/>
          </p:nvPicPr>
          <p:blipFill>
            <a:blip r:embed="rId22"/>
            <a:stretch/>
          </p:blipFill>
          <p:spPr>
            <a:xfrm>
              <a:off x="5715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BGFO019" descr=""/>
            <p:cNvPicPr/>
            <p:nvPr/>
          </p:nvPicPr>
          <p:blipFill>
            <a:blip r:embed="rId23"/>
            <a:stretch/>
          </p:blipFill>
          <p:spPr>
            <a:xfrm>
              <a:off x="3429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BGFO019" descr=""/>
            <p:cNvPicPr/>
            <p:nvPr/>
          </p:nvPicPr>
          <p:blipFill>
            <a:blip r:embed="rId24"/>
            <a:stretch/>
          </p:blipFill>
          <p:spPr>
            <a:xfrm>
              <a:off x="4572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4" name="ji" descr=""/>
          <p:cNvPicPr/>
          <p:nvPr/>
        </p:nvPicPr>
        <p:blipFill>
          <a:blip r:embed="rId25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8169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Times New Roman"/>
                <a:ea typeface="幼圆"/>
              </a:rPr>
              <a:t>综合性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40480" y="2286000"/>
            <a:ext cx="4979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我们在学校过着快乐的学习生活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课余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活又是怎么安排的呢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让我们开展一次活动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把自己的课余生活记录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(lù)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下来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可以用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叙述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(shù),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可以填表格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可以画图画……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边记录边整理资料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准备和同学交流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grpSp>
          <p:nvGrpSpPr>
            <p:cNvPr id="93" name=""/>
            <p:cNvGrpSpPr/>
            <p:nvPr/>
          </p:nvGrpSpPr>
          <p:grpSpPr>
            <a:xfrm>
              <a:off x="0" y="0"/>
              <a:ext cx="1676160" cy="6857640"/>
              <a:chOff x="0" y="0"/>
              <a:chExt cx="1676160" cy="68576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0" y="0"/>
                <a:ext cx="837720" cy="6857640"/>
                <a:chOff x="0" y="0"/>
                <a:chExt cx="837720" cy="6857640"/>
              </a:xfrm>
            </p:grpSpPr>
            <p:pic>
              <p:nvPicPr>
                <p:cNvPr id="95" name="tndottaupeoncreme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614844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tndottaupeoncreme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543888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tndottaupeoncreme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48085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tndottaupeoncreme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409896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tndottaupeoncreme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33894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tndottaupeoncrem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2680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tndottaupeoncreme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20491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tndottaupeoncreme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13399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tndottaupeoncreme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0" y="709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tndottaupeoncreme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0" y="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5" name=""/>
              <p:cNvGrpSpPr/>
              <p:nvPr/>
            </p:nvGrpSpPr>
            <p:grpSpPr>
              <a:xfrm>
                <a:off x="838080" y="0"/>
                <a:ext cx="838080" cy="6857640"/>
                <a:chOff x="838080" y="0"/>
                <a:chExt cx="838080" cy="6857640"/>
              </a:xfrm>
            </p:grpSpPr>
            <p:pic>
              <p:nvPicPr>
                <p:cNvPr id="106" name="tndottaupeoncreme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38080" y="614844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tndottaupeoncreme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38080" y="543888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tndottaupeoncreme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080" y="48085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tndottaupeoncreme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080" y="409896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tndottaupeoncreme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38080" y="33894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tndottaupeoncreme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080" y="2680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tndottaupeoncreme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080" y="20491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tndottaupeoncreme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8080" y="13399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tndottaupeoncreme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38080" y="709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tndottaupeoncreme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38080" y="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16" name=""/>
            <p:cNvGrpSpPr/>
            <p:nvPr/>
          </p:nvGrpSpPr>
          <p:grpSpPr>
            <a:xfrm>
              <a:off x="7467480" y="0"/>
              <a:ext cx="1676160" cy="6857640"/>
              <a:chOff x="7467480" y="0"/>
              <a:chExt cx="1676160" cy="685764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467480" y="0"/>
                <a:ext cx="837720" cy="6857640"/>
                <a:chOff x="7467480" y="0"/>
                <a:chExt cx="837720" cy="6857640"/>
              </a:xfrm>
            </p:grpSpPr>
            <p:pic>
              <p:nvPicPr>
                <p:cNvPr id="118" name="tndottaupeoncreme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467480" y="614844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tndottaupeoncreme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467480" y="543888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tndottaupeoncreme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467480" y="48085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tndottaupeoncreme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467480" y="409896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tndottaupeoncreme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467480" y="33894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tndottaupeoncreme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467480" y="2680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tndottaupeoncreme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467480" y="20491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tndottaupeoncreme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467480" y="13399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tndottaupeoncreme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467480" y="709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tndottaupeoncreme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7467480" y="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8" name=""/>
              <p:cNvGrpSpPr/>
              <p:nvPr/>
            </p:nvGrpSpPr>
            <p:grpSpPr>
              <a:xfrm>
                <a:off x="8305560" y="0"/>
                <a:ext cx="838080" cy="6857640"/>
                <a:chOff x="8305560" y="0"/>
                <a:chExt cx="838080" cy="6857640"/>
              </a:xfrm>
            </p:grpSpPr>
            <p:pic>
              <p:nvPicPr>
                <p:cNvPr id="129" name="tndottaupeoncreme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305560" y="614844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tndottaupeoncreme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305560" y="543888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tndottaupeoncreme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305560" y="48085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tndottaupeoncreme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305560" y="409896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tndottaupeoncreme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305560" y="33894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tndottaupeoncreme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305560" y="2680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tndottaupeoncreme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8305560" y="20491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tndottaupeoncreme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8305560" y="13399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tndottaupeoncreme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305560" y="709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tndottaupeoncreme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305560" y="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39" name="未标题-1%20拷贝" descr=""/>
          <p:cNvPicPr/>
          <p:nvPr/>
        </p:nvPicPr>
        <p:blipFill>
          <a:blip r:embed="rId41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4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435640" cy="4103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755640" y="53038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景颇族人民风纯朴、直爽，是一个晓勇的民族，他们从小就和大人一起上山打猎，肩背挎包、腰挂长刀、肩扛铜枪炮，十分威武。景颇族妇女善编织，能够织出数百种彩色图案花纹，其中大多数是动植物的图形，精美艳丽。在改革开放的今天，贫穷落后的景颇山已经出现了繁荣兴旺的景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3816360" cy="65246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50920" y="277596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分布在云南省德宏傣族景颇族自治州的陇川、梁河等县，少数分布在盈江、潞西、瑞丽等县及保山地区的龙陵、腾冲县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44643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1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142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151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59" name="mao1" descr=""/>
          <p:cNvPicPr/>
          <p:nvPr/>
        </p:nvPicPr>
        <p:blipFill>
          <a:blip r:embed="rId17"/>
          <a:stretch/>
        </p:blipFill>
        <p:spPr>
          <a:xfrm>
            <a:off x="990720" y="0"/>
            <a:ext cx="1279440" cy="1314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675880" y="380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幼圆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52280" y="28954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坝 傣 昌 昂 跤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438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bà      dǎi    chāng   áng    jiā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8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4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165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174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2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坪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5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186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4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195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203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坝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6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207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5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216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224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戴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27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228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6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237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245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招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48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249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258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266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蝴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69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270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8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279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287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蝶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2T02:06:22Z</dcterms:created>
  <dc:creator>fhq</dc:creator>
  <dc:description/>
  <dc:language>en-US</dc:language>
  <cp:lastModifiedBy> taolan</cp:lastModifiedBy>
  <dcterms:modified xsi:type="dcterms:W3CDTF">2003-08-26T13:10:34Z</dcterms:modified>
  <cp:revision>33</cp:revision>
  <dc:subject/>
  <dc:title>PowerPoint 演示文稿</dc:title>
</cp:coreProperties>
</file>