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FB4-D68C-4272-8491-C0CEAA21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924-C8A4-404A-B53E-CC3AFAA8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B9AF-325D-4DCD-9939-6E308F67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818-7AD9-4928-8A8A-E320BAD0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F08-26E9-49A8-BE59-5804A7B7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A4B-7365-49DF-AAEE-B909A89C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4A00-4AAC-4A74-8A40-7F0E45EE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9EF-BA4F-4907-8F97-8DF06B9E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133-6124-4C89-88A8-C620FD9B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5FB-05FB-4C41-9455-D72F27F0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B734-8441-4FAD-BC36-08BE5D46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22D-B380-47B0-933C-70CCC744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39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8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F19F-7C62-46F0-AB72-1A9A66DDA36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wang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73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666880" y="990720"/>
            <a:ext cx="512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76720" y="838080"/>
            <a:ext cx="3200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望岳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望祖徕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0" y="228600"/>
            <a:ext cx="28195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cc00"/>
                </a:solidFill>
                <a:latin typeface="Times New Roman"/>
                <a:ea typeface="华文行楷"/>
              </a:rPr>
              <a:t>望</a:t>
            </a:r>
            <a:r>
              <a:rPr b="0" lang="zh-CN" sz="5400" spc="-1" strike="noStrike" u="sng">
                <a:solidFill>
                  <a:srgbClr val="f98d43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岳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1706400"/>
            <a:ext cx="6324480" cy="57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3" action="ppaction://hlinksldjump"/>
              </a:rPr>
              <a:t>岱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宗夫如何？齐鲁青未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造化钟神秀，阴阳割昏</a:t>
            </a:r>
            <a:r>
              <a:rPr b="0" lang="zh-CN" sz="36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4" action="ppaction://hlinksldjump"/>
              </a:rPr>
              <a:t>晓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荡胸生层云，决眦入归鸟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隶书"/>
              </a:rPr>
              <a:t>会当凌绝顶，一览众山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838080"/>
            <a:ext cx="2133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63a0"/>
                </a:solidFill>
                <a:latin typeface="Times New Roman"/>
                <a:ea typeface="隶书"/>
              </a:rPr>
              <a:t>杜</a:t>
            </a:r>
            <a:r>
              <a:rPr b="0" lang="zh-CN" sz="28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5" action="ppaction://hlinksldjump"/>
              </a:rPr>
              <a:t>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51680" y="2444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隶书"/>
              </a:rPr>
              <a:t>作者简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14300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杜甫</a:t>
            </a:r>
            <a:r>
              <a:rPr b="0" lang="zh-CN" sz="28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，字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子美</a:t>
            </a:r>
            <a:r>
              <a:rPr b="0" lang="zh-CN" sz="28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，诗中尝自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少陵野老</a:t>
            </a:r>
            <a:r>
              <a:rPr b="0" lang="zh-CN" sz="28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，世人称为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杜少陵</a:t>
            </a:r>
            <a:r>
              <a:rPr b="0" lang="zh-CN" sz="28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。开元后期，举士不第，漫游各地。后居长安近十年。及安禄山军陷长安，乃逃至凤翔，谒风肃宗，官左拾遗。后曾在剑南节度使严武幕中任检校工部员外郎，故又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杜工部</a:t>
            </a:r>
            <a:r>
              <a:rPr b="0" lang="zh-CN" sz="28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之称。晚年携家出蜀，病死湘江途中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203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Times New Roman"/>
                <a:ea typeface="楷体_GB2312"/>
              </a:rPr>
              <a:t>　　杜甫生活在唐代由成转衰的历史时期，其诗多涉及社会动荡、政治黑暗、人民疾苦，被誉为“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诗史</a:t>
            </a:r>
            <a:r>
              <a:rPr b="0" lang="zh-CN" sz="2800" spc="-1" strike="noStrike">
                <a:solidFill>
                  <a:srgbClr val="ccecff"/>
                </a:solidFill>
                <a:latin typeface="Times New Roman"/>
                <a:ea typeface="楷体_GB2312"/>
              </a:rPr>
              <a:t>”，其人忧国忧民，人格高尚，诗艺精湛，被奉为“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诗圣</a:t>
            </a:r>
            <a:r>
              <a:rPr b="0" lang="zh-CN" sz="2800" spc="-1" strike="noStrike">
                <a:solidFill>
                  <a:srgbClr val="ccecff"/>
                </a:solidFill>
                <a:latin typeface="Times New Roman"/>
                <a:ea typeface="楷体_GB2312"/>
              </a:rPr>
              <a:t>”。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杜工部集》</a:t>
            </a:r>
            <a:r>
              <a:rPr b="0" lang="zh-CN" sz="2800" spc="-1" strike="noStrike">
                <a:solidFill>
                  <a:srgbClr val="ccecff"/>
                </a:solidFill>
                <a:latin typeface="Times New Roman"/>
                <a:ea typeface="楷体_GB2312"/>
              </a:rPr>
              <a:t>传世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901040" y="17460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8d43"/>
                </a:solidFill>
                <a:latin typeface="Times New Roman"/>
                <a:ea typeface="楷体_GB2312"/>
              </a:rPr>
              <a:t>岱宗夫如何？齐鲁青未了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447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Times New Roman"/>
                <a:ea typeface="楷体_GB2312"/>
              </a:rPr>
              <a:t>　　写乍一望见泰山时，高兴得不知怎样形容才好的那种兴奋和惊叹仰慕之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963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Times New Roman"/>
                <a:ea typeface="楷体_GB2312"/>
              </a:rPr>
              <a:t>　　既不是抽象地说泰山高，也不是用语言来形容山高，而是别出心裁地写出自己的体验－－在古代齐鲁两大国的国境外还能望见远远横亘在那里的泰山，以距离之远来烘托出泰山之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980800" y="228600"/>
            <a:ext cx="340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8d43"/>
                </a:solidFill>
                <a:latin typeface="Times New Roman"/>
                <a:ea typeface="楷体_GB2312"/>
              </a:rPr>
              <a:t>造化钟神秀，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阴阳</a:t>
            </a:r>
            <a:r>
              <a:rPr b="1" lang="zh-CN" sz="4800" spc="-1" strike="noStrike">
                <a:solidFill>
                  <a:srgbClr val="f98d43"/>
                </a:solidFill>
                <a:latin typeface="Times New Roman"/>
                <a:ea typeface="楷体_GB2312"/>
              </a:rPr>
              <a:t>割昏晓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3429000"/>
            <a:ext cx="80769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　　这两句写近望中所见泰山的神奇秀丽和巍峨高大的形象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2952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山前向日的一面为“阳”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47440" y="2209680"/>
            <a:ext cx="21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山后背日的一面为“阴”。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980800" y="457200"/>
            <a:ext cx="340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8d43"/>
                </a:solidFill>
                <a:latin typeface="Times New Roman"/>
                <a:ea typeface="楷体_GB2312"/>
              </a:rPr>
              <a:t>荡胸生层云，决</a:t>
            </a:r>
            <a:r>
              <a:rPr b="1" lang="zh-CN" sz="4800" spc="-1" strike="noStrike" u="sng">
                <a:solidFill>
                  <a:srgbClr val="f98d43"/>
                </a:solidFill>
                <a:uFillTx/>
                <a:latin typeface="Times New Roman"/>
                <a:ea typeface="楷体_GB2312"/>
              </a:rPr>
              <a:t>眦</a:t>
            </a:r>
            <a:r>
              <a:rPr b="1" lang="zh-CN" sz="4800" spc="-1" strike="noStrike">
                <a:solidFill>
                  <a:srgbClr val="f98d43"/>
                </a:solidFill>
                <a:latin typeface="Times New Roman"/>
                <a:ea typeface="楷体_GB2312"/>
              </a:rPr>
              <a:t>入归鸟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6280" y="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楷体_GB2312"/>
              </a:rPr>
              <a:t>zì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99080" y="1371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眦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37160" y="1371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眼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4382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　　这两句是写细望。见山中云气层出不穷，故心胸亦为之荡漾；因长时间目不转睛地望着，故感到眼眶有似决裂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179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2895480"/>
            <a:ext cx="816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　　从这两句富有启发性和象征意义的诗中，可以等到诗人杜甫不怕困难、敢于攀登绝顶、俯视一切的雄心和气概。这就是为什么这两句诗千百年来一直为人们所传诵，而至今仍能引起我强烈共鸣的原因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76212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8d43"/>
                </a:solidFill>
                <a:latin typeface="Times New Roman"/>
                <a:ea typeface="楷体_GB2312"/>
              </a:rPr>
              <a:t>会当凌绝顶，一览众山小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7524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这最后两句，写由望岳而产生的登岳的意愿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杜甫2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杜甫1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499640" y="685800"/>
            <a:ext cx="66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44"/>
                </a:solidFill>
                <a:latin typeface="Times New Roman"/>
              </a:rPr>
              <a:t>杜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岱庙天贶殿" descr=""/>
          <p:cNvPicPr/>
          <p:nvPr/>
        </p:nvPicPr>
        <p:blipFill>
          <a:blip r:embed="rId1"/>
          <a:stretch/>
        </p:blipFill>
        <p:spPr>
          <a:xfrm>
            <a:off x="0" y="3733920"/>
            <a:ext cx="4267080" cy="2666880"/>
          </a:xfrm>
          <a:prstGeom prst="rect">
            <a:avLst/>
          </a:prstGeom>
          <a:ln w="0">
            <a:noFill/>
          </a:ln>
        </p:spPr>
      </p:pic>
      <p:pic>
        <p:nvPicPr>
          <p:cNvPr id="139" name="望祖徕" descr=""/>
          <p:cNvPicPr/>
          <p:nvPr/>
        </p:nvPicPr>
        <p:blipFill>
          <a:blip r:embed="rId2"/>
          <a:stretch/>
        </p:blipFill>
        <p:spPr>
          <a:xfrm>
            <a:off x="4572000" y="380880"/>
            <a:ext cx="4191120" cy="3200400"/>
          </a:xfrm>
          <a:prstGeom prst="rect">
            <a:avLst/>
          </a:prstGeom>
          <a:ln w="0">
            <a:noFill/>
          </a:ln>
        </p:spPr>
      </p:pic>
      <p:pic>
        <p:nvPicPr>
          <p:cNvPr id="140" name="姊妹松" descr=""/>
          <p:cNvPicPr/>
          <p:nvPr/>
        </p:nvPicPr>
        <p:blipFill>
          <a:blip r:embed="rId3"/>
          <a:stretch/>
        </p:blipFill>
        <p:spPr>
          <a:xfrm>
            <a:off x="4648320" y="3657600"/>
            <a:ext cx="3962160" cy="2438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岱庙天贶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533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望祖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7339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姊妹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1143000"/>
            <a:ext cx="3048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泰山景色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清华同方思科</dc:creator>
  <dc:description/>
  <dc:language>en-US</dc:language>
  <cp:lastModifiedBy>admin</cp:lastModifiedBy>
  <dcterms:modified xsi:type="dcterms:W3CDTF">2004-11-12T02:51:02Z</dcterms:modified>
  <cp:revision>25</cp:revision>
  <dc:subject/>
  <dc:title>PowerPoint Presentation</dc:title>
</cp:coreProperties>
</file>