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194-8736-4079-AEBC-785510C8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6AE-76F0-437E-9A41-B17E451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6E7-CD84-4E4C-B33F-5589C336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E24-9B6C-431A-800B-420438CB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014-D513-47C2-AD13-1D789B8F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BCC-728E-4533-8399-B8F00FB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87B-78DB-435F-8961-F22F19F5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D28-3352-44AF-85E5-0113028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B74-FF17-45A4-A9DF-97E6FF2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170-0E23-4CFE-B960-E7FD1CA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EEE-8F89-4E75-8695-5E020B0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156-A833-44F6-A67E-6917712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895-8E9C-4BE9-A3DC-17BF57C5A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6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43" name="BGFL01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BGFL0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BGFL01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BGFL0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48" name="BGFL0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BGFL0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BGFL0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BGFL0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53" name="BGFL016" descr="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BGFL0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BGFL0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BGFL0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58" name="BGFL0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BGFL0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BGFL0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BGFL0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3" name="BGFL0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BGFL0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BGFL016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BGFL0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未标题-1%20拷贝" descr=""/>
          <p:cNvPicPr/>
          <p:nvPr/>
        </p:nvPicPr>
        <p:blipFill>
          <a:blip r:embed="rId21"/>
          <a:stretch/>
        </p:blipFill>
        <p:spPr>
          <a:xfrm>
            <a:off x="990720" y="1219320"/>
            <a:ext cx="7162560" cy="509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4000" y="30492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2.</a:t>
            </a: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金色的草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8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19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27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4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4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49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50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58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5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77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0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81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8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89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6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0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12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20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43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0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51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73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74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1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82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9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0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04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05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2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13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0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3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0020848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130480" y="1600200"/>
            <a:ext cx="542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要多读几遍课文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把 对草地和蒲公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喜爱的感情读出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们交流交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从课文的哪些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可以看出草地的可爱、蒲公英的有趣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04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0020848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357560" y="1905120"/>
            <a:ext cx="6130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把下面的句子抄了下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你抄了哪些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张开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它是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也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合拢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花瓣被包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就变成绿色的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未标题-1%20拷贝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5283360" cy="1951200"/>
          </a:xfrm>
          <a:prstGeom prst="rect">
            <a:avLst/>
          </a:prstGeom>
          <a:ln w="0">
            <a:noFill/>
          </a:ln>
        </p:spPr>
      </p:pic>
      <p:pic>
        <p:nvPicPr>
          <p:cNvPr id="540" name="05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70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71" name="BGFL01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BGFL0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BGFL01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BGFL0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76" name="BGFL0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BGFL0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BGFL0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BGFL0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81" name="BGFL016" descr="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BGFL0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BGFL0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BGFL0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86" name="BGFL0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BGFL0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BGFL0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BGFL0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91" name="BGFL0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BGFL0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BGFL016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BGFL0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5" name="未标题-1%20拷贝" descr=""/>
          <p:cNvPicPr/>
          <p:nvPr/>
        </p:nvPicPr>
        <p:blipFill>
          <a:blip r:embed="rId21"/>
          <a:stretch/>
        </p:blipFill>
        <p:spPr>
          <a:xfrm>
            <a:off x="762120" y="1066680"/>
            <a:ext cx="772164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98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06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21" descr="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640" y="2438280"/>
            <a:ext cx="589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钓   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3840" y="1627200"/>
            <a:ext cx="481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diào              lǒ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31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39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6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book9" descr=""/>
          <p:cNvPicPr/>
          <p:nvPr/>
        </p:nvPicPr>
        <p:blipFill>
          <a:blip r:embed="rId27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3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64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72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4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95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03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0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5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26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34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3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6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57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4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65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2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7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88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96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3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1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4:28:11Z</dcterms:created>
  <dc:creator>fhq</dc:creator>
  <dc:description/>
  <dc:language>en-US</dc:language>
  <cp:lastModifiedBy>fhq</cp:lastModifiedBy>
  <dcterms:modified xsi:type="dcterms:W3CDTF">2003-08-04T13:03:28Z</dcterms:modified>
  <cp:revision>21</cp:revision>
  <dc:subject/>
  <dc:title>PowerPoint 演示文稿</dc:title>
</cp:coreProperties>
</file>