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png" ContentType="image/pn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3F8-1E8D-40A4-B171-33E4F738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24D-A1E8-42F2-8B01-48FE91A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A81-14C0-4804-B951-FE0EB014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DEE-0499-4F99-91EC-C9E0C7D9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9FD-8AFA-4852-A026-81C046A2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430-757B-44AA-978F-313A886A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32D-0E7C-4FDE-BA2D-1608B6D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8F4-7B2C-47B0-9BCE-7B46C587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738-7184-46BD-A1C1-81091D23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286-1EFB-41A5-AD00-565C530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691-D081-40A9-9A40-DF59E7B1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976-497E-4695-886F-FF579CC9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B80B-88EA-4B18-9611-BC434D8108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jpeg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jpeg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5.gif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6.gif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43" name="BGFL016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BGFL0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BGFL01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BGFL01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48" name="BGFL0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BGFL0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BGFL0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BGFL016" descr="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53" name="BGFL016" descr=""/>
              <p:cNvPicPr/>
              <p:nvPr/>
            </p:nvPicPr>
            <p:blipFill>
              <a:blip r:embed="rId9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BGFL0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BGFL0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BGFL016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58" name="BGFL0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BGFL0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BGFL016" descr="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BGFL01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63" name="BGFL016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BGFL016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BGFL016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BGFL016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" name="未标题-1%20拷贝" descr=""/>
          <p:cNvPicPr/>
          <p:nvPr/>
        </p:nvPicPr>
        <p:blipFill>
          <a:blip r:embed="rId21"/>
          <a:stretch/>
        </p:blipFill>
        <p:spPr>
          <a:xfrm>
            <a:off x="990720" y="1219320"/>
            <a:ext cx="7162560" cy="509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04000" y="304920"/>
            <a:ext cx="22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592"/>
                </a:solidFill>
                <a:latin typeface="Times New Roman"/>
                <a:ea typeface="幼圆"/>
              </a:rPr>
              <a:t>2.</a:t>
            </a:r>
            <a:r>
              <a:rPr b="1" lang="zh-CN" sz="4000" spc="-1" strike="noStrike">
                <a:solidFill>
                  <a:srgbClr val="009592"/>
                </a:solidFill>
                <a:latin typeface="Times New Roman"/>
                <a:ea typeface="幼圆"/>
              </a:rPr>
              <a:t>金色的草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8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19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27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4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46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49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50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7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58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5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77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钓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0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81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8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89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6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08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察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12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9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20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9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瓣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2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43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0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51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8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70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拢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73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74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1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82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9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01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04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505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2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513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9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0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32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趣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0020848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130480" y="1600200"/>
            <a:ext cx="542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要多读几遍课文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把 对草地和蒲公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喜爱的感情读出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们交流交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从课文的哪些地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可以看出草地的可爱、蒲公英的有趣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04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0020848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357560" y="1905120"/>
            <a:ext cx="6130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把下面的句子抄了下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你抄了哪些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朵张开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它是金色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草地也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色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朵合拢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色的花瓣被包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草地就变成绿色的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未标题-1%20拷贝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5283360" cy="1951200"/>
          </a:xfrm>
          <a:prstGeom prst="rect">
            <a:avLst/>
          </a:prstGeom>
          <a:ln w="0">
            <a:noFill/>
          </a:ln>
        </p:spPr>
      </p:pic>
      <p:pic>
        <p:nvPicPr>
          <p:cNvPr id="540" name="05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70" name="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71" name="BGFL016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BGFL0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BGFL016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BGFL01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" name="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76" name="BGFL0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BGFL0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BGFL0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BGFL016" descr="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81" name="BGFL016" descr=""/>
              <p:cNvPicPr/>
              <p:nvPr/>
            </p:nvPicPr>
            <p:blipFill>
              <a:blip r:embed="rId9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BGFL0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BGFL0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BGFL016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86" name="BGFL0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BGFL0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BGFL016" descr="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BGFL01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" name="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91" name="BGFL016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BGFL016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BGFL016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BGFL016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5" name="未标题-1%20拷贝" descr=""/>
          <p:cNvPicPr/>
          <p:nvPr/>
        </p:nvPicPr>
        <p:blipFill>
          <a:blip r:embed="rId21"/>
          <a:stretch/>
        </p:blipFill>
        <p:spPr>
          <a:xfrm>
            <a:off x="762120" y="1066680"/>
            <a:ext cx="7721640" cy="4953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98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06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3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21" descr=""/>
          <p:cNvPicPr/>
          <p:nvPr/>
        </p:nvPicPr>
        <p:blipFill>
          <a:blip r:embed="rId27"/>
          <a:stretch/>
        </p:blipFill>
        <p:spPr>
          <a:xfrm>
            <a:off x="838080" y="380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58840" y="662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640" y="2438280"/>
            <a:ext cx="589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钓   拢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3840" y="1627200"/>
            <a:ext cx="4816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cc"/>
                </a:solidFill>
                <a:latin typeface="Times New Roman"/>
              </a:rPr>
              <a:t>diào              lǒ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8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0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31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39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6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book9" descr=""/>
          <p:cNvPicPr/>
          <p:nvPr/>
        </p:nvPicPr>
        <p:blipFill>
          <a:blip r:embed="rId27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57400" y="1295280"/>
          <a:ext cx="4952880" cy="447048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354480" y="9144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耍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8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3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64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72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1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装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4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95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2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03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0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2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劲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25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26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34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1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53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绒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56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57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4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65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2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84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7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88" name="8HANA1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8HANA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8HANA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8HANA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8HANA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8HANA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8HANA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96" name="8HANA1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8HANA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8HANA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8HANA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8HANA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8HANA1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8HANA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3" name="8HANA1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8HANA1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8HANA1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8HANA1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8HANA1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8HANA1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8HANA1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8HANA1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8HANA1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8HANA1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8HANA1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8HANA1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15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4:28:11Z</dcterms:created>
  <dc:creator>fhq</dc:creator>
  <dc:description/>
  <dc:language>en-US</dc:language>
  <cp:lastModifiedBy>fhq</cp:lastModifiedBy>
  <dcterms:modified xsi:type="dcterms:W3CDTF">2003-08-04T13:03:28Z</dcterms:modified>
  <cp:revision>21</cp:revision>
  <dc:subject/>
  <dc:title>PowerPoint 演示文稿</dc:title>
</cp:coreProperties>
</file>