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arrow.wav" ContentType="audio/x-wav"/>
  <Override PartName="/ppt/media/laser.wav" ContentType="audio/x-wav"/>
  <Override PartName="/ppt/media/image2.jpeg" ContentType="image/jpeg"/>
  <Override PartName="/ppt/media/wind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3098-1956-43E0-A692-5BDC3B7F51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暑假里我和爸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站在天都峰脚下，我感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害怕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对话。我一位老爷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信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向上爬，终于爬上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奋力天都峰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别人力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19E-1793-49E8-AC97-FD995212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642-7923-4CC9-8050-34CBA8C6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5DD-EF49-47E9-86CA-5C6DC0D8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0C5-8D8F-43FC-86C7-AB1506B9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A20-3C15-41C3-BB1A-151BD83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8CB-4938-4C96-9E3B-73845C1A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849-50F8-4C41-8F69-F60F8537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3D0-66E0-4D8B-BAA3-9D451C5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C1E-11DF-46A4-A089-B8B2D72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29E-983C-4EF9-B6C2-BD7B0E1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D9A-A260-421E-ACB5-D2B03D5B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DED-416E-4B5F-829D-19E5959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9D97-3420-463D-9B82-A9BB65347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arrow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arrow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暑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假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Arial"/>
              </a:rPr>
              <a:t>jià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里，爸爸带我去黄山，爬天都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472360" cy="33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65800" y="4984920"/>
            <a:ext cx="76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时间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人物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941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暑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9417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9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爸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我站在天都峰脚下抬头望：啊，峰顶这么高，在云彩上面哩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我爬得上去吗？再看看笔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陡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dŏu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石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级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jí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石级边上的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铁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tiĕ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链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lià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似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乎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hū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是从天上挂下来的，真叫人发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颤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Arial"/>
              </a:rPr>
              <a:t>chà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67164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373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站在天都峰脚下，我感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5300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害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708360" y="-360"/>
            <a:ext cx="498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忽然听到背后有人叫我：“小朋友，你也来爬天都峰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我回头一看，是一位白发苍苍的老爷爷，年纪比我爷爷还大哩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我不再犹豫，点点头，仰起脸，问：“老爷爷，您也来爬天都峰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老爷爷也点点头：“对，咱们一起爬吧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780000" cy="410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5589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4800" y="551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53560" y="547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老爷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老爷爷这么大年纪都能爬，我也充满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______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213372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355640" y="404640"/>
            <a:ext cx="44132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Arial"/>
              </a:rPr>
              <a:t>fèn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力向峰顶爬去，一会儿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Arial"/>
              </a:rPr>
              <a:t>pān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着铁链上，一会儿手脚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并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Arial"/>
              </a:rPr>
              <a:t>bìng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用向上爬，像小猴子一个样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爬呀爬，我和老爷爷，还有爸爸，终于爬上了天都峰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403200"/>
            <a:ext cx="3168720" cy="38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530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向上爬，终于爬上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51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都峰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321264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老一小能爬上天都峰顶，是因为他们会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上汲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79640" y="1125360"/>
            <a:ext cx="5256360" cy="113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、做一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78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4365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0:41:43Z</dcterms:created>
  <dc:creator>user</dc:creator>
  <dc:description/>
  <dc:language>en-US</dc:language>
  <cp:lastModifiedBy>user</cp:lastModifiedBy>
  <dcterms:modified xsi:type="dcterms:W3CDTF">2003-09-22T12:05:35Z</dcterms:modified>
  <cp:revision>4</cp:revision>
  <dc:subject/>
  <dc:title>幻灯片 1</dc:title>
</cp:coreProperties>
</file>