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arrow.wav" ContentType="audio/x-wav"/>
  <Override PartName="/ppt/media/laser.wav" ContentType="audio/x-wav"/>
  <Override PartName="/ppt/media/image2.jpeg" ContentType="image/jpeg"/>
  <Override PartName="/ppt/media/wind.wav" ContentType="audio/x-wav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97BE-811C-4EB3-8DDF-BE80447B2A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暑假里我和爸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站在天都峰脚下，我感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害怕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对话。我一位老爷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信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地向上爬，终于爬上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___________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奋力天都峰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别人力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20BE-4633-4C72-8F23-C275D2A4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54F1-2278-4402-A740-7F35082E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B96A-A0DD-4639-905B-2A52405B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4BAE-4834-46A4-89AE-14184836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8F88-F3D0-4168-9FCD-13A59E23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6A50-15D5-490F-9227-278F4F3A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99B9-F267-4008-9EC2-87B36EBB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94E-48FF-41FA-AADC-5AEF66E3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515-AA8F-4F2B-B197-D598CC98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21E4-35D6-45E8-A3D7-2AA7E996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6028-F5D1-478C-927D-15142666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F0BB-590F-44BD-9346-65022E2E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3EBA-06F6-4D85-86D5-C14649EFA0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arrow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wind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arrow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40053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暑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假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Arial"/>
              </a:rPr>
              <a:t>jià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里，爸爸带我去黄山，爬天都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63640" y="476280"/>
            <a:ext cx="5472360" cy="338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65800" y="4984920"/>
            <a:ext cx="76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时间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__________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人物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_____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494172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暑假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494172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80360" y="4941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爸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299700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我站在天都峰脚下抬头望：啊，峰顶这么高，在云彩上面哩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!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我爬得上去吗？再看看笔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陡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Arial"/>
              </a:rPr>
              <a:t>dŏu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的石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级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Arial"/>
              </a:rPr>
              <a:t>jí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，石级边上的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铁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Arial"/>
              </a:rPr>
              <a:t>tiĕ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链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Arial"/>
              </a:rPr>
              <a:t>liàn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似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乎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Arial"/>
              </a:rPr>
              <a:t>hū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是从天上挂下来的，真叫人发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颤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Arial"/>
              </a:rPr>
              <a:t>chàn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3671640" cy="280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53737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站在天都峰脚下，我感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_________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530064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害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708360" y="-360"/>
            <a:ext cx="49896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忽然听到背后有人叫我：“小朋友，你也来爬天都峰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我回头一看，是一位白发苍苍的老爷爷，年纪比我爷爷还大哩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!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我不再犹豫，点点头，仰起脸，问：“老爷爷，您也来爬天都峰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老爷爷也点点头：“对，咱们一起爬吧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3780000" cy="4103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76360" y="55897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_______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____________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的对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34800" y="551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53560" y="54784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位老爷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64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老爷爷这么大年纪都能爬，我也充满了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______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0920" y="213372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信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355640" y="404640"/>
            <a:ext cx="44132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我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奋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Arial"/>
              </a:rPr>
              <a:t>fèn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力向峰顶爬去，一会儿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攀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Arial"/>
              </a:rPr>
              <a:t>pān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着铁链上，一会儿手脚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并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Arial"/>
              </a:rPr>
              <a:t>bìng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用向上爬，像小猴子一个样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爬呀爬，我和老爷爷，还有爸爸，终于爬上了天都峰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55640" y="403200"/>
            <a:ext cx="3168720" cy="3889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5300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我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向上爬，终于爬上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_________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5157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奋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27640" y="5157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都峰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4000" y="3212640"/>
            <a:ext cx="8229600" cy="24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一老一小能爬上天都峰顶，是因为他们会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身上汲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79640" y="1125360"/>
            <a:ext cx="5256360" cy="113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、做一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78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别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92360" y="4365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力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10:41:43Z</dcterms:created>
  <dc:creator>user</dc:creator>
  <dc:description/>
  <dc:language>en-US</dc:language>
  <cp:lastModifiedBy>user</cp:lastModifiedBy>
  <dcterms:modified xsi:type="dcterms:W3CDTF">2003-09-22T12:05:35Z</dcterms:modified>
  <cp:revision>4</cp:revision>
  <dc:subject/>
  <dc:title>幻灯片 1</dc:title>
</cp:coreProperties>
</file>