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C99-68F3-4F79-B1C5-13FEB6F6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2AB-7661-49B6-96D9-162B99CB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A4E-1DA4-49F7-A04B-33932317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9E1-56FB-471E-856C-44957C52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8BB-A7F2-41BD-8D1E-38749E39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3AE-56EC-4B01-8743-D167873C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889-051E-42D5-84B6-5C961EEA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176-E131-4E50-9720-CDA7EC81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924-9745-4842-BE20-4DDA4EB6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55A-241C-4F65-A4CD-C0025231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29F-7EAC-4E87-9CB0-65683CE1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7F0-47C7-4633-AF4E-2E6B6F86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AF91-3FFB-406B-B29F-57E3D2F703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8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75640" y="407880"/>
            <a:ext cx="24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17  </a:t>
            </a: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小摄影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06668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贴（        ）  吩（        ）    社（        ）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沾（        ）  纷（        ）    杜（        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测（        ）  秘（        ）    胶（ 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侧（        ）  密（        ）    郊（ 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者（        ）  杂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著（        ）  染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479960" y="1600200"/>
            <a:ext cx="729360" cy="1176120"/>
            <a:chOff x="1479960" y="1600200"/>
            <a:chExt cx="729360" cy="1176120"/>
          </a:xfrm>
        </p:grpSpPr>
        <p:sp>
          <p:nvSpPr>
            <p:cNvPr id="45" name=""/>
            <p:cNvSpPr/>
            <p:nvPr/>
          </p:nvSpPr>
          <p:spPr>
            <a:xfrm>
              <a:off x="1479960" y="1600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贴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79960" y="2133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沾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070880" y="1600200"/>
            <a:ext cx="729360" cy="1176120"/>
            <a:chOff x="4070880" y="1600200"/>
            <a:chExt cx="729360" cy="1176120"/>
          </a:xfrm>
        </p:grpSpPr>
        <p:sp>
          <p:nvSpPr>
            <p:cNvPr id="48" name=""/>
            <p:cNvSpPr/>
            <p:nvPr/>
          </p:nvSpPr>
          <p:spPr>
            <a:xfrm>
              <a:off x="4070880" y="1600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吩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70880" y="2133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纷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403640" y="3276720"/>
            <a:ext cx="729360" cy="1175760"/>
            <a:chOff x="1403640" y="3276720"/>
            <a:chExt cx="729360" cy="1175760"/>
          </a:xfrm>
        </p:grpSpPr>
        <p:sp>
          <p:nvSpPr>
            <p:cNvPr id="51" name=""/>
            <p:cNvSpPr/>
            <p:nvPr/>
          </p:nvSpPr>
          <p:spPr>
            <a:xfrm>
              <a:off x="1403640" y="3276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测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03640" y="3809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侧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477120" y="1600200"/>
            <a:ext cx="1251000" cy="1176120"/>
            <a:chOff x="6477120" y="1600200"/>
            <a:chExt cx="1251000" cy="1176120"/>
          </a:xfrm>
        </p:grpSpPr>
        <p:sp>
          <p:nvSpPr>
            <p:cNvPr id="54" name=""/>
            <p:cNvSpPr/>
            <p:nvPr/>
          </p:nvSpPr>
          <p:spPr>
            <a:xfrm>
              <a:off x="6477120" y="2133720"/>
              <a:ext cx="125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杜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61800" y="1600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553080" y="3276720"/>
            <a:ext cx="1143000" cy="1175760"/>
            <a:chOff x="6553080" y="3276720"/>
            <a:chExt cx="1143000" cy="1175760"/>
          </a:xfrm>
        </p:grpSpPr>
        <p:sp>
          <p:nvSpPr>
            <p:cNvPr id="57" name=""/>
            <p:cNvSpPr/>
            <p:nvPr/>
          </p:nvSpPr>
          <p:spPr>
            <a:xfrm>
              <a:off x="6553080" y="32767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胶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3080" y="38098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郊外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733920" y="3276720"/>
            <a:ext cx="1218600" cy="1175760"/>
            <a:chOff x="3733920" y="3276720"/>
            <a:chExt cx="1218600" cy="1175760"/>
          </a:xfrm>
        </p:grpSpPr>
        <p:sp>
          <p:nvSpPr>
            <p:cNvPr id="60" name=""/>
            <p:cNvSpPr/>
            <p:nvPr/>
          </p:nvSpPr>
          <p:spPr>
            <a:xfrm>
              <a:off x="3809880" y="3809880"/>
              <a:ext cx="114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秘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33920" y="3276720"/>
              <a:ext cx="114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秘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219320" y="4876920"/>
            <a:ext cx="1143000" cy="1175760"/>
            <a:chOff x="1219320" y="4876920"/>
            <a:chExt cx="1143000" cy="1175760"/>
          </a:xfrm>
        </p:grpSpPr>
        <p:sp>
          <p:nvSpPr>
            <p:cNvPr id="63" name=""/>
            <p:cNvSpPr/>
            <p:nvPr/>
          </p:nvSpPr>
          <p:spPr>
            <a:xfrm>
              <a:off x="1219320" y="48769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作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19320" y="54100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著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86200" y="4876920"/>
            <a:ext cx="1143000" cy="1175760"/>
            <a:chOff x="3886200" y="4876920"/>
            <a:chExt cx="1143000" cy="1175760"/>
          </a:xfrm>
        </p:grpSpPr>
        <p:sp>
          <p:nvSpPr>
            <p:cNvPr id="66" name=""/>
            <p:cNvSpPr/>
            <p:nvPr/>
          </p:nvSpPr>
          <p:spPr>
            <a:xfrm>
              <a:off x="3886200" y="48769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杂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86200" y="54100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感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716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438280"/>
            <a:ext cx="693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小摄影师       男孩       扔纸团       摆弄         坐  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明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关心  爱护    高尔基    放他进       微笑         站  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暗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251460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6600" y="2743200"/>
            <a:ext cx="94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衬托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35000" y="12952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17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小摄影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8:35:27Z</dcterms:created>
  <dc:creator>baixiuli</dc:creator>
  <dc:description/>
  <dc:language>en-US</dc:language>
  <cp:lastModifiedBy>a</cp:lastModifiedBy>
  <dcterms:modified xsi:type="dcterms:W3CDTF">2003-05-27T01:07:28Z</dcterms:modified>
  <cp:revision>6</cp:revision>
  <dc:subject/>
  <dc:title>PowerPoint 演示文稿</dc:title>
</cp:coreProperties>
</file>