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6DE-50BB-45D9-AF31-C93ABB28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83C-8378-40A0-B410-D98F30D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A16-C2C2-49AE-8E96-609F8508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F71-8175-40B4-B346-2B89E468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478-79E8-4870-B299-52416F9E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095-409B-40B1-AF3D-3590208A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FEF-4039-42D4-A9A4-AC7AD02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6E4-E969-4FCB-BB37-F2E342E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C40-E09A-4505-B8A4-ADE4C829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5A6-36D7-4A36-AF89-5B5DB40C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735-46BA-4958-84E1-1522C1E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C1A-A101-4A21-8264-62721D09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BEC-F8AE-4868-9B67-2E448BD608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5640" y="407880"/>
            <a:ext cx="24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7  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小摄影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06668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贴（        ）  吩（        ）    社（        ）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沾（        ）  纷（        ）    杜（        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测（        ）  秘（        ）    胶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侧（        ）  密（        ）    郊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者（        ）  杂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著（        ）  染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79960" y="1600200"/>
            <a:ext cx="729360" cy="1176120"/>
            <a:chOff x="1479960" y="1600200"/>
            <a:chExt cx="729360" cy="1176120"/>
          </a:xfrm>
        </p:grpSpPr>
        <p:sp>
          <p:nvSpPr>
            <p:cNvPr id="45" name=""/>
            <p:cNvSpPr/>
            <p:nvPr/>
          </p:nvSpPr>
          <p:spPr>
            <a:xfrm>
              <a:off x="147996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贴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79960" y="2133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沾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070880" y="1600200"/>
            <a:ext cx="729360" cy="1176120"/>
            <a:chOff x="4070880" y="1600200"/>
            <a:chExt cx="729360" cy="1176120"/>
          </a:xfrm>
        </p:grpSpPr>
        <p:sp>
          <p:nvSpPr>
            <p:cNvPr id="48" name=""/>
            <p:cNvSpPr/>
            <p:nvPr/>
          </p:nvSpPr>
          <p:spPr>
            <a:xfrm>
              <a:off x="407088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吩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70880" y="2133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纷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403640" y="3276720"/>
            <a:ext cx="729360" cy="1175760"/>
            <a:chOff x="1403640" y="3276720"/>
            <a:chExt cx="729360" cy="1175760"/>
          </a:xfrm>
        </p:grpSpPr>
        <p:sp>
          <p:nvSpPr>
            <p:cNvPr id="51" name=""/>
            <p:cNvSpPr/>
            <p:nvPr/>
          </p:nvSpPr>
          <p:spPr>
            <a:xfrm>
              <a:off x="1403640" y="3276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测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640" y="3809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侧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477120" y="1600200"/>
            <a:ext cx="1251000" cy="1176120"/>
            <a:chOff x="6477120" y="1600200"/>
            <a:chExt cx="1251000" cy="1176120"/>
          </a:xfrm>
        </p:grpSpPr>
        <p:sp>
          <p:nvSpPr>
            <p:cNvPr id="54" name=""/>
            <p:cNvSpPr/>
            <p:nvPr/>
          </p:nvSpPr>
          <p:spPr>
            <a:xfrm>
              <a:off x="6477120" y="2133720"/>
              <a:ext cx="12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杜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6180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53080" y="3276720"/>
            <a:ext cx="1143000" cy="1175760"/>
            <a:chOff x="6553080" y="3276720"/>
            <a:chExt cx="1143000" cy="1175760"/>
          </a:xfrm>
        </p:grpSpPr>
        <p:sp>
          <p:nvSpPr>
            <p:cNvPr id="57" name=""/>
            <p:cNvSpPr/>
            <p:nvPr/>
          </p:nvSpPr>
          <p:spPr>
            <a:xfrm>
              <a:off x="6553080" y="32767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胶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3080" y="3809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郊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733920" y="3276720"/>
            <a:ext cx="1218600" cy="1175760"/>
            <a:chOff x="3733920" y="3276720"/>
            <a:chExt cx="1218600" cy="1175760"/>
          </a:xfrm>
        </p:grpSpPr>
        <p:sp>
          <p:nvSpPr>
            <p:cNvPr id="60" name=""/>
            <p:cNvSpPr/>
            <p:nvPr/>
          </p:nvSpPr>
          <p:spPr>
            <a:xfrm>
              <a:off x="3809880" y="3809880"/>
              <a:ext cx="114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33920" y="3276720"/>
              <a:ext cx="114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19320" y="4876920"/>
            <a:ext cx="1143000" cy="1175760"/>
            <a:chOff x="1219320" y="4876920"/>
            <a:chExt cx="1143000" cy="1175760"/>
          </a:xfrm>
        </p:grpSpPr>
        <p:sp>
          <p:nvSpPr>
            <p:cNvPr id="63" name=""/>
            <p:cNvSpPr/>
            <p:nvPr/>
          </p:nvSpPr>
          <p:spPr>
            <a:xfrm>
              <a:off x="1219320" y="48769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作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9320" y="5410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著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86200" y="4876920"/>
            <a:ext cx="1143000" cy="1175760"/>
            <a:chOff x="3886200" y="4876920"/>
            <a:chExt cx="1143000" cy="1175760"/>
          </a:xfrm>
        </p:grpSpPr>
        <p:sp>
          <p:nvSpPr>
            <p:cNvPr id="66" name=""/>
            <p:cNvSpPr/>
            <p:nvPr/>
          </p:nvSpPr>
          <p:spPr>
            <a:xfrm>
              <a:off x="3886200" y="48769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杂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5410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感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716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43828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摄影师       男孩       扔纸团       摆弄         坐  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明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关心  爱护    高尔基    放他进       微笑         站  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暗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5146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274320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衬托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35000" y="12952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17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小摄影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35:27Z</dcterms:created>
  <dc:creator>baixiuli</dc:creator>
  <dc:description/>
  <dc:language>en-US</dc:language>
  <cp:lastModifiedBy>a</cp:lastModifiedBy>
  <dcterms:modified xsi:type="dcterms:W3CDTF">2003-05-27T01:07:28Z</dcterms:modified>
  <cp:revision>6</cp:revision>
  <dc:subject/>
  <dc:title>PowerPoint 演示文稿</dc:title>
</cp:coreProperties>
</file>