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camera.wav" ContentType="audio/x-wav"/>
  <Override PartName="/ppt/media/image7.png" ContentType="image/png"/>
  <Override PartName="/ppt/media/TYPE.WAV" ContentType="audio/x-wav"/>
  <Override PartName="/ppt/media/image4.png" ContentType="image/png"/>
  <Override PartName="/ppt/media/image6.jpeg" ContentType="image/jpeg"/>
  <Override PartName="/ppt/media/image10.png" ContentType="image/png"/>
  <Override PartName="/ppt/media/applause.wav" ContentType="audio/x-wav"/>
  <Override PartName="/ppt/media/chimes.wav" ContentType="audio/x-wav"/>
  <Override PartName="/ppt/media/image14.gif" ContentType="image/gif"/>
  <Override PartName="/ppt/media/image13.jpeg" ContentType="image/jpeg"/>
  <Override PartName="/ppt/media/image12.png" ContentType="image/png"/>
  <Override PartName="/ppt/media/LASER.WAV" ContentType="audio/x-wav"/>
  <Override PartName="/ppt/media/CAMERA.WAV" ContentType="audio/x-wav"/>
  <Override PartName="/ppt/media/image11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whoosh.wav" ContentType="audio/x-wav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DA8-5B65-4375-8931-CE38BBAB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ADA-FE39-45C6-A6E4-C64B3CAE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35D-1900-4946-8A16-D8BE7DCD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96A-E3E3-4918-A8DC-40CB69C2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0313-7112-4E5C-A4AB-CF3A3B54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593A-11BC-477D-9CCE-CE6D92D3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85D2-F03C-4A7F-9272-8384ACE0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6AEA-FAA8-4DE6-8A80-6F94B4EC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376F-5E49-4289-B6EB-10B74F84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E6D1-FFB6-4BFA-89FA-0DFA4D43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0E58-0F53-4F5C-B002-16DC6E8D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A16-4A74-416A-90AD-5003E63A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E420-4F1F-4A4A-B52A-76EE1AA8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3CD4-CA34-4D12-A059-A452EB84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3EC7-0C8D-4FB7-B6BB-51E3AD4A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1380-2FEA-4489-A343-FBC898FA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8EF1-B615-492A-8408-C389C084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BE74E-53A6-4EAB-92FC-E65464C9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640CD-1761-4DA3-9D3B-D1DF4677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42EA3-2ECD-4E24-9842-C6A63E8D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FCCFE-493B-4290-A116-427ADF24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1022D-7500-480D-A9F5-7B16652B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382-83C0-4E37-94D6-C4555273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71ACD-97C0-4951-8503-6F19AFE1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09651-8CC1-4B8E-9E38-DBC561C1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019E2-EF40-4B93-BE80-8A103586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4BB01-6017-447D-AC89-790CC053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145A7-78B9-4921-AF59-A025471F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FE612-6FD3-4C66-8C3A-3D983466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4B9E7-5585-4538-AF82-8768AAE3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4C52B-87CD-428D-B488-1E8D9A34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68BB7-BB9F-4576-9315-21C6B508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5BF74-720B-47C2-8F9E-68945658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309A-DBE4-4660-9450-D1F191B0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4C80F-0951-48D7-88B9-4771B7BC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3167E-A92C-4517-8FD9-4D8E45DC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4A453-FF78-4A54-AABF-B0FC41B8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CEE42-8C01-48BD-B77A-51D2CB3D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22957-1EB4-4FAD-9628-48F775FE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B2655-DA47-4433-937F-4D6FAC2B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83C9C-0E90-4CE7-9D05-223775DB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E70EE-BCA6-4B9C-934A-F850A37B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4A369-D110-47F4-BACB-A21966F6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F0C-589E-45A1-B750-FD95DDCA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42D-F82F-4215-81FA-0A74AAA7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3BC-4268-42E0-900E-D3FC0F7B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610-3788-4C84-A8A8-B850E4FA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C05-081B-437A-959A-7684E13D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DB77-736E-4E17-A471-94DB532AAC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46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61D0-6A3E-4436-94BE-113F007613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90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F5FF-BFAC-4C6E-8DCD-7F51728E96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35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0B64-193C-48D0-B10A-4F410B1E9E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228600" y="304920"/>
            <a:ext cx="8475840" cy="1052280"/>
            <a:chOff x="228600" y="304920"/>
            <a:chExt cx="8475840" cy="1052280"/>
          </a:xfrm>
        </p:grpSpPr>
        <p:grpSp>
          <p:nvGrpSpPr>
            <p:cNvPr id="179" name=""/>
            <p:cNvGrpSpPr/>
            <p:nvPr/>
          </p:nvGrpSpPr>
          <p:grpSpPr>
            <a:xfrm>
              <a:off x="501840" y="412560"/>
              <a:ext cx="669240" cy="474480"/>
              <a:chOff x="501840" y="412560"/>
              <a:chExt cx="669240" cy="474480"/>
            </a:xfrm>
          </p:grpSpPr>
          <p:sp>
            <p:nvSpPr>
              <p:cNvPr id="180" name=""/>
              <p:cNvSpPr/>
              <p:nvPr/>
            </p:nvSpPr>
            <p:spPr>
              <a:xfrm>
                <a:off x="501840" y="412560"/>
                <a:ext cx="41148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62200" y="412560"/>
                <a:ext cx="30888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18120" y="834840"/>
              <a:ext cx="693720" cy="474480"/>
              <a:chOff x="618120" y="834840"/>
              <a:chExt cx="693720" cy="474480"/>
            </a:xfrm>
          </p:grpSpPr>
          <p:sp>
            <p:nvSpPr>
              <p:cNvPr id="183" name=""/>
              <p:cNvSpPr/>
              <p:nvPr/>
            </p:nvSpPr>
            <p:spPr>
              <a:xfrm>
                <a:off x="618120" y="834840"/>
                <a:ext cx="3963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964800" y="834840"/>
                <a:ext cx="3470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28600" y="761760"/>
              <a:ext cx="527040" cy="42192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5840" y="304920"/>
              <a:ext cx="2952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25960" y="1126080"/>
              <a:ext cx="8178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8381880" cy="1219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676520" y="4572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黑体"/>
              </a:rPr>
              <a:t>百分数应用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0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audio" Target="../media/CAMERA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0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audio" Target="../media/CAMERA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0.xm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0.xml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audio" Target="../media/CAMERA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CAMERA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371600" y="12193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九年义务教育小学数学第十一册第五单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25146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百分数的应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224240" y="1403280"/>
            <a:ext cx="10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、根据条件，提出求百分数的问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762120" y="3733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3" action="ppaction://hlinksldjump"/>
          </p:cNvPr>
          <p:cNvSpPr/>
          <p:nvPr/>
        </p:nvSpPr>
        <p:spPr>
          <a:xfrm>
            <a:off x="3200400" y="3733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4" action="ppaction://hlinksldjump"/>
          </p:cNvPr>
          <p:cNvSpPr/>
          <p:nvPr/>
        </p:nvSpPr>
        <p:spPr>
          <a:xfrm>
            <a:off x="5562720" y="3733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5" action="ppaction://hlinksldjump"/>
          </p:cNvPr>
          <p:cNvSpPr/>
          <p:nvPr/>
        </p:nvSpPr>
        <p:spPr>
          <a:xfrm>
            <a:off x="7772400" y="3733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65640" y="2013120"/>
            <a:ext cx="540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乡去年原计划造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公顷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实际造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公顷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88000" y="3213000"/>
            <a:ext cx="2016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6" action="ppaction://hlinksldjump"/>
          </p:cNvPr>
          <p:cNvSpPr/>
          <p:nvPr/>
        </p:nvSpPr>
        <p:spPr>
          <a:xfrm>
            <a:off x="4267080" y="5638680"/>
            <a:ext cx="914400" cy="60984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0981" y="1400"/>
                </a:lnTo>
                <a:lnTo>
                  <a:pt x="1400" y="140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0981" y="20200"/>
                </a:lnTo>
                <a:lnTo>
                  <a:pt x="30981" y="140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1" y="2020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1" h="21600">
                <a:moveTo>
                  <a:pt x="9184" y="3794"/>
                </a:moveTo>
                <a:lnTo>
                  <a:pt x="23197" y="10800"/>
                </a:lnTo>
                <a:lnTo>
                  <a:pt x="918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7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7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75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775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275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775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275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102040" y="313848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实际造林是原计划的百分之几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rId2" action="ppaction://hlinksldjump"/>
          </p:cNvPr>
          <p:cNvSpPr/>
          <p:nvPr/>
        </p:nvSpPr>
        <p:spPr>
          <a:xfrm>
            <a:off x="8001000" y="58672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65640" y="1631880"/>
            <a:ext cx="540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乡去年原计划造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公顷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实际造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公顷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74880" y="3933720"/>
            <a:ext cx="6260760" cy="980640"/>
            <a:chOff x="974880" y="3933720"/>
            <a:chExt cx="6260760" cy="980640"/>
          </a:xfrm>
        </p:grpSpPr>
        <p:pic>
          <p:nvPicPr>
            <p:cNvPr id="282" name="" descr=""/>
            <p:cNvPicPr/>
            <p:nvPr/>
          </p:nvPicPr>
          <p:blipFill>
            <a:blip r:embed="rId3"/>
            <a:stretch/>
          </p:blipFill>
          <p:spPr>
            <a:xfrm>
              <a:off x="1786680" y="4759920"/>
              <a:ext cx="5448960" cy="1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974880" y="4389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计划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381400">
              <a:off x="4349160" y="2074680"/>
              <a:ext cx="307800" cy="5062320"/>
            </a:xfrm>
            <a:custGeom>
              <a:avLst/>
              <a:gdLst>
                <a:gd name="textAreaLeft" fmla="*/ 196560 w 307800"/>
                <a:gd name="textAreaRight" fmla="*/ 308160 w 307800"/>
                <a:gd name="textAreaTop" fmla="*/ 263880 h 5062320"/>
                <a:gd name="textAreaBottom" fmla="*/ 4798440 h 50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00"/>
                    <a:pt x="10800" y="3600"/>
                  </a:cubicBezTo>
                  <a:lnTo>
                    <a:pt x="10800" y="7200"/>
                  </a:lnTo>
                  <a:cubicBezTo>
                    <a:pt x="10800" y="9000"/>
                    <a:pt x="5400" y="10800"/>
                    <a:pt x="0" y="10800"/>
                  </a:cubicBezTo>
                  <a:cubicBezTo>
                    <a:pt x="5400" y="10800"/>
                    <a:pt x="10800" y="12600"/>
                    <a:pt x="10800" y="14400"/>
                  </a:cubicBezTo>
                  <a:lnTo>
                    <a:pt x="10800" y="18000"/>
                  </a:lnTo>
                  <a:cubicBezTo>
                    <a:pt x="10800" y="19800"/>
                    <a:pt x="16200" y="21600"/>
                    <a:pt x="21600" y="21600"/>
                  </a:cubicBezTo>
                </a:path>
              </a:pathLst>
            </a:custGeom>
            <a:noFill/>
            <a:ln w="540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61960" y="393372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公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263240" y="5445000"/>
            <a:ext cx="6908760" cy="961200"/>
            <a:chOff x="1263240" y="5445000"/>
            <a:chExt cx="6908760" cy="961200"/>
          </a:xfrm>
        </p:grpSpPr>
        <p:sp>
          <p:nvSpPr>
            <p:cNvPr id="287" name=""/>
            <p:cNvSpPr/>
            <p:nvPr/>
          </p:nvSpPr>
          <p:spPr>
            <a:xfrm>
              <a:off x="1263240" y="5445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实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8" name="" descr=""/>
            <p:cNvPicPr/>
            <p:nvPr/>
          </p:nvPicPr>
          <p:blipFill>
            <a:blip r:embed="rId4"/>
            <a:stretch/>
          </p:blipFill>
          <p:spPr>
            <a:xfrm>
              <a:off x="1862280" y="5717880"/>
              <a:ext cx="6309720" cy="1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 rot="16200000">
              <a:off x="4873320" y="2875680"/>
              <a:ext cx="228600" cy="60645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16080 h 6064560"/>
                <a:gd name="textAreaBottom" fmla="*/ 5748480 h 606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00"/>
                    <a:pt x="10800" y="3600"/>
                  </a:cubicBezTo>
                  <a:lnTo>
                    <a:pt x="10800" y="7200"/>
                  </a:lnTo>
                  <a:cubicBezTo>
                    <a:pt x="10800" y="9000"/>
                    <a:pt x="5400" y="10800"/>
                    <a:pt x="0" y="10800"/>
                  </a:cubicBezTo>
                  <a:cubicBezTo>
                    <a:pt x="5400" y="10800"/>
                    <a:pt x="10800" y="12600"/>
                    <a:pt x="10800" y="14400"/>
                  </a:cubicBezTo>
                  <a:lnTo>
                    <a:pt x="10800" y="18000"/>
                  </a:lnTo>
                  <a:cubicBezTo>
                    <a:pt x="10800" y="19800"/>
                    <a:pt x="16200" y="21600"/>
                    <a:pt x="21600" y="21600"/>
                  </a:cubicBezTo>
                </a:path>
              </a:pathLst>
            </a:custGeom>
            <a:noFill/>
            <a:ln w="540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33400" y="594648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公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  <p:sndAc>
      <p:stSnd>
        <p:snd r:embed="rId5" name="CAMERA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13200" y="313848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实际造林比原计划多百分之几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2" action="ppaction://hlinksldjump"/>
          </p:cNvPr>
          <p:cNvSpPr/>
          <p:nvPr/>
        </p:nvSpPr>
        <p:spPr>
          <a:xfrm>
            <a:off x="8001000" y="58672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65640" y="1631880"/>
            <a:ext cx="540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乡去年原计划造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公顷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实际造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公顷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974880" y="3933720"/>
            <a:ext cx="6333480" cy="980640"/>
            <a:chOff x="974880" y="3933720"/>
            <a:chExt cx="6333480" cy="980640"/>
          </a:xfrm>
        </p:grpSpPr>
        <p:pic>
          <p:nvPicPr>
            <p:cNvPr id="295" name="" descr=""/>
            <p:cNvPicPr/>
            <p:nvPr/>
          </p:nvPicPr>
          <p:blipFill>
            <a:blip r:embed="rId3"/>
            <a:stretch/>
          </p:blipFill>
          <p:spPr>
            <a:xfrm>
              <a:off x="1798200" y="4759920"/>
              <a:ext cx="5510160" cy="1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974880" y="4389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计划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5381400">
              <a:off x="4391280" y="2046240"/>
              <a:ext cx="307800" cy="5119200"/>
            </a:xfrm>
            <a:custGeom>
              <a:avLst/>
              <a:gdLst>
                <a:gd name="textAreaLeft" fmla="*/ 196560 w 307800"/>
                <a:gd name="textAreaRight" fmla="*/ 308160 w 307800"/>
                <a:gd name="textAreaTop" fmla="*/ 266760 h 5119200"/>
                <a:gd name="textAreaBottom" fmla="*/ 4852440 h 511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00"/>
                    <a:pt x="10800" y="3600"/>
                  </a:cubicBezTo>
                  <a:lnTo>
                    <a:pt x="10800" y="7200"/>
                  </a:lnTo>
                  <a:cubicBezTo>
                    <a:pt x="10800" y="9000"/>
                    <a:pt x="5400" y="10800"/>
                    <a:pt x="0" y="10800"/>
                  </a:cubicBezTo>
                  <a:cubicBezTo>
                    <a:pt x="5400" y="10800"/>
                    <a:pt x="10800" y="12600"/>
                    <a:pt x="10800" y="14400"/>
                  </a:cubicBezTo>
                  <a:lnTo>
                    <a:pt x="10800" y="18000"/>
                  </a:lnTo>
                  <a:cubicBezTo>
                    <a:pt x="10800" y="19800"/>
                    <a:pt x="16200" y="21600"/>
                    <a:pt x="21600" y="21600"/>
                  </a:cubicBezTo>
                </a:path>
              </a:pathLst>
            </a:custGeom>
            <a:noFill/>
            <a:ln w="540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99400" y="393372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公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263240" y="5445000"/>
            <a:ext cx="6908760" cy="961200"/>
            <a:chOff x="1263240" y="5445000"/>
            <a:chExt cx="6908760" cy="961200"/>
          </a:xfrm>
        </p:grpSpPr>
        <p:sp>
          <p:nvSpPr>
            <p:cNvPr id="300" name=""/>
            <p:cNvSpPr/>
            <p:nvPr/>
          </p:nvSpPr>
          <p:spPr>
            <a:xfrm>
              <a:off x="1263240" y="5445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实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4"/>
            <a:stretch/>
          </p:blipFill>
          <p:spPr>
            <a:xfrm>
              <a:off x="1862280" y="5717880"/>
              <a:ext cx="6309720" cy="1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 rot="16200000">
              <a:off x="4873320" y="2875680"/>
              <a:ext cx="228600" cy="60645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16080 h 6064560"/>
                <a:gd name="textAreaBottom" fmla="*/ 5748480 h 606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00"/>
                    <a:pt x="10800" y="3600"/>
                  </a:cubicBezTo>
                  <a:lnTo>
                    <a:pt x="10800" y="7200"/>
                  </a:lnTo>
                  <a:cubicBezTo>
                    <a:pt x="10800" y="9000"/>
                    <a:pt x="5400" y="10800"/>
                    <a:pt x="0" y="10800"/>
                  </a:cubicBezTo>
                  <a:cubicBezTo>
                    <a:pt x="5400" y="10800"/>
                    <a:pt x="10800" y="12600"/>
                    <a:pt x="10800" y="14400"/>
                  </a:cubicBezTo>
                  <a:lnTo>
                    <a:pt x="10800" y="18000"/>
                  </a:lnTo>
                  <a:cubicBezTo>
                    <a:pt x="10800" y="19800"/>
                    <a:pt x="16200" y="21600"/>
                    <a:pt x="21600" y="21600"/>
                  </a:cubicBezTo>
                </a:path>
              </a:pathLst>
            </a:custGeom>
            <a:noFill/>
            <a:ln w="540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33400" y="594648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公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266960" y="5084640"/>
            <a:ext cx="844200" cy="542160"/>
            <a:chOff x="7266960" y="5084640"/>
            <a:chExt cx="844200" cy="542160"/>
          </a:xfrm>
        </p:grpSpPr>
        <p:sp>
          <p:nvSpPr>
            <p:cNvPr id="305" name=""/>
            <p:cNvSpPr/>
            <p:nvPr/>
          </p:nvSpPr>
          <p:spPr>
            <a:xfrm>
              <a:off x="7310160" y="5084640"/>
              <a:ext cx="8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多？</a:t>
              </a: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5381400">
              <a:off x="7536600" y="5119920"/>
              <a:ext cx="235080" cy="773640"/>
            </a:xfrm>
            <a:custGeom>
              <a:avLst/>
              <a:gdLst>
                <a:gd name="textAreaLeft" fmla="*/ 150120 w 235080"/>
                <a:gd name="textAreaRight" fmla="*/ 235440 w 235080"/>
                <a:gd name="textAreaTop" fmla="*/ 40320 h 773640"/>
                <a:gd name="textAreaBottom" fmla="*/ 733320 h 77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00"/>
                    <a:pt x="10800" y="3600"/>
                  </a:cubicBezTo>
                  <a:lnTo>
                    <a:pt x="10800" y="7200"/>
                  </a:lnTo>
                  <a:cubicBezTo>
                    <a:pt x="10800" y="9000"/>
                    <a:pt x="5400" y="10800"/>
                    <a:pt x="0" y="10800"/>
                  </a:cubicBezTo>
                  <a:cubicBezTo>
                    <a:pt x="5400" y="10800"/>
                    <a:pt x="10800" y="12600"/>
                    <a:pt x="10800" y="14400"/>
                  </a:cubicBezTo>
                  <a:lnTo>
                    <a:pt x="10800" y="18000"/>
                  </a:lnTo>
                  <a:cubicBezTo>
                    <a:pt x="10800" y="19800"/>
                    <a:pt x="16200" y="21600"/>
                    <a:pt x="21600" y="21600"/>
                  </a:cubicBezTo>
                </a:path>
              </a:pathLst>
            </a:custGeom>
            <a:noFill/>
            <a:ln w="540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7236000" y="4508640"/>
            <a:ext cx="0" cy="1185840"/>
          </a:xfrm>
          <a:prstGeom prst="line">
            <a:avLst/>
          </a:prstGeom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102040" y="313848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原计划造林是实际的百分之几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rId2" action="ppaction://hlinksldjump"/>
          </p:cNvPr>
          <p:cNvSpPr/>
          <p:nvPr/>
        </p:nvSpPr>
        <p:spPr>
          <a:xfrm>
            <a:off x="8001000" y="58672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65640" y="1631880"/>
            <a:ext cx="540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乡去年原计划造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公顷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实际造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公顷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113200" y="313848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原计划造林比实际少百分之几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rId2" action="ppaction://hlinksldjump"/>
          </p:cNvPr>
          <p:cNvSpPr/>
          <p:nvPr/>
        </p:nvSpPr>
        <p:spPr>
          <a:xfrm>
            <a:off x="8001000" y="58672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65640" y="1631880"/>
            <a:ext cx="540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乡去年原计划造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公顷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实际造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公顷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931680" y="4349880"/>
            <a:ext cx="7449840" cy="810000"/>
            <a:chOff x="931680" y="4349880"/>
            <a:chExt cx="7449840" cy="810000"/>
          </a:xfrm>
        </p:grpSpPr>
        <p:sp>
          <p:nvSpPr>
            <p:cNvPr id="315" name=""/>
            <p:cNvSpPr/>
            <p:nvPr/>
          </p:nvSpPr>
          <p:spPr>
            <a:xfrm>
              <a:off x="931680" y="47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实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1625760" y="4917600"/>
              <a:ext cx="6755760" cy="1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 rot="5400000">
              <a:off x="4865760" y="1563840"/>
              <a:ext cx="212760" cy="6493320"/>
            </a:xfrm>
            <a:custGeom>
              <a:avLst/>
              <a:gdLst>
                <a:gd name="textAreaLeft" fmla="*/ 136080 w 212760"/>
                <a:gd name="textAreaRight" fmla="*/ 213120 w 212760"/>
                <a:gd name="textAreaTop" fmla="*/ 338400 h 6493320"/>
                <a:gd name="textAreaBottom" fmla="*/ 6154920 h 649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00"/>
                    <a:pt x="10800" y="3600"/>
                  </a:cubicBezTo>
                  <a:lnTo>
                    <a:pt x="10800" y="7200"/>
                  </a:lnTo>
                  <a:cubicBezTo>
                    <a:pt x="10800" y="9000"/>
                    <a:pt x="5400" y="10800"/>
                    <a:pt x="0" y="10800"/>
                  </a:cubicBezTo>
                  <a:cubicBezTo>
                    <a:pt x="5400" y="10800"/>
                    <a:pt x="10800" y="12600"/>
                    <a:pt x="10800" y="14400"/>
                  </a:cubicBezTo>
                  <a:lnTo>
                    <a:pt x="10800" y="18000"/>
                  </a:lnTo>
                  <a:cubicBezTo>
                    <a:pt x="10800" y="19800"/>
                    <a:pt x="16200" y="21600"/>
                    <a:pt x="21600" y="21600"/>
                  </a:cubicBezTo>
                </a:path>
              </a:pathLst>
            </a:custGeom>
            <a:noFill/>
            <a:ln w="540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71480" y="434988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公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754560" y="5477040"/>
            <a:ext cx="6749280" cy="829800"/>
            <a:chOff x="754560" y="5477040"/>
            <a:chExt cx="6749280" cy="829800"/>
          </a:xfrm>
        </p:grpSpPr>
        <p:pic>
          <p:nvPicPr>
            <p:cNvPr id="320" name="" descr=""/>
            <p:cNvPicPr/>
            <p:nvPr/>
          </p:nvPicPr>
          <p:blipFill>
            <a:blip r:embed="rId4"/>
            <a:stretch/>
          </p:blipFill>
          <p:spPr>
            <a:xfrm>
              <a:off x="1697040" y="5658840"/>
              <a:ext cx="5806800" cy="1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754560" y="5477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原计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6200000">
              <a:off x="4485960" y="3113280"/>
              <a:ext cx="211680" cy="5394600"/>
            </a:xfrm>
            <a:custGeom>
              <a:avLst/>
              <a:gdLst>
                <a:gd name="textAreaLeft" fmla="*/ 135360 w 211680"/>
                <a:gd name="textAreaRight" fmla="*/ 212040 w 211680"/>
                <a:gd name="textAreaTop" fmla="*/ 281160 h 5394600"/>
                <a:gd name="textAreaBottom" fmla="*/ 5113440 h 539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00"/>
                    <a:pt x="10800" y="3600"/>
                  </a:cubicBezTo>
                  <a:lnTo>
                    <a:pt x="10800" y="7200"/>
                  </a:lnTo>
                  <a:cubicBezTo>
                    <a:pt x="10800" y="9000"/>
                    <a:pt x="5400" y="10800"/>
                    <a:pt x="0" y="10800"/>
                  </a:cubicBezTo>
                  <a:cubicBezTo>
                    <a:pt x="5400" y="10800"/>
                    <a:pt x="10800" y="12600"/>
                    <a:pt x="10800" y="14400"/>
                  </a:cubicBezTo>
                  <a:lnTo>
                    <a:pt x="10800" y="18000"/>
                  </a:lnTo>
                  <a:cubicBezTo>
                    <a:pt x="10800" y="19800"/>
                    <a:pt x="16200" y="21600"/>
                    <a:pt x="21600" y="21600"/>
                  </a:cubicBezTo>
                </a:path>
              </a:pathLst>
            </a:custGeom>
            <a:noFill/>
            <a:ln w="540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85480" y="584712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公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7598520" y="5157720"/>
            <a:ext cx="895680" cy="505440"/>
            <a:chOff x="7598520" y="5157720"/>
            <a:chExt cx="895680" cy="505440"/>
          </a:xfrm>
        </p:grpSpPr>
        <p:sp>
          <p:nvSpPr>
            <p:cNvPr id="325" name=""/>
            <p:cNvSpPr/>
            <p:nvPr/>
          </p:nvSpPr>
          <p:spPr>
            <a:xfrm>
              <a:off x="7598520" y="5157720"/>
              <a:ext cx="8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少？</a:t>
              </a: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5381400">
              <a:off x="7967160" y="5133960"/>
              <a:ext cx="218880" cy="83412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43200 h 834120"/>
                <a:gd name="textAreaBottom" fmla="*/ 790920 h 8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00"/>
                    <a:pt x="10800" y="3600"/>
                  </a:cubicBezTo>
                  <a:lnTo>
                    <a:pt x="10800" y="7200"/>
                  </a:lnTo>
                  <a:cubicBezTo>
                    <a:pt x="10800" y="9000"/>
                    <a:pt x="5400" y="10800"/>
                    <a:pt x="0" y="10800"/>
                  </a:cubicBezTo>
                  <a:cubicBezTo>
                    <a:pt x="5400" y="10800"/>
                    <a:pt x="10800" y="12600"/>
                    <a:pt x="10800" y="14400"/>
                  </a:cubicBezTo>
                  <a:lnTo>
                    <a:pt x="10800" y="18000"/>
                  </a:lnTo>
                  <a:cubicBezTo>
                    <a:pt x="10800" y="19800"/>
                    <a:pt x="16200" y="21600"/>
                    <a:pt x="21600" y="21600"/>
                  </a:cubicBezTo>
                </a:path>
              </a:pathLst>
            </a:custGeom>
            <a:noFill/>
            <a:ln w="540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7380360" y="4365720"/>
            <a:ext cx="1440" cy="1431720"/>
          </a:xfrm>
          <a:prstGeom prst="line">
            <a:avLst/>
          </a:prstGeom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7451640" y="5589720"/>
            <a:ext cx="1149480" cy="199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AMERA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141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先把问句补充成就是求谁是谁的百分之几，再找单位“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1”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，说出谁与谁比，然后说出数量关系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75800" y="3087720"/>
            <a:ext cx="62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今年比去年超产百分之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就是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百分之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09960" y="3645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超产的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45680" y="3632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去年产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06760" y="4365720"/>
            <a:ext cx="236520" cy="576000"/>
          </a:xfrm>
          <a:prstGeom prst="downArrow">
            <a:avLst>
              <a:gd name="adj1" fmla="val 50000"/>
              <a:gd name="adj2" fmla="val 608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57000" y="4941720"/>
            <a:ext cx="24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与单位“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1”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相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64000" y="436572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03640" y="494172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1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86200" y="5734080"/>
            <a:ext cx="550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超产的量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÷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去年产量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超产的百分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75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75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3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382120" y="1413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降价了百分之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69040" y="227664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想完整：现在比原来降价了百分之几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30880" y="3068640"/>
            <a:ext cx="64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就是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百分之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86200" y="3003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降低的价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84760" y="3003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原来的价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56000" y="3716280"/>
            <a:ext cx="360360" cy="649440"/>
          </a:xfrm>
          <a:prstGeom prst="downArrow">
            <a:avLst>
              <a:gd name="adj1" fmla="val 50000"/>
              <a:gd name="adj2" fmla="val 450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9640" y="4253040"/>
            <a:ext cx="268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与单位“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1”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相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51640" y="3716280"/>
            <a:ext cx="360360" cy="649440"/>
          </a:xfrm>
          <a:prstGeom prst="downArrow">
            <a:avLst>
              <a:gd name="adj1" fmla="val 50000"/>
              <a:gd name="adj2" fmla="val 450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9440" y="424008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1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38640" y="5516640"/>
            <a:ext cx="611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降低的价格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÷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原来的价格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降价的百分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1447920"/>
            <a:ext cx="2361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口头列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4920" y="2421000"/>
            <a:ext cx="7848360" cy="3006000"/>
            <a:chOff x="34920" y="2421000"/>
            <a:chExt cx="7848360" cy="3006000"/>
          </a:xfrm>
        </p:grpSpPr>
        <p:sp>
          <p:nvSpPr>
            <p:cNvPr id="350" name=""/>
            <p:cNvSpPr/>
            <p:nvPr/>
          </p:nvSpPr>
          <p:spPr>
            <a:xfrm>
              <a:off x="34920" y="2421000"/>
              <a:ext cx="5683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zh-CN" sz="4400" spc="-1" strike="noStrike">
                  <a:solidFill>
                    <a:srgbClr val="0000cc"/>
                  </a:solidFill>
                  <a:latin typeface="Times New Roman"/>
                </a:rPr>
                <a:t>、</a:t>
              </a:r>
              <a:r>
                <a:rPr b="1" lang="zh-CN" sz="4400" spc="-1" strike="noStrike">
                  <a:solidFill>
                    <a:srgbClr val="0000cc"/>
                  </a:solidFill>
                  <a:latin typeface="Times New Roman"/>
                </a:rPr>
                <a:t>5</a:t>
              </a:r>
              <a:r>
                <a:rPr b="1" lang="zh-CN" sz="4400" spc="-1" strike="noStrike">
                  <a:solidFill>
                    <a:srgbClr val="0000cc"/>
                  </a:solidFill>
                  <a:latin typeface="Times New Roman"/>
                </a:rPr>
                <a:t>比</a:t>
              </a:r>
              <a:r>
                <a:rPr b="1" lang="zh-CN" sz="4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r>
                <a:rPr b="1" lang="zh-CN" sz="4400" spc="-1" strike="noStrike">
                  <a:solidFill>
                    <a:srgbClr val="0000cc"/>
                  </a:solidFill>
                  <a:latin typeface="Times New Roman"/>
                </a:rPr>
                <a:t>多百分之几？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920" y="3519720"/>
              <a:ext cx="5683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zh-CN" sz="4400" spc="-1" strike="noStrike">
                  <a:solidFill>
                    <a:srgbClr val="0000cc"/>
                  </a:solidFill>
                  <a:latin typeface="Times New Roman"/>
                </a:rPr>
                <a:t>、</a:t>
              </a:r>
              <a:r>
                <a:rPr b="1" lang="zh-CN" sz="4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r>
                <a:rPr b="1" lang="zh-CN" sz="4400" spc="-1" strike="noStrike">
                  <a:solidFill>
                    <a:srgbClr val="0000cc"/>
                  </a:solidFill>
                  <a:latin typeface="Times New Roman"/>
                </a:rPr>
                <a:t>比</a:t>
              </a:r>
              <a:r>
                <a:rPr b="1" lang="zh-CN" sz="4400" spc="-1" strike="noStrike">
                  <a:solidFill>
                    <a:srgbClr val="0000cc"/>
                  </a:solidFill>
                  <a:latin typeface="Times New Roman"/>
                </a:rPr>
                <a:t>5</a:t>
              </a:r>
              <a:r>
                <a:rPr b="1" lang="zh-CN" sz="4400" spc="-1" strike="noStrike">
                  <a:solidFill>
                    <a:srgbClr val="0000cc"/>
                  </a:solidFill>
                  <a:latin typeface="Times New Roman"/>
                </a:rPr>
                <a:t>少百分之几？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920" y="4662720"/>
              <a:ext cx="784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r>
                <a:rPr b="1" lang="zh-CN" sz="4400" spc="-1" strike="noStrike">
                  <a:solidFill>
                    <a:srgbClr val="0000cc"/>
                  </a:solidFill>
                  <a:latin typeface="Times New Roman"/>
                </a:rPr>
                <a:t>、</a:t>
              </a:r>
              <a:r>
                <a:rPr b="1" lang="zh-CN" sz="4400" spc="-1" strike="noStrike">
                  <a:solidFill>
                    <a:srgbClr val="0000cc"/>
                  </a:solidFill>
                  <a:latin typeface="Times New Roman"/>
                </a:rPr>
                <a:t>17.5</a:t>
              </a:r>
              <a:r>
                <a:rPr b="1" lang="zh-CN" sz="4400" spc="-1" strike="noStrike">
                  <a:solidFill>
                    <a:srgbClr val="0000cc"/>
                  </a:solidFill>
                  <a:latin typeface="Times New Roman"/>
                </a:rPr>
                <a:t>吨比</a:t>
              </a:r>
              <a:r>
                <a:rPr b="1" lang="zh-CN" sz="4400" spc="-1" strike="noStrike">
                  <a:solidFill>
                    <a:srgbClr val="0000cc"/>
                  </a:solidFill>
                  <a:latin typeface="Times New Roman"/>
                </a:rPr>
                <a:t>20</a:t>
              </a:r>
              <a:r>
                <a:rPr b="1" lang="zh-CN" sz="4400" spc="-1" strike="noStrike">
                  <a:solidFill>
                    <a:srgbClr val="0000cc"/>
                  </a:solidFill>
                  <a:latin typeface="Times New Roman"/>
                </a:rPr>
                <a:t>吨少百分之几？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5548320" y="2371680"/>
            <a:ext cx="319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－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÷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48320" y="3524400"/>
            <a:ext cx="319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－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÷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45560" y="5611680"/>
            <a:ext cx="42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20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－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17.5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÷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066680" y="1676520"/>
            <a:ext cx="23623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请你思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31240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我们六（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）班，男生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27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人，女生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28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人，</a:t>
            </a:r>
            <a:r>
              <a:rPr b="1" lang="zh-CN" sz="4000" spc="-1" strike="noStrike" u="sng">
                <a:solidFill>
                  <a:srgbClr val="0000cc"/>
                </a:solidFill>
                <a:uFillTx/>
                <a:latin typeface="Times New Roman"/>
              </a:rPr>
              <a:t>            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762120" y="685800"/>
            <a:ext cx="28098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33cc"/>
                </a:solidFill>
                <a:latin typeface="宋体"/>
              </a:rPr>
              <a:t>课堂收获：</a:t>
            </a:r>
            <a:endParaRPr b="0" lang="en-US" sz="4400" spc="1" strike="noStrike">
              <a:ln w="9360">
                <a:solidFill>
                  <a:srgbClr val="0000ff"/>
                </a:solidFill>
                <a:miter/>
              </a:ln>
              <a:solidFill>
                <a:srgbClr val="3333cc"/>
              </a:solidFill>
              <a:latin typeface="宋体"/>
              <a:ea typeface="宋体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341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同学们，通过这节课的学习你们都有哪此收获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27432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2565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解答“求一个数比另一个数多（或少）百分之几”的应用题中，应注意哪些问题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4937040"/>
            <a:ext cx="914400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找准单位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作除数；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求出比较量与标准量间的差，作被除数；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结果要化成百分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3492360" y="0"/>
            <a:ext cx="12956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800" y="609480"/>
            <a:ext cx="251460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复习题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1523880"/>
            <a:ext cx="9721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（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（  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多（ 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少（  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3429000"/>
            <a:ext cx="889308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学校有雪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棵，杨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棵。 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杨树的棵数比雪松多几分之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雪松的棵数比杨树少几分之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609480"/>
            <a:ext cx="251460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复习题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234" name=""/>
          <p:cNvSpPr/>
          <p:nvPr/>
        </p:nvSpPr>
        <p:spPr>
          <a:xfrm>
            <a:off x="179280" y="1523880"/>
            <a:ext cx="9721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（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（  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多（ 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少（  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3429000"/>
            <a:ext cx="889308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学校有雪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棵，杨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棵。 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杨树的棵数比雪松多几分之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雪松的棵数比杨树少几分之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15573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62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5800" y="609480"/>
            <a:ext cx="251460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复习题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1523880"/>
            <a:ext cx="9721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（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（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16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多（ 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少（  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3429000"/>
            <a:ext cx="889308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学校有雪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棵，杨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棵。 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杨树的棵数比雪松多几分之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雪松的棵数比杨树少几分之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43280" y="15573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62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685800" y="609480"/>
            <a:ext cx="251460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复习题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1523880"/>
            <a:ext cx="9721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（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（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16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多（ 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少（  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3429000"/>
            <a:ext cx="889308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学校有雪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棵，杨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棵。 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杨树的棵数比雪松多几分之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雪松的棵数比杨树少几分之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43280" y="15573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62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88720" y="2492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609480"/>
            <a:ext cx="251460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复习题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247" name=""/>
          <p:cNvSpPr/>
          <p:nvPr/>
        </p:nvSpPr>
        <p:spPr>
          <a:xfrm>
            <a:off x="179280" y="1523880"/>
            <a:ext cx="9721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（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（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16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多（ 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少（  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3429000"/>
            <a:ext cx="889308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学校有雪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棵，杨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棵。 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杨树的棵数比雪松多几分之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雪松的棵数比杨树少几分之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43280" y="15573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62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88720" y="2492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49440" y="242100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12.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685800" y="609480"/>
            <a:ext cx="251460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复习题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1523880"/>
            <a:ext cx="9721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（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（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16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多（ 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少（  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0920" y="3429000"/>
            <a:ext cx="889308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学校有雪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棵，杨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棵。 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杨树的棵数比雪松多几分之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雪松的棵数比杨树少几分之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43280" y="15573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62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88720" y="2492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9440" y="242100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12.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86000" y="5013360"/>
            <a:ext cx="286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(20-15) ÷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85800" y="609480"/>
            <a:ext cx="251460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复习题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1523880"/>
            <a:ext cx="9721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（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（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16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多（ 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少（     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3429000"/>
            <a:ext cx="889308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学校有雪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棵，杨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棵。 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杨树的棵数比雪松多几分之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雪松的棵数比杨树少几分之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43280" y="15573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62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88720" y="2492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49440" y="242100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12.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86000" y="5013360"/>
            <a:ext cx="286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(20-15) ÷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14360" y="6095880"/>
            <a:ext cx="286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(20-15) ÷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33520" y="380880"/>
            <a:ext cx="2590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小组讨论：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134136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通过上面的复习，你们认为应如何解答“求一个数比另一个数多（或少）几分之几”的应用题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4292640"/>
            <a:ext cx="9144000" cy="2239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解题思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、找准单位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1”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，作除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、求出比较量与标准量间的差，作被除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9:39:26Z</dcterms:created>
  <dc:creator>zzz</dc:creator>
  <dc:description/>
  <dc:language>en-US</dc:language>
  <cp:lastModifiedBy>微软用户</cp:lastModifiedBy>
  <dcterms:modified xsi:type="dcterms:W3CDTF">2008-02-18T02:37:17Z</dcterms:modified>
  <cp:revision>0</cp:revision>
  <dc:subject/>
  <dc:title>PowerPoint 演示文稿</dc:title>
</cp:coreProperties>
</file>