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D75-8A57-4F20-B338-D999A756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E49-2D09-4323-A91F-6B25F106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E70-BEB0-4823-9FE9-CFA1B3E0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408-26B5-48C1-A671-235A7724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041-81A8-4869-91C0-F960914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DD5-ADCA-4302-8650-730BBB9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471-018C-452F-9663-8F0669D8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EC-F4D3-4F37-B9C8-759C23D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3C5-114C-446B-8E81-E6403F0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70A-86BD-4766-BF82-1E53A2A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847-AE6F-42E9-AEDE-BD562D7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9DA-BCCE-4331-BA5C-94BE605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212-7826-4175-9038-CB13DE0FF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90720"/>
            <a:ext cx="769608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华文琥珀"/>
                <a:ea typeface="华文琥珀"/>
              </a:rPr>
              <a:t> </a:t>
            </a:r>
            <a:r>
              <a:rPr b="1" lang="zh-CN" sz="6600" spc="-1" strike="noStrike">
                <a:solidFill>
                  <a:srgbClr val="800000"/>
                </a:solidFill>
                <a:latin typeface="华文琥珀"/>
                <a:ea typeface="华文琥珀"/>
              </a:rPr>
              <a:t>百分数的综合应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华文琥珀"/>
                <a:ea typeface="华文琥珀"/>
              </a:rPr>
              <a:t>  ——</a:t>
            </a:r>
            <a:r>
              <a:rPr b="1" lang="zh-CN" sz="4000" spc="-1" strike="noStrike">
                <a:solidFill>
                  <a:srgbClr val="800000"/>
                </a:solidFill>
                <a:latin typeface="华文琥珀"/>
                <a:ea typeface="华文琥珀"/>
              </a:rPr>
              <a:t>生活就在我们身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522936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3840" y="508464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16760" y="1523880"/>
            <a:ext cx="499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中血液的重量约占体重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07820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6200" y="335268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你能计算出你自己的血液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11960" y="380880"/>
            <a:ext cx="482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岁左右的少年 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头的高度约占身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4.28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能根据下面的习题，想一想，算一算，说一说，这些百分率的含义和计算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989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06668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六年级学生植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棵，成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棵。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成活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纺织配件厂生产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零件中合格                               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99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件。合格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六年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学生参加数学考试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学生是优秀，求优秀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五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班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学生，昨天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。求出勤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2400" y="725400"/>
            <a:ext cx="444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举例说出你在学习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者家庭生活中碰到的运用百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的知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240" y="423720"/>
            <a:ext cx="61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临城实验小学创办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创办初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教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实验班，而现在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班级，学校教师人数比创办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增加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4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现在在校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于创办初期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7640" y="37339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这些情况，你还能知道一些其它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03160" y="0"/>
            <a:ext cx="5572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时需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的沙子，其中甲乙两人都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承包运送这批沙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说：我有一辆载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的大卡车每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。如果这些沙子全部承包给我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，运费可以打九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乙说：我有一辆载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的小卡车，每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。如果这些沙子全部承包给我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运费可以打八五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01600" y="57150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设计不同运货方案，算出总运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2:25:42Z</dcterms:created>
  <dc:creator>zzz</dc:creator>
  <dc:description/>
  <dc:language>en-US</dc:language>
  <cp:lastModifiedBy>liunianji</cp:lastModifiedBy>
  <dcterms:modified xsi:type="dcterms:W3CDTF">2004-12-17T08:17:16Z</dcterms:modified>
  <cp:revision>0</cp:revision>
  <dc:subject/>
  <dc:title>幻灯片 1</dc:title>
</cp:coreProperties>
</file>