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EF8-3115-4ADA-A7FA-23C848CB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EB8-4531-4F7C-8411-95FC1E61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98A-B574-4DF4-B3F1-6C360B85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13E-3102-4DEE-A0A9-791F32CD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20B-2DFA-44F0-B69F-18FF20A7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E5C-650F-4F61-87F6-85A8AA82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EFE-E4C6-466C-B03D-E1192AA9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2E61-C873-4FAB-8909-113894B6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0E5-9BD5-4763-A86A-20B97C67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2B0-8A32-43F6-8233-05598EFD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AF8-CC9B-4D41-B739-B1378AAF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86A-97B6-4605-B310-CF4F80E4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DFDB-722D-4DAA-9422-DA637259C0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914400"/>
            <a:ext cx="60958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小学语文课件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3623400" y="3809160"/>
            <a:ext cx="187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</a:rPr>
              <a:t>26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</a:rPr>
              <a:t>、蜜    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141" descr=""/>
          <p:cNvPicPr/>
          <p:nvPr/>
        </p:nvPicPr>
        <p:blipFill>
          <a:blip r:embed="rId1"/>
          <a:stretch/>
        </p:blipFill>
        <p:spPr>
          <a:xfrm>
            <a:off x="2062080" y="0"/>
            <a:ext cx="502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be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350532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02920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亨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布尔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23—19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法国著名科学家，科普作家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法布尔，是第一位在自然环境中研究昆虫的科学家，他穷毕生之力深入昆虫世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自然环境中对昆虫进行观察与实验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6765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）为了验证蜜蜂有没有辨认方向的能力，作者是怎样做的？得出了怎样的结论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）从作者的做法里你受到了什么启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无标题" descr=""/>
          <p:cNvPicPr/>
          <p:nvPr/>
        </p:nvPicPr>
        <p:blipFill>
          <a:blip r:embed="rId1"/>
          <a:stretch/>
        </p:blipFill>
        <p:spPr>
          <a:xfrm>
            <a:off x="1676520" y="1190520"/>
            <a:ext cx="52578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无标题21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6019920" cy="5246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3:04:29Z</dcterms:created>
  <dc:creator>lichengquan</dc:creator>
  <dc:description/>
  <dc:language>en-US</dc:language>
  <cp:lastModifiedBy>lichengquan</cp:lastModifiedBy>
  <dcterms:modified xsi:type="dcterms:W3CDTF">2002-11-14T06:56:51Z</dcterms:modified>
  <cp:revision>4</cp:revision>
  <dc:subject/>
  <dc:title>PowerPoint 演示文稿</dc:title>
</cp:coreProperties>
</file>