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F4E-EC86-49EE-87B7-2C66C9C1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536-F963-4BAE-BCF7-6B622355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4E2-31D8-4A47-A8FF-8A30365B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47E-969F-4EC8-825F-C1780638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A80-C260-414D-8DB3-8EB8FBD3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CA6-08D5-4E54-B563-AA3A5BC5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8D8-BF97-4DEB-98CE-72BD8F04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8CC-2A95-48F9-8B67-150AD1DF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AFF-1B2B-468D-9108-BEF6478C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000-0A9D-4C0F-BD7C-08BF820B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2D2-7FA3-4134-8FE0-6382AEF8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002-DD6C-4B35-B230-AE4E119B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41CD-DF53-413C-B595-4AD9D44986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914400"/>
            <a:ext cx="6095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小学语文课件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3623400" y="3809160"/>
            <a:ext cx="187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26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、蜜    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141" descr=""/>
          <p:cNvPicPr/>
          <p:nvPr/>
        </p:nvPicPr>
        <p:blipFill>
          <a:blip r:embed="rId1"/>
          <a:stretch/>
        </p:blipFill>
        <p:spPr>
          <a:xfrm>
            <a:off x="2062080" y="0"/>
            <a:ext cx="502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be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350532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02920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亨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布尔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23—19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法国著名科学家，科普作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法布尔，是第一位在自然环境中研究昆虫的科学家，他穷毕生之力深入昆虫世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自然环境中对昆虫进行观察与实验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6765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）为了验证蜜蜂有没有辨认方向的能力，作者是怎样做的？得出了怎样的结论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从作者的做法里你受到了什么启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无标题" descr=""/>
          <p:cNvPicPr/>
          <p:nvPr/>
        </p:nvPicPr>
        <p:blipFill>
          <a:blip r:embed="rId1"/>
          <a:stretch/>
        </p:blipFill>
        <p:spPr>
          <a:xfrm>
            <a:off x="1676520" y="1190520"/>
            <a:ext cx="52578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无标题21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019920" cy="5246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3:04:29Z</dcterms:created>
  <dc:creator>lichengquan</dc:creator>
  <dc:description/>
  <dc:language>en-US</dc:language>
  <cp:lastModifiedBy>lichengquan</cp:lastModifiedBy>
  <dcterms:modified xsi:type="dcterms:W3CDTF">2002-11-14T06:56:51Z</dcterms:modified>
  <cp:revision>4</cp:revision>
  <dc:subject/>
  <dc:title>PowerPoint 演示文稿</dc:title>
</cp:coreProperties>
</file>