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C86-92C6-4170-8084-751D895A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F46-29CE-4EBA-9C77-762396F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7DE-F03C-4247-9258-E936CA9F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564-A810-440B-ABE1-C5B43AA1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A02-9CE1-400D-A4AA-7EC3097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EC-68F7-4254-A2C2-DD121BA9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C50-D0E0-4232-8A7B-CF6B76B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672-A885-4B02-854C-BC6AF141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808-0566-4C86-9A9F-54EA268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118-46FB-48AB-AA05-0ECD6CE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DBC-5370-43FF-9EC0-77EDF27A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D86-1099-44C2-9C0E-CE6AB43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0B2-27CF-4E5C-A35A-279D60368B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2590920" y="2819520"/>
            <a:ext cx="3581280" cy="9169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、找骆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8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 学 提 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由读课文，读懂每段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字典，联系上下文理解新词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文讲的是一件什么事？老人根据什么指点商人找到了骆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学不懂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15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忿  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6560" y="3124080"/>
            <a:ext cx="14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    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89000" y="327672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商  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46440" y="24066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 f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2000" y="243828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ǐ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80680" y="2438280"/>
            <a:ext cx="20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g r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838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词语注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09680" y="2133720"/>
            <a:ext cx="51055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图片欣赏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野骆驼2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12468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野骆驼1" descr=""/>
          <p:cNvPicPr/>
          <p:nvPr/>
        </p:nvPicPr>
        <p:blipFill>
          <a:blip r:embed="rId2"/>
          <a:stretch/>
        </p:blipFill>
        <p:spPr>
          <a:xfrm>
            <a:off x="2014560" y="152280"/>
            <a:ext cx="46702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骆驼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476760" cy="48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路旁的骆驼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两只骆驼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44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lichengquan</dc:creator>
  <dc:description/>
  <dc:language>en-US</dc:language>
  <cp:lastModifiedBy>lichengquan</cp:lastModifiedBy>
  <dcterms:modified xsi:type="dcterms:W3CDTF">2003-02-08T06:20:06Z</dcterms:modified>
  <cp:revision>1</cp:revision>
  <dc:subject/>
  <dc:title>PowerPoint 演示文稿</dc:title>
</cp:coreProperties>
</file>