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294-CEBD-4408-8201-799094EF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DCD-BA44-4CC4-8C38-497D47D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7A2-6A24-4BA0-960B-DA62ADCC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C81-A48F-40B6-AA05-8749DCA4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1D0-A9D1-4B4F-AC75-C6A52786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04C-9894-4A6A-B709-8AD4B87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0BB-3516-4F50-AE74-8FFE4F1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956-93DA-4943-8001-EA9E3700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BB9-BCC4-4FAA-B9E6-D5B9826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A5E-FA7A-438F-9AB7-A7F4578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663-63ED-4FBA-BFC1-F6C5E8FE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57D-E931-411E-A08F-434A5CE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8C55-EB42-44DC-83C0-27FA425E78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、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读懂每段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字典，联系上下文理解新词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文讲的是一件什么事？老人根据什么指点商人找到了骆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学不懂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15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忿  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6560" y="3124080"/>
            <a:ext cx="14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   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89000" y="327672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商  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6440" y="24066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2000" y="243828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ǐ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80680" y="2438280"/>
            <a:ext cx="20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g r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838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词语注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09680" y="2133720"/>
            <a:ext cx="51055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图片欣赏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野骆驼2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12468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野骆驼1" descr=""/>
          <p:cNvPicPr/>
          <p:nvPr/>
        </p:nvPicPr>
        <p:blipFill>
          <a:blip r:embed="rId2"/>
          <a:stretch/>
        </p:blipFill>
        <p:spPr>
          <a:xfrm>
            <a:off x="2014560" y="152280"/>
            <a:ext cx="46702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骆驼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路旁的骆驼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两只骆驼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lichengquan</dc:creator>
  <dc:description/>
  <dc:language>en-US</dc:language>
  <cp:lastModifiedBy>lichengquan</cp:lastModifiedBy>
  <dcterms:modified xsi:type="dcterms:W3CDTF">2003-02-08T06:20:06Z</dcterms:modified>
  <cp:revision>1</cp:revision>
  <dc:subject/>
  <dc:title>PowerPoint 演示文稿</dc:title>
</cp:coreProperties>
</file>