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2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9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13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24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64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71" name="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75" name="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86" name="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133720" y="2438280"/>
            <a:ext cx="4571640" cy="1523880"/>
            <a:chOff x="2133720" y="2438280"/>
            <a:chExt cx="4571640" cy="1523880"/>
          </a:xfrm>
        </p:grpSpPr>
        <p:sp>
          <p:nvSpPr>
            <p:cNvPr id="89" name=""/>
            <p:cNvSpPr/>
            <p:nvPr/>
          </p:nvSpPr>
          <p:spPr>
            <a:xfrm>
              <a:off x="2351160" y="2590560"/>
              <a:ext cx="4208760" cy="1219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33720" y="3657240"/>
              <a:ext cx="289800" cy="3049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33720" y="2438280"/>
              <a:ext cx="289800" cy="304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15200" y="3657240"/>
              <a:ext cx="290160" cy="304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15200" y="2438280"/>
              <a:ext cx="290160" cy="3045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3520" y="2514240"/>
              <a:ext cx="39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78440" y="27428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23520" y="3885840"/>
              <a:ext cx="40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33000" y="27428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438280" y="2757600"/>
            <a:ext cx="3962520" cy="825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cc00"/>
                </a:solidFill>
                <a:latin typeface="Times New Roman"/>
              </a:rPr>
              <a:t>解    比     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914400" y="53352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88000" y="9907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依照下面的条件列出比例，并且解比例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82360" y="198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4019400" y="3781440"/>
                <a:ext cx="3063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4301280" y="3697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78520" y="420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162520" y="1503360"/>
            <a:ext cx="4221720" cy="485640"/>
            <a:chOff x="2162520" y="1503360"/>
            <a:chExt cx="4221720" cy="485640"/>
          </a:xfrm>
        </p:grpSpPr>
        <p:sp>
          <p:nvSpPr>
            <p:cNvPr id="341" name=""/>
            <p:cNvSpPr/>
            <p:nvPr/>
          </p:nvSpPr>
          <p:spPr>
            <a:xfrm>
              <a:off x="2162520" y="1523880"/>
              <a:ext cx="299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比等于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5195880" y="1616040"/>
                  <a:ext cx="32400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5654880" y="15033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比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291120" y="2131920"/>
            <a:ext cx="2419200" cy="477360"/>
            <a:chOff x="3291120" y="2131920"/>
            <a:chExt cx="2419200" cy="477360"/>
          </a:xfrm>
        </p:grpSpPr>
        <p:sp>
          <p:nvSpPr>
            <p:cNvPr id="345" name=""/>
            <p:cNvSpPr/>
            <p:nvPr/>
          </p:nvSpPr>
          <p:spPr>
            <a:xfrm>
              <a:off x="3510000" y="21337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01280" y="2149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29200" y="213372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5403960" y="223344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"/>
            <p:cNvSpPr/>
            <p:nvPr/>
          </p:nvSpPr>
          <p:spPr>
            <a:xfrm>
              <a:off x="3291120" y="2131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19680" y="214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09880" y="21463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60920" y="2806560"/>
            <a:ext cx="2050560" cy="472680"/>
            <a:chOff x="3760920" y="2806560"/>
            <a:chExt cx="2050560" cy="472680"/>
          </a:xfrm>
        </p:grpSpPr>
        <mc:AlternateContent>
          <mc:Choice xmlns:a14="http://schemas.microsoft.com/office/drawing/2010/main" Requires="a14">
            <p:sp>
              <p:nvSpPr>
                <p:cNvPr id="353" name=""/>
                <p:cNvSpPr txBox="1"/>
                <p:nvPr/>
              </p:nvSpPr>
              <p:spPr>
                <a:xfrm>
                  <a:off x="4008600" y="290340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4" name=""/>
            <p:cNvSpPr/>
            <p:nvPr/>
          </p:nvSpPr>
          <p:spPr>
            <a:xfrm>
              <a:off x="4299840" y="2819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26080" y="28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25840" y="2819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20920" y="2806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60920" y="28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4667400" y="395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37240" y="354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7000" y="3530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46480" y="3532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46840" y="392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76960" y="367812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24480" y="324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076720" y="40640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024440" y="4581360"/>
            <a:ext cx="1142640" cy="472680"/>
            <a:chOff x="4024440" y="4581360"/>
            <a:chExt cx="1142640" cy="472680"/>
          </a:xfrm>
        </p:grpSpPr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4024440" y="465624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9" name=""/>
            <p:cNvSpPr/>
            <p:nvPr/>
          </p:nvSpPr>
          <p:spPr>
            <a:xfrm>
              <a:off x="4302720" y="4581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681440" y="45943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914400" y="53352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88000" y="9907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依照下面的条件列出比例，并且解比例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85800" y="228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4033800" y="4525920"/>
                <a:ext cx="3063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4315680" y="4441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683720" y="1495440"/>
            <a:ext cx="5402520" cy="916920"/>
            <a:chOff x="1683720" y="1495440"/>
            <a:chExt cx="5402520" cy="916920"/>
          </a:xfrm>
        </p:grpSpPr>
        <p:sp>
          <p:nvSpPr>
            <p:cNvPr id="377" name=""/>
            <p:cNvSpPr/>
            <p:nvPr/>
          </p:nvSpPr>
          <p:spPr>
            <a:xfrm>
              <a:off x="1683720" y="1724040"/>
              <a:ext cx="45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       的比等于      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2676600" y="1785960"/>
                  <a:ext cx="32364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9" name=""/>
            <p:cNvSpPr/>
            <p:nvPr/>
          </p:nvSpPr>
          <p:spPr>
            <a:xfrm>
              <a:off x="6356880" y="1724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比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3405240" y="1560600"/>
              <a:ext cx="371520" cy="837360"/>
              <a:chOff x="3405240" y="1560600"/>
              <a:chExt cx="371520" cy="837360"/>
            </a:xfrm>
          </p:grpSpPr>
          <p:sp>
            <p:nvSpPr>
              <p:cNvPr id="381" name=""/>
              <p:cNvSpPr/>
              <p:nvPr/>
            </p:nvSpPr>
            <p:spPr>
              <a:xfrm>
                <a:off x="3405240" y="19810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443400" y="1560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430800" y="1938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5867280" y="1504800"/>
              <a:ext cx="371520" cy="907560"/>
              <a:chOff x="5867280" y="1504800"/>
              <a:chExt cx="371520" cy="907560"/>
            </a:xfrm>
          </p:grpSpPr>
          <p:sp>
            <p:nvSpPr>
              <p:cNvPr id="385" name=""/>
              <p:cNvSpPr/>
              <p:nvPr/>
            </p:nvSpPr>
            <p:spPr>
              <a:xfrm>
                <a:off x="5867280" y="19954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905800" y="157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92840" y="19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978520" y="15048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5089680" y="1495440"/>
              <a:ext cx="371160" cy="907560"/>
              <a:chOff x="5089680" y="1495440"/>
              <a:chExt cx="371160" cy="907560"/>
            </a:xfrm>
          </p:grpSpPr>
          <p:sp>
            <p:nvSpPr>
              <p:cNvPr id="390" name=""/>
              <p:cNvSpPr/>
              <p:nvPr/>
            </p:nvSpPr>
            <p:spPr>
              <a:xfrm>
                <a:off x="5089680" y="1986120"/>
                <a:ext cx="37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127840" y="1565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115240" y="1943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257800" y="149544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3200400" y="2471760"/>
            <a:ext cx="2665440" cy="916920"/>
            <a:chOff x="3200400" y="2471760"/>
            <a:chExt cx="2665440" cy="916920"/>
          </a:xfrm>
        </p:grpSpPr>
        <p:sp>
          <p:nvSpPr>
            <p:cNvPr id="395" name=""/>
            <p:cNvSpPr/>
            <p:nvPr/>
          </p:nvSpPr>
          <p:spPr>
            <a:xfrm>
              <a:off x="3413160" y="26989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53760" y="2700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57640" y="272880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3200400" y="274320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99" name=""/>
            <p:cNvGrpSpPr/>
            <p:nvPr/>
          </p:nvGrpSpPr>
          <p:grpSpPr>
            <a:xfrm>
              <a:off x="3786120" y="2517840"/>
              <a:ext cx="371520" cy="837360"/>
              <a:chOff x="3786120" y="2517840"/>
              <a:chExt cx="371520" cy="837360"/>
            </a:xfrm>
          </p:grpSpPr>
          <p:sp>
            <p:nvSpPr>
              <p:cNvPr id="400" name=""/>
              <p:cNvSpPr/>
              <p:nvPr/>
            </p:nvSpPr>
            <p:spPr>
              <a:xfrm>
                <a:off x="3786120" y="293832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824280" y="2517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11680" y="2895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5494320" y="2481120"/>
              <a:ext cx="371520" cy="907560"/>
              <a:chOff x="5494320" y="2481120"/>
              <a:chExt cx="371520" cy="907560"/>
            </a:xfrm>
          </p:grpSpPr>
          <p:sp>
            <p:nvSpPr>
              <p:cNvPr id="404" name=""/>
              <p:cNvSpPr/>
              <p:nvPr/>
            </p:nvSpPr>
            <p:spPr>
              <a:xfrm>
                <a:off x="5494320" y="29718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532480" y="2550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519880" y="2928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605560" y="24811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4716360" y="2471760"/>
              <a:ext cx="371520" cy="907200"/>
              <a:chOff x="4716360" y="2471760"/>
              <a:chExt cx="371520" cy="907200"/>
            </a:xfrm>
          </p:grpSpPr>
          <p:sp>
            <p:nvSpPr>
              <p:cNvPr id="409" name=""/>
              <p:cNvSpPr/>
              <p:nvPr/>
            </p:nvSpPr>
            <p:spPr>
              <a:xfrm>
                <a:off x="4716360" y="296244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4880" y="2541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41920" y="2919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884840" y="247176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3" name=""/>
          <p:cNvGrpSpPr/>
          <p:nvPr/>
        </p:nvGrpSpPr>
        <p:grpSpPr>
          <a:xfrm>
            <a:off x="3672000" y="3305160"/>
            <a:ext cx="2061720" cy="921600"/>
            <a:chOff x="3672000" y="3305160"/>
            <a:chExt cx="2061720" cy="921600"/>
          </a:xfrm>
        </p:grpSpPr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4008600" y="364320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5" name=""/>
            <p:cNvSpPr/>
            <p:nvPr/>
          </p:nvSpPr>
          <p:spPr>
            <a:xfrm>
              <a:off x="4299840" y="3559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3672000" y="3319560"/>
              <a:ext cx="371520" cy="907200"/>
              <a:chOff x="3672000" y="3319560"/>
              <a:chExt cx="371520" cy="907200"/>
            </a:xfrm>
          </p:grpSpPr>
          <p:sp>
            <p:nvSpPr>
              <p:cNvPr id="417" name=""/>
              <p:cNvSpPr/>
              <p:nvPr/>
            </p:nvSpPr>
            <p:spPr>
              <a:xfrm>
                <a:off x="3672000" y="3809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10160" y="3389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697560" y="3767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83240" y="331956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4662360" y="3305160"/>
              <a:ext cx="1071360" cy="918360"/>
              <a:chOff x="4662360" y="3305160"/>
              <a:chExt cx="1071360" cy="918360"/>
            </a:xfrm>
          </p:grpSpPr>
          <p:sp>
            <p:nvSpPr>
              <p:cNvPr id="422" name=""/>
              <p:cNvSpPr/>
              <p:nvPr/>
            </p:nvSpPr>
            <p:spPr>
              <a:xfrm>
                <a:off x="5020920" y="354636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4662360" y="3386160"/>
                <a:ext cx="371520" cy="837360"/>
                <a:chOff x="4662360" y="3386160"/>
                <a:chExt cx="371520" cy="83736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4662360" y="380664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700520" y="3386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687920" y="3763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5362560" y="3305160"/>
                <a:ext cx="371160" cy="907200"/>
                <a:chOff x="5362560" y="3305160"/>
                <a:chExt cx="371160" cy="90720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5362560" y="3795840"/>
                  <a:ext cx="37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400360" y="3375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387400" y="3752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530680" y="3305160"/>
                  <a:ext cx="1836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2" name=""/>
          <p:cNvSpPr/>
          <p:nvPr/>
        </p:nvSpPr>
        <p:spPr>
          <a:xfrm>
            <a:off x="5062320" y="4432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703760" y="4272120"/>
            <a:ext cx="371520" cy="837360"/>
            <a:chOff x="4703760" y="4272120"/>
            <a:chExt cx="371520" cy="837360"/>
          </a:xfrm>
        </p:grpSpPr>
        <p:sp>
          <p:nvSpPr>
            <p:cNvPr id="434" name=""/>
            <p:cNvSpPr/>
            <p:nvPr/>
          </p:nvSpPr>
          <p:spPr>
            <a:xfrm>
              <a:off x="4703760" y="469260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41920" y="4272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9320" y="4649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403960" y="4191120"/>
            <a:ext cx="371160" cy="907200"/>
            <a:chOff x="5403960" y="4191120"/>
            <a:chExt cx="371160" cy="907200"/>
          </a:xfrm>
        </p:grpSpPr>
        <p:sp>
          <p:nvSpPr>
            <p:cNvPr id="438" name=""/>
            <p:cNvSpPr/>
            <p:nvPr/>
          </p:nvSpPr>
          <p:spPr>
            <a:xfrm>
              <a:off x="5403960" y="468180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41760" y="4260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28800" y="4638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72080" y="419112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5795640" y="44481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6132600" y="4200480"/>
            <a:ext cx="371520" cy="907560"/>
            <a:chOff x="6132600" y="4200480"/>
            <a:chExt cx="371520" cy="907560"/>
          </a:xfrm>
        </p:grpSpPr>
        <p:sp>
          <p:nvSpPr>
            <p:cNvPr id="444" name=""/>
            <p:cNvSpPr/>
            <p:nvPr/>
          </p:nvSpPr>
          <p:spPr>
            <a:xfrm>
              <a:off x="6132600" y="469116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70760" y="4270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58160" y="464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43840" y="42004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617220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38880" y="47386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70760" y="4032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59400" y="4919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024440" y="5218200"/>
            <a:ext cx="1050840" cy="837360"/>
            <a:chOff x="4024440" y="5218200"/>
            <a:chExt cx="1050840" cy="837360"/>
          </a:xfrm>
        </p:grpSpPr>
        <mc:AlternateContent>
          <mc:Choice xmlns:a14="http://schemas.microsoft.com/office/drawing/2010/main" Requires="a14">
            <p:sp>
              <p:nvSpPr>
                <p:cNvPr id="453" name=""/>
                <p:cNvSpPr txBox="1"/>
                <p:nvPr/>
              </p:nvSpPr>
              <p:spPr>
                <a:xfrm>
                  <a:off x="4024440" y="547200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4" name=""/>
            <p:cNvSpPr/>
            <p:nvPr/>
          </p:nvSpPr>
          <p:spPr>
            <a:xfrm>
              <a:off x="4302720" y="5397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4703760" y="5218200"/>
              <a:ext cx="371520" cy="837360"/>
              <a:chOff x="4703760" y="5218200"/>
              <a:chExt cx="371520" cy="837360"/>
            </a:xfrm>
          </p:grpSpPr>
          <p:sp>
            <p:nvSpPr>
              <p:cNvPr id="456" name=""/>
              <p:cNvSpPr/>
              <p:nvPr/>
            </p:nvSpPr>
            <p:spPr>
              <a:xfrm>
                <a:off x="4703760" y="56386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741920" y="5218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729320" y="5595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914400" y="53352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988000" y="9907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依照下面的条件列出比例，并且解比例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30080" y="228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959280" y="4081320"/>
                <a:ext cx="3063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>
            <a:off x="4240800" y="3997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355120" y="1539720"/>
            <a:ext cx="4846680" cy="825480"/>
            <a:chOff x="2355120" y="1539720"/>
            <a:chExt cx="4846680" cy="825480"/>
          </a:xfrm>
        </p:grpSpPr>
        <p:sp>
          <p:nvSpPr>
            <p:cNvPr id="465" name=""/>
            <p:cNvSpPr/>
            <p:nvPr/>
          </p:nvSpPr>
          <p:spPr>
            <a:xfrm>
              <a:off x="2355120" y="1539720"/>
              <a:ext cx="484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等号左端的比是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.5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∶  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等号右端比的前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后项分别是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.6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.8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5002200" y="1596960"/>
                  <a:ext cx="32400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7" name=""/>
          <p:cNvGrpSpPr/>
          <p:nvPr/>
        </p:nvGrpSpPr>
        <p:grpSpPr>
          <a:xfrm>
            <a:off x="3049920" y="2438280"/>
            <a:ext cx="2692440" cy="467640"/>
            <a:chOff x="3049920" y="2438280"/>
            <a:chExt cx="2692440" cy="467640"/>
          </a:xfrm>
        </p:grpSpPr>
        <p:sp>
          <p:nvSpPr>
            <p:cNvPr id="468" name=""/>
            <p:cNvSpPr/>
            <p:nvPr/>
          </p:nvSpPr>
          <p:spPr>
            <a:xfrm>
              <a:off x="3429000" y="24382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77440" y="2440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0" name=""/>
                <p:cNvSpPr txBox="1"/>
                <p:nvPr/>
              </p:nvSpPr>
              <p:spPr>
                <a:xfrm>
                  <a:off x="3781440" y="251604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1" name=""/>
            <p:cNvSpPr/>
            <p:nvPr/>
          </p:nvSpPr>
          <p:spPr>
            <a:xfrm>
              <a:off x="3049920" y="24382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63360" y="244620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3.6 ∶4.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354480" y="3048120"/>
            <a:ext cx="2474640" cy="475560"/>
            <a:chOff x="3354480" y="3048120"/>
            <a:chExt cx="2474640" cy="475560"/>
          </a:xfrm>
        </p:grpSpPr>
        <mc:AlternateContent>
          <mc:Choice xmlns:a14="http://schemas.microsoft.com/office/drawing/2010/main" Requires="a14">
            <p:sp>
              <p:nvSpPr>
                <p:cNvPr id="474" name=""/>
                <p:cNvSpPr txBox="1"/>
                <p:nvPr/>
              </p:nvSpPr>
              <p:spPr>
                <a:xfrm>
                  <a:off x="3809880" y="313380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5" name=""/>
            <p:cNvSpPr/>
            <p:nvPr/>
          </p:nvSpPr>
          <p:spPr>
            <a:xfrm>
              <a:off x="4196520" y="3049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354480" y="30495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3.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08320" y="3049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97480" y="30639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67520" y="30481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4.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4591080" y="423864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122800" y="38336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611960" y="3848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381640" y="3832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983480" y="4195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410080" y="39625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33920" y="39765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014800" y="4319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81720" y="354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100840" y="448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43600" y="45864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08760" y="477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605480" y="3589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3949560" y="5181480"/>
            <a:ext cx="960480" cy="467640"/>
            <a:chOff x="3949560" y="5181480"/>
            <a:chExt cx="960480" cy="467640"/>
          </a:xfrm>
        </p:grpSpPr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3949560" y="525636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5" name=""/>
            <p:cNvSpPr/>
            <p:nvPr/>
          </p:nvSpPr>
          <p:spPr>
            <a:xfrm>
              <a:off x="4228200" y="518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77040" y="518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1066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下列简易方程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410080" y="1590840"/>
            <a:ext cx="1779480" cy="771480"/>
            <a:chOff x="5410080" y="1590840"/>
            <a:chExt cx="1779480" cy="771480"/>
          </a:xfrm>
        </p:grpSpPr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5410080" y="1600200"/>
                  <a:ext cx="3510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6300720" y="1600200"/>
                  <a:ext cx="27936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6865920" y="1590840"/>
                  <a:ext cx="32364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5603760" y="1800360"/>
                  <a:ext cx="3016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6540120" y="1743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14800" y="1752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920600" y="2362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24080" y="243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9596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424240" y="1757520"/>
            <a:ext cx="1991520" cy="520560"/>
            <a:chOff x="2424240" y="1757520"/>
            <a:chExt cx="1991520" cy="520560"/>
          </a:xfrm>
        </p:grpSpPr>
        <p:sp>
          <p:nvSpPr>
            <p:cNvPr id="112" name=""/>
            <p:cNvSpPr/>
            <p:nvPr/>
          </p:nvSpPr>
          <p:spPr>
            <a:xfrm>
              <a:off x="2424240" y="175752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7720" y="1757520"/>
              <a:ext cx="14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8 × 9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2666880" y="1828800"/>
                  <a:ext cx="3016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5" name=""/>
          <p:cNvGrpSpPr/>
          <p:nvPr/>
        </p:nvGrpSpPr>
        <p:grpSpPr>
          <a:xfrm>
            <a:off x="2377800" y="2424240"/>
            <a:ext cx="1405080" cy="529920"/>
            <a:chOff x="2377800" y="2424240"/>
            <a:chExt cx="1405080" cy="529920"/>
          </a:xfrm>
        </p:grpSpPr>
        <p:sp>
          <p:nvSpPr>
            <p:cNvPr id="116" name=""/>
            <p:cNvSpPr/>
            <p:nvPr/>
          </p:nvSpPr>
          <p:spPr>
            <a:xfrm>
              <a:off x="2377800" y="2433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57400" y="2424240"/>
              <a:ext cx="82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= 7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2624040" y="2500200"/>
                  <a:ext cx="30168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9" name=""/>
          <p:cNvGrpSpPr/>
          <p:nvPr/>
        </p:nvGrpSpPr>
        <p:grpSpPr>
          <a:xfrm>
            <a:off x="2633760" y="3276720"/>
            <a:ext cx="1783440" cy="520560"/>
            <a:chOff x="2633760" y="3276720"/>
            <a:chExt cx="1783440" cy="520560"/>
          </a:xfrm>
        </p:grpSpPr>
        <p:sp>
          <p:nvSpPr>
            <p:cNvPr id="120" name=""/>
            <p:cNvSpPr/>
            <p:nvPr/>
          </p:nvSpPr>
          <p:spPr>
            <a:xfrm>
              <a:off x="3034080" y="327672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= 72 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÷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633760" y="3338640"/>
                  <a:ext cx="3016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2" name=""/>
          <p:cNvGrpSpPr/>
          <p:nvPr/>
        </p:nvGrpSpPr>
        <p:grpSpPr>
          <a:xfrm>
            <a:off x="2633760" y="4105440"/>
            <a:ext cx="1153800" cy="520560"/>
            <a:chOff x="2633760" y="4105440"/>
            <a:chExt cx="1153800" cy="520560"/>
          </a:xfrm>
        </p:grpSpPr>
        <p:sp>
          <p:nvSpPr>
            <p:cNvPr id="123" name=""/>
            <p:cNvSpPr/>
            <p:nvPr/>
          </p:nvSpPr>
          <p:spPr>
            <a:xfrm>
              <a:off x="2962080" y="4105440"/>
              <a:ext cx="82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= 3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2633760" y="4162320"/>
                  <a:ext cx="30168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" name=""/>
          <p:cNvGrpSpPr/>
          <p:nvPr/>
        </p:nvGrpSpPr>
        <p:grpSpPr>
          <a:xfrm>
            <a:off x="5715000" y="3186000"/>
            <a:ext cx="1755720" cy="762120"/>
            <a:chOff x="5715000" y="3186000"/>
            <a:chExt cx="1755720" cy="762120"/>
          </a:xfrm>
        </p:grpSpPr>
        <p:sp>
          <p:nvSpPr>
            <p:cNvPr id="126" name=""/>
            <p:cNvSpPr/>
            <p:nvPr/>
          </p:nvSpPr>
          <p:spPr>
            <a:xfrm>
              <a:off x="6018120" y="3352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6353280" y="3200400"/>
                  <a:ext cx="30456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6691680" y="3284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7120080" y="3186000"/>
                  <a:ext cx="3506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5715000" y="3371760"/>
                  <a:ext cx="30168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1" name=""/>
          <p:cNvGrpSpPr/>
          <p:nvPr/>
        </p:nvGrpSpPr>
        <p:grpSpPr>
          <a:xfrm>
            <a:off x="5762520" y="4010040"/>
            <a:ext cx="976320" cy="685800"/>
            <a:chOff x="5762520" y="4010040"/>
            <a:chExt cx="976320" cy="685800"/>
          </a:xfrm>
        </p:grpSpPr>
        <p:sp>
          <p:nvSpPr>
            <p:cNvPr id="132" name=""/>
            <p:cNvSpPr/>
            <p:nvPr/>
          </p:nvSpPr>
          <p:spPr>
            <a:xfrm>
              <a:off x="6046560" y="414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6386400" y="4010040"/>
                  <a:ext cx="3524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762520" y="4191120"/>
                  <a:ext cx="3016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"/>
          <p:cNvGrpSpPr/>
          <p:nvPr/>
        </p:nvGrpSpPr>
        <p:grpSpPr>
          <a:xfrm>
            <a:off x="5457960" y="2362320"/>
            <a:ext cx="1171440" cy="761760"/>
            <a:chOff x="5457960" y="2362320"/>
            <a:chExt cx="1171440" cy="761760"/>
          </a:xfrm>
        </p:grpSpPr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5457960" y="2362320"/>
                  <a:ext cx="35064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7" name=""/>
            <p:cNvSpPr/>
            <p:nvPr/>
          </p:nvSpPr>
          <p:spPr>
            <a:xfrm>
              <a:off x="5973480" y="2514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324480" y="2367000"/>
                  <a:ext cx="30492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5653080" y="2562120"/>
                  <a:ext cx="30168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75840" y="11667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什么叫做比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9596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5000" y="18525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表示两个比相等的式子叫做比例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07480" y="25588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什么叫做比例的基本性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76640" y="339264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在比例里，两个外项的积等于两个内项的积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9596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66200" y="1219320"/>
            <a:ext cx="46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比例的基本性质，判断下面哪组中的两个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组成比例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2960" y="2300400"/>
            <a:ext cx="23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∶10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∶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3320" y="330516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∶5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∶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48320" y="4281480"/>
            <a:ext cx="20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∶1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∶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07680" y="237024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34320" y="331956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32880" y="432432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9640" y="4268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62720" y="23400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85040" y="327816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13840" y="2328840"/>
            <a:ext cx="247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∶8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15∶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63560" y="1066680"/>
            <a:ext cx="41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根据比例的基本性质，将下列各比例改写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他等式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8880" y="2328840"/>
            <a:ext cx="27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40 = 8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309760" y="3233880"/>
            <a:ext cx="1603440" cy="1143000"/>
            <a:chOff x="2309760" y="3233880"/>
            <a:chExt cx="1603440" cy="1143000"/>
          </a:xfrm>
        </p:grpSpPr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2309760" y="3233880"/>
                  <a:ext cx="50184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3314880" y="3262320"/>
                  <a:ext cx="59832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2880720" y="3524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275080" y="3571920"/>
            <a:ext cx="29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×0.8=1.6×4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47680" y="1111320"/>
            <a:ext cx="335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比例中的未知项，叫做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解比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536200" y="1909800"/>
            <a:ext cx="3274200" cy="520560"/>
            <a:chOff x="2536200" y="1909800"/>
            <a:chExt cx="3274200" cy="520560"/>
          </a:xfrm>
        </p:grpSpPr>
        <p:sp>
          <p:nvSpPr>
            <p:cNvPr id="170" name=""/>
            <p:cNvSpPr/>
            <p:nvPr/>
          </p:nvSpPr>
          <p:spPr>
            <a:xfrm>
              <a:off x="2536200" y="1909800"/>
              <a:ext cx="277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解比例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3∶8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15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5438880" y="1990800"/>
                  <a:ext cx="37152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2" name=""/>
          <p:cNvSpPr/>
          <p:nvPr/>
        </p:nvSpPr>
        <p:spPr>
          <a:xfrm>
            <a:off x="3124080" y="2639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02440" y="36147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53160" y="38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4680" y="339552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24320" y="3914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500280"/>
            <a:ext cx="457200" cy="2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10280" y="4071960"/>
            <a:ext cx="38088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61080" y="307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24680" y="42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716280" y="2619360"/>
            <a:ext cx="2307960" cy="525240"/>
            <a:chOff x="3716280" y="2619360"/>
            <a:chExt cx="2307960" cy="525240"/>
          </a:xfrm>
        </p:grpSpPr>
        <p:sp>
          <p:nvSpPr>
            <p:cNvPr id="182" name=""/>
            <p:cNvSpPr/>
            <p:nvPr/>
          </p:nvSpPr>
          <p:spPr>
            <a:xfrm>
              <a:off x="4392720" y="262404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29120" y="2619360"/>
              <a:ext cx="109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8 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16280" y="2624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971880" y="2695680"/>
                  <a:ext cx="37152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005360" y="3681360"/>
                <a:ext cx="3715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4038480" y="4809960"/>
            <a:ext cx="1282320" cy="520560"/>
            <a:chOff x="4038480" y="4809960"/>
            <a:chExt cx="1282320" cy="520560"/>
          </a:xfrm>
        </p:grpSpPr>
        <p:sp>
          <p:nvSpPr>
            <p:cNvPr id="188" name=""/>
            <p:cNvSpPr/>
            <p:nvPr/>
          </p:nvSpPr>
          <p:spPr>
            <a:xfrm>
              <a:off x="4407120" y="480996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  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4038480" y="4876920"/>
                  <a:ext cx="37152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27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48080" y="2286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657600" y="3305160"/>
                <a:ext cx="438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116600" y="32907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5680" y="35384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97560" y="306216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0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67200" y="358128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74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9608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733920" y="4343400"/>
            <a:ext cx="1409040" cy="523440"/>
            <a:chOff x="3733920" y="4343400"/>
            <a:chExt cx="1409040" cy="52344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3733920" y="4362120"/>
                  <a:ext cx="43812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4140720" y="4343400"/>
              <a:ext cx="100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  1.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01840" y="2276640"/>
            <a:ext cx="2460600" cy="542880"/>
            <a:chOff x="3201840" y="2276640"/>
            <a:chExt cx="2460600" cy="542880"/>
          </a:xfrm>
        </p:grpSpPr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3664080" y="2314440"/>
                  <a:ext cx="43812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"/>
            <p:cNvSpPr/>
            <p:nvPr/>
          </p:nvSpPr>
          <p:spPr>
            <a:xfrm>
              <a:off x="4073760" y="228132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78760" y="2276640"/>
              <a:ext cx="118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9 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0.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01840" y="2290680"/>
              <a:ext cx="62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.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043720" y="1052640"/>
            <a:ext cx="3214080" cy="977760"/>
            <a:chOff x="2043720" y="1052640"/>
            <a:chExt cx="3214080" cy="977760"/>
          </a:xfrm>
        </p:grpSpPr>
        <p:sp>
          <p:nvSpPr>
            <p:cNvPr id="209" name=""/>
            <p:cNvSpPr/>
            <p:nvPr/>
          </p:nvSpPr>
          <p:spPr>
            <a:xfrm>
              <a:off x="2043720" y="1233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解比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3348000" y="1052640"/>
              <a:ext cx="1909800" cy="977760"/>
              <a:chOff x="3348000" y="1052640"/>
              <a:chExt cx="1909800" cy="97776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3348000" y="1057320"/>
                <a:ext cx="533520" cy="971640"/>
                <a:chOff x="3348000" y="1057320"/>
                <a:chExt cx="533520" cy="9716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12" name=""/>
                    <p:cNvSpPr txBox="1"/>
                    <p:nvPr/>
                  </p:nvSpPr>
                  <p:spPr>
                    <a:xfrm>
                      <a:off x="3390840" y="1523880"/>
                      <a:ext cx="438120" cy="505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13" name=""/>
                <p:cNvSpPr/>
                <p:nvPr/>
              </p:nvSpPr>
              <p:spPr>
                <a:xfrm>
                  <a:off x="3348000" y="152388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438360" y="105732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419720" y="152388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00680" y="12668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81280" y="1052640"/>
                <a:ext cx="62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4.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497120" y="1509840"/>
                <a:ext cx="62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0.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4495680" y="3200400"/>
            <a:ext cx="38124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3700440"/>
            <a:ext cx="45720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14400" y="53352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17680" y="99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下面的比例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981080" y="1498680"/>
            <a:ext cx="1143000" cy="789840"/>
            <a:chOff x="1981080" y="1498680"/>
            <a:chExt cx="1143000" cy="789840"/>
          </a:xfrm>
        </p:grpSpPr>
        <p:sp>
          <p:nvSpPr>
            <p:cNvPr id="224" name=""/>
            <p:cNvSpPr/>
            <p:nvPr/>
          </p:nvSpPr>
          <p:spPr>
            <a:xfrm>
              <a:off x="1981080" y="1905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09880" y="15192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95480" y="18288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61960" y="1670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43200" y="1905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73440" y="1498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2771640" y="191916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1" name=""/>
          <p:cNvSpPr/>
          <p:nvPr/>
        </p:nvSpPr>
        <p:spPr>
          <a:xfrm>
            <a:off x="141876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905120" y="2362320"/>
            <a:ext cx="1752480" cy="473760"/>
            <a:chOff x="1905120" y="2362320"/>
            <a:chExt cx="1752480" cy="473760"/>
          </a:xfrm>
        </p:grpSpPr>
        <p:sp>
          <p:nvSpPr>
            <p:cNvPr id="233" name=""/>
            <p:cNvSpPr/>
            <p:nvPr/>
          </p:nvSpPr>
          <p:spPr>
            <a:xfrm>
              <a:off x="1905120" y="2362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2114640" y="243828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5" name=""/>
            <p:cNvSpPr/>
            <p:nvPr/>
          </p:nvSpPr>
          <p:spPr>
            <a:xfrm>
              <a:off x="2363400" y="2376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35200" y="2362320"/>
              <a:ext cx="102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8×9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103480" y="3497400"/>
                <a:ext cx="3063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2360520" y="34401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36831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38440" y="331632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×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47960" y="3616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37688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3463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656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3376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103480" y="4483080"/>
            <a:ext cx="1035000" cy="472320"/>
            <a:chOff x="2103480" y="4483080"/>
            <a:chExt cx="1035000" cy="472320"/>
          </a:xfrm>
        </p:grpSpPr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2103480" y="454500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"/>
            <p:cNvSpPr/>
            <p:nvPr/>
          </p:nvSpPr>
          <p:spPr>
            <a:xfrm>
              <a:off x="2368440" y="4483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76520" y="4495680"/>
              <a:ext cx="5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81640" y="1504800"/>
            <a:ext cx="1305000" cy="783720"/>
            <a:chOff x="5381640" y="1504800"/>
            <a:chExt cx="1305000" cy="783720"/>
          </a:xfrm>
        </p:grpSpPr>
        <p:sp>
          <p:nvSpPr>
            <p:cNvPr id="251" name=""/>
            <p:cNvSpPr/>
            <p:nvPr/>
          </p:nvSpPr>
          <p:spPr>
            <a:xfrm>
              <a:off x="5381640" y="1828800"/>
              <a:ext cx="58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410080" y="1504800"/>
              <a:ext cx="1225440" cy="617040"/>
              <a:chOff x="5410080" y="1504800"/>
              <a:chExt cx="1225440" cy="617040"/>
            </a:xfrm>
          </p:grpSpPr>
          <p:sp>
            <p:nvSpPr>
              <p:cNvPr id="253" name=""/>
              <p:cNvSpPr/>
              <p:nvPr/>
            </p:nvSpPr>
            <p:spPr>
              <a:xfrm>
                <a:off x="5410080" y="1897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90960" y="166212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172200" y="18972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073920" y="150480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1.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5481720" y="1595520"/>
                    <a:ext cx="306360" cy="352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6105600" y="1828800"/>
              <a:ext cx="58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84776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181480" y="2424240"/>
            <a:ext cx="2133720" cy="473760"/>
            <a:chOff x="5181480" y="2424240"/>
            <a:chExt cx="2133720" cy="473760"/>
          </a:xfrm>
        </p:grpSpPr>
        <p:sp>
          <p:nvSpPr>
            <p:cNvPr id="261" name=""/>
            <p:cNvSpPr/>
            <p:nvPr/>
          </p:nvSpPr>
          <p:spPr>
            <a:xfrm>
              <a:off x="5181480" y="2424240"/>
              <a:ext cx="5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5591160" y="250020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"/>
            <p:cNvSpPr/>
            <p:nvPr/>
          </p:nvSpPr>
          <p:spPr>
            <a:xfrm>
              <a:off x="5840280" y="2438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11720" y="2424240"/>
              <a:ext cx="120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5×1.2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638680" y="3435480"/>
                <a:ext cx="3063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5895720" y="33782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73640" y="3230640"/>
            <a:ext cx="13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×1.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77120" y="354024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67480" y="3699000"/>
            <a:ext cx="32220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81640" y="33400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51640" y="384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69040" y="296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19720" y="3611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0" y="33685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6720" y="2948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53080" y="39783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876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68920" y="4635360"/>
            <a:ext cx="1110960" cy="472680"/>
            <a:chOff x="5668920" y="4635360"/>
            <a:chExt cx="1110960" cy="472680"/>
          </a:xfrm>
        </p:grpSpPr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5668920" y="469728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5857560" y="463536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41960" y="46483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0.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914400" y="53352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17680" y="99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下面的比例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33640" y="1752480"/>
            <a:ext cx="2857680" cy="782280"/>
            <a:chOff x="2933640" y="1752480"/>
            <a:chExt cx="2857680" cy="782280"/>
          </a:xfrm>
        </p:grpSpPr>
        <p:sp>
          <p:nvSpPr>
            <p:cNvPr id="285" name=""/>
            <p:cNvSpPr/>
            <p:nvPr/>
          </p:nvSpPr>
          <p:spPr>
            <a:xfrm>
              <a:off x="2933640" y="2133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27600" y="175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05280" y="2075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43280" y="2133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37240" y="175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14920" y="2075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34000" y="2133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27600" y="175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05640" y="2075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57720" y="1905120"/>
              <a:ext cx="54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04520" y="189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10200" y="190512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5484960" y="197640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8" name=""/>
          <p:cNvSpPr/>
          <p:nvPr/>
        </p:nvSpPr>
        <p:spPr>
          <a:xfrm>
            <a:off x="2530080" y="2743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575160" y="2649600"/>
            <a:ext cx="2544480" cy="799560"/>
            <a:chOff x="3575160" y="2649600"/>
            <a:chExt cx="2544480" cy="799560"/>
          </a:xfrm>
        </p:grpSpPr>
        <p:sp>
          <p:nvSpPr>
            <p:cNvPr id="300" name=""/>
            <p:cNvSpPr/>
            <p:nvPr/>
          </p:nvSpPr>
          <p:spPr>
            <a:xfrm>
              <a:off x="3575160" y="30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66876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46800" y="298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4008600" y="288612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"/>
            <p:cNvSpPr/>
            <p:nvPr/>
          </p:nvSpPr>
          <p:spPr>
            <a:xfrm>
              <a:off x="4299840" y="2801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72080" y="303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65680" y="264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43720" y="297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62440" y="303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56400" y="264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734080" y="297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38360" y="2789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019400" y="3587760"/>
            <a:ext cx="2781360" cy="781920"/>
            <a:chOff x="4019400" y="3587760"/>
            <a:chExt cx="2781360" cy="781920"/>
          </a:xfrm>
        </p:grpSpPr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4019400" y="380988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4" name=""/>
            <p:cNvSpPr/>
            <p:nvPr/>
          </p:nvSpPr>
          <p:spPr>
            <a:xfrm>
              <a:off x="4301280" y="3726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73520" y="3968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67480" y="3587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45160" y="390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64240" y="3968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758200" y="3587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35880" y="390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49520" y="3727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63920" y="3733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67760" y="3732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038480" y="4387680"/>
            <a:ext cx="1135080" cy="782280"/>
            <a:chOff x="4038480" y="4387680"/>
            <a:chExt cx="1135080" cy="782280"/>
          </a:xfrm>
        </p:grpSpPr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4038480" y="460044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6" name=""/>
            <p:cNvSpPr/>
            <p:nvPr/>
          </p:nvSpPr>
          <p:spPr>
            <a:xfrm>
              <a:off x="4315680" y="452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87920" y="4768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81880" y="4387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87920" y="4710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6477120" y="38098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62520" y="399096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46880" y="339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61080" y="42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8:32:17Z</dcterms:created>
  <dc:creator>tf</dc:creator>
  <dc:description/>
  <dc:language>en-US</dc:language>
  <cp:lastModifiedBy>a</cp:lastModifiedBy>
  <dcterms:modified xsi:type="dcterms:W3CDTF">2003-05-12T09:59:16Z</dcterms:modified>
  <cp:revision>62</cp:revision>
  <dc:subject/>
  <dc:title>PowerPoint 演示文稿</dc:title>
</cp:coreProperties>
</file>