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C25-2977-476D-B7D4-F0E950B2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CCB-EF41-4E3D-A69B-7C72066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945-C07E-4DF8-9CBF-F447EED4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BA8-E26E-47DD-BB45-A2AF4EB0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148-57C0-4019-9D7A-5C3FD41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A08-FEB5-4F3C-A667-2330E9A6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5D9-260B-4FB8-BA3E-9746FAD9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987-B0BF-4352-928D-D041AFD9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E34-B0BC-49DA-BC34-1DFA05F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62F-CF8E-4DB7-A083-3A03757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51B-1F7C-4722-931C-2802491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C0F-9D06-4DC7-868E-4EB2F7A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57B-574C-4A98-A8FA-8C94D43562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7680" y="1971720"/>
            <a:ext cx="4506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9</a:t>
            </a:r>
            <a:r>
              <a:rPr b="0" lang="zh-CN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、赵 州 桥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590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创”是左右结构的，左边是“仓”不要写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590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毁”左右结构，左上角是“臼”不要写成“白”；左下角是“工”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2209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坚”上下结构，右上角是“又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09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智”上下结构，下边是“日”，不是“目”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28760"/>
            <a:ext cx="9144000" cy="1191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  考  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读了这篇文章，赵州桥给你留下总的印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685800"/>
            <a:ext cx="28195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265104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78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82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580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62200" y="685800"/>
            <a:ext cx="2229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 组 学 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98108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为什么说赵州桥非常雄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从哪儿看出赵州桥非常坚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哪儿看出赵州桥非常美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6094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赵 州 桥 介 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953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59168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769608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20514" y="3837"/>
                </a:moveTo>
                <a:lnTo>
                  <a:pt x="23090" y="6448"/>
                </a:ln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lnTo>
                  <a:pt x="27477" y="10800"/>
                </a:lnTo>
                <a:lnTo>
                  <a:pt x="25823" y="10800"/>
                </a:lnTo>
                <a:lnTo>
                  <a:pt x="25823" y="17989"/>
                </a:lnTo>
                <a:lnTo>
                  <a:pt x="15205" y="17989"/>
                </a:lnTo>
                <a:lnTo>
                  <a:pt x="15205" y="10800"/>
                </a:lnTo>
                <a:lnTo>
                  <a:pt x="13551" y="10800"/>
                </a:lnTo>
                <a:close/>
              </a:path>
              <a:path fill="darkenLess" w="41028" h="21600">
                <a:moveTo>
                  <a:pt x="23090" y="6448"/>
                </a:move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close/>
              </a:path>
              <a:path fill="darkenLess" w="41028" h="21600">
                <a:moveTo>
                  <a:pt x="19591" y="14299"/>
                </a:moveTo>
                <a:lnTo>
                  <a:pt x="21436" y="14299"/>
                </a:lnTo>
                <a:lnTo>
                  <a:pt x="21436" y="17989"/>
                </a:lnTo>
                <a:lnTo>
                  <a:pt x="25823" y="17989"/>
                </a:lnTo>
                <a:lnTo>
                  <a:pt x="25823" y="10800"/>
                </a:lnTo>
                <a:lnTo>
                  <a:pt x="15205" y="10800"/>
                </a:lnTo>
                <a:lnTo>
                  <a:pt x="15205" y="17989"/>
                </a:lnTo>
                <a:lnTo>
                  <a:pt x="1959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跨”是左右结构的，右下角是一个“亏”，不要写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lichengquan</cp:lastModifiedBy>
  <dcterms:modified xsi:type="dcterms:W3CDTF">2003-03-07T05:27:15Z</dcterms:modified>
  <cp:revision>7</cp:revision>
  <dc:subject/>
  <dc:title>PowerPoint 演示文稿</dc:title>
</cp:coreProperties>
</file>