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21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D25-2015-428F-A77B-5D1EEB5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DBE-1F2D-4D46-BCA9-D3D937A2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B13-181F-4B99-9A79-EA017A3C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68C-FE9B-488C-964F-2B62E6FF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17D-2851-4C0C-AA73-A9BE873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6D3-280C-4925-9D36-0BBA7FE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48D-EAB2-49D0-AC4D-D01EB2B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D22-07EF-4FB6-9C68-79B979D3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5FE-6658-4AE1-8496-5575061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A48-3BAB-44E1-A0B1-CC6C7AFC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3C4-E8C7-407F-BEDE-3FACDEDF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DCC-5FBB-4CE3-BFC3-A1A0926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386-C147-4259-8414-111D2E675D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7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ina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68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1676520"/>
            <a:ext cx="30492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7820000">
            <a:off x="5371920" y="2552760"/>
            <a:ext cx="45720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6210000" y="247644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赵州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5853960" y="21337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hbzz18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924680" y="624852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bzz1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146520 w 838080"/>
              <a:gd name="textAreaRight" fmla="*/ 607680 w 838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6094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北流传很广的京剧《小放牛》中唱道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赵州石桥什么人修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玉石栏杆什么人留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人骑驴桥上走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人推车轧了一道沟。　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赵州石桥鲁班爷修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玉石栏杆圣人留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果老骑驴桥上走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柴王爷推车轧了一道沟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3733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xiaohai1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xiaohai1" descr=""/>
          <p:cNvPicPr/>
          <p:nvPr/>
        </p:nvPicPr>
        <p:blipFill>
          <a:blip r:embed="rId4"/>
          <a:stretch/>
        </p:blipFill>
        <p:spPr>
          <a:xfrm>
            <a:off x="990720" y="5418000"/>
            <a:ext cx="121104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xiaohai1" descr=""/>
          <p:cNvPicPr/>
          <p:nvPr/>
        </p:nvPicPr>
        <p:blipFill>
          <a:blip r:embed="rId5"/>
          <a:stretch/>
        </p:blipFill>
        <p:spPr>
          <a:xfrm>
            <a:off x="1371600" y="495288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xiaohai1" descr=""/>
          <p:cNvPicPr/>
          <p:nvPr/>
        </p:nvPicPr>
        <p:blipFill>
          <a:blip r:embed="rId6"/>
          <a:stretch/>
        </p:blipFill>
        <p:spPr>
          <a:xfrm>
            <a:off x="1828800" y="541800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031920" descr=""/>
          <p:cNvPicPr/>
          <p:nvPr/>
        </p:nvPicPr>
        <p:blipFill>
          <a:blip r:embed="rId7"/>
          <a:stretch/>
        </p:blipFill>
        <p:spPr>
          <a:xfrm>
            <a:off x="5562720" y="121932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1031ly2" descr=""/>
          <p:cNvPicPr/>
          <p:nvPr/>
        </p:nvPicPr>
        <p:blipFill>
          <a:blip r:embed="rId8"/>
          <a:stretch/>
        </p:blipFill>
        <p:spPr>
          <a:xfrm>
            <a:off x="5562720" y="35053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5485" t="37750" r="47074" b="19650"/>
          <a:stretch/>
        </p:blipFill>
        <p:spPr>
          <a:xfrm>
            <a:off x="609480" y="1143000"/>
            <a:ext cx="2971800" cy="403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72520" y="1676520"/>
            <a:ext cx="402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茅以升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(1896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1989)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江苏镇江人。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名桥梁专家、教育家。中国科学院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部委员，美国国家工程科学院外籍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士。曾主持建造过钱塘江大桥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曾任全国人大常务委员，全国政协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主席，九三学社副主席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作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《茅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升文集》，并主编《中国古代桥梁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术史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191440" y="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石拱桥9" descr=""/>
          <p:cNvPicPr/>
          <p:nvPr/>
        </p:nvPicPr>
        <p:blipFill>
          <a:blip r:embed="rId1"/>
          <a:srcRect l="2454" t="2566" r="19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457200"/>
            <a:ext cx="6400800" cy="4952880"/>
          </a:xfrm>
          <a:prstGeom prst="rect">
            <a:avLst/>
          </a:prstGeom>
          <a:solidFill>
            <a:srgbClr val="00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86728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hbzz214" descr=""/>
          <p:cNvPicPr/>
          <p:nvPr/>
        </p:nvPicPr>
        <p:blipFill>
          <a:blip r:embed="rId3"/>
          <a:stretch/>
        </p:blipFill>
        <p:spPr>
          <a:xfrm>
            <a:off x="0" y="3948120"/>
            <a:ext cx="33526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001" t="27336" r="25004" b="23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5867280"/>
            <a:ext cx="7617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867280"/>
            <a:ext cx="83808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943600"/>
            <a:ext cx="83808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_1198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380880" y="12952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练习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380880" y="20574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练习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ookwenhao" descr=""/>
          <p:cNvPicPr/>
          <p:nvPr/>
        </p:nvPicPr>
        <p:blipFill>
          <a:blip r:embed="rId7"/>
          <a:stretch/>
        </p:blipFill>
        <p:spPr>
          <a:xfrm>
            <a:off x="822960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bookwenhao" descr=""/>
          <p:cNvPicPr/>
          <p:nvPr/>
        </p:nvPicPr>
        <p:blipFill>
          <a:blip r:embed="rId8"/>
          <a:stretch/>
        </p:blipFill>
        <p:spPr>
          <a:xfrm>
            <a:off x="762012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4" descr=""/>
          <p:cNvPicPr/>
          <p:nvPr/>
        </p:nvPicPr>
        <p:blipFill>
          <a:blip r:embed="rId9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9840" y="205740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设计，在建桥史上是一个创举，既减轻了流水对桥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冲击力，使桥不容易被大水冲毁，又减轻了桥身的重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省了石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ookbi" descr=""/>
          <p:cNvPicPr/>
          <p:nvPr/>
        </p:nvPicPr>
        <p:blipFill>
          <a:blip r:embed="rId1"/>
          <a:stretch/>
        </p:blipFill>
        <p:spPr>
          <a:xfrm>
            <a:off x="0" y="0"/>
            <a:ext cx="1279440" cy="1200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2280" y="4876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设计，在建桥史上是一个创举，既减轻了桥身的重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省了石料，又减轻了流水对桥身的冲击力，使桥不容易被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水冲毁桥身的重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438280"/>
            <a:ext cx="533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438280"/>
            <a:ext cx="228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200400"/>
            <a:ext cx="228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6934320" y="1295280"/>
            <a:ext cx="220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400800" y="2666880"/>
            <a:ext cx="213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8001000" y="6477120"/>
            <a:ext cx="762120" cy="380880"/>
          </a:xfrm>
          <a:custGeom>
            <a:avLst/>
            <a:gdLst>
              <a:gd name="textAreaLeft" fmla="*/ 133200 w 762120"/>
              <a:gd name="textAreaRight" fmla="*/ 552600 w 762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4" descr=""/>
          <p:cNvPicPr/>
          <p:nvPr/>
        </p:nvPicPr>
        <p:blipFill>
          <a:blip r:embed="rId5"/>
          <a:stretch/>
        </p:blipFill>
        <p:spPr>
          <a:xfrm>
            <a:off x="5562720" y="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001" t="27336" r="25004" b="23335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23001" t="27336" r="25004" b="23335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52680" y="64008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104920"/>
            <a:ext cx="8686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赵州桥距今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经历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水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战乱和多次地震，特别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邢台发生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地震，邢台距这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公里，这里也有四点几级地震，赵州桥都没有被破坏，著名桥梁专家茅以升说，先不管桥的内部结构，仅就它能够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就说明了一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水灾大水淹到桥拱的龙嘴处，据当地的老人说，站在桥上都能感觉桥身很大的晃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an13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28600"/>
            <a:ext cx="175248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资料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6477120"/>
            <a:ext cx="914400" cy="380880"/>
          </a:xfrm>
          <a:custGeom>
            <a:avLst/>
            <a:gdLst>
              <a:gd name="textAreaLeft" fmla="*/ 159840 w 914400"/>
              <a:gd name="textAreaRight" fmla="*/ 66312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hbzz112" descr=""/>
          <p:cNvPicPr/>
          <p:nvPr/>
        </p:nvPicPr>
        <p:blipFill>
          <a:blip r:embed="rId3"/>
          <a:stretch/>
        </p:blipFill>
        <p:spPr>
          <a:xfrm>
            <a:off x="0" y="441972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hbzzq97" descr=""/>
          <p:cNvPicPr/>
          <p:nvPr/>
        </p:nvPicPr>
        <p:blipFill>
          <a:blip r:embed="rId4"/>
          <a:stretch/>
        </p:blipFill>
        <p:spPr>
          <a:xfrm>
            <a:off x="4191120" y="4419720"/>
            <a:ext cx="383544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gdjz19111" descr=""/>
          <p:cNvPicPr/>
          <p:nvPr/>
        </p:nvPicPr>
        <p:blipFill>
          <a:blip r:embed="rId5"/>
          <a:stretch/>
        </p:blipFill>
        <p:spPr>
          <a:xfrm>
            <a:off x="2286000" y="0"/>
            <a:ext cx="685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22400"/>
            <a:ext cx="86868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主拱券的上边两端又各加设了二个小拱，一是可节省材料，二是减少桥身自重（减少自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而且能增加桥下河水的泄流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由中国科学院自然史组等四个单位组成联合调查级，对赵州桥的桥基进行了调查，自重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的赵州桥，而它的根基只是有五层石条砌成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桥台，直接建在自然砂石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175248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资料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ian13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29600" y="6477120"/>
            <a:ext cx="914400" cy="380880"/>
          </a:xfrm>
          <a:custGeom>
            <a:avLst/>
            <a:gdLst>
              <a:gd name="textAreaLeft" fmla="*/ 159840 w 914400"/>
              <a:gd name="textAreaRight" fmla="*/ 66312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zq02" descr=""/>
          <p:cNvPicPr/>
          <p:nvPr/>
        </p:nvPicPr>
        <p:blipFill>
          <a:blip r:embed="rId3"/>
          <a:stretch/>
        </p:blipFill>
        <p:spPr>
          <a:xfrm>
            <a:off x="6094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zzq02" descr=""/>
          <p:cNvPicPr/>
          <p:nvPr/>
        </p:nvPicPr>
        <p:blipFill>
          <a:blip r:embed="rId4"/>
          <a:stretch/>
        </p:blipFill>
        <p:spPr>
          <a:xfrm>
            <a:off x="58672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wp1122" descr=""/>
          <p:cNvPicPr/>
          <p:nvPr/>
        </p:nvPicPr>
        <p:blipFill>
          <a:blip r:embed="rId5"/>
          <a:stretch/>
        </p:blipFill>
        <p:spPr>
          <a:xfrm>
            <a:off x="2895480" y="487692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dian13" descr=""/>
          <p:cNvPicPr/>
          <p:nvPr/>
        </p:nvPicPr>
        <p:blipFill>
          <a:blip r:embed="rId6"/>
          <a:stretch/>
        </p:blipFill>
        <p:spPr>
          <a:xfrm>
            <a:off x="8153280" y="7621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dian13" descr=""/>
          <p:cNvPicPr/>
          <p:nvPr/>
        </p:nvPicPr>
        <p:blipFill>
          <a:blip r:embed="rId7"/>
          <a:stretch/>
        </p:blipFill>
        <p:spPr>
          <a:xfrm>
            <a:off x="7772400" y="7621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8080"/>
            <a:ext cx="871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座桥不但坚固，而且美观。桥面两侧有石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栏板上雕刻着精美的图案：有的刻着两条相互缠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龙，嘴里吐出美丽的水花；有的刻着两条飞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爪相互抵着，各自回首遥望；还有的刻着双龙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珠。所有的龙似乎都在游动，真像活了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ookbi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22096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124080"/>
            <a:ext cx="39621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124080"/>
            <a:ext cx="20574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038480"/>
            <a:ext cx="4572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0384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00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077320" y="601992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hbzz182" descr=""/>
          <p:cNvPicPr/>
          <p:nvPr/>
        </p:nvPicPr>
        <p:blipFill>
          <a:blip r:embed="rId4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hbzz185" descr=""/>
          <p:cNvPicPr/>
          <p:nvPr/>
        </p:nvPicPr>
        <p:blipFill>
          <a:blip r:embed="rId5"/>
          <a:stretch/>
        </p:blipFill>
        <p:spPr>
          <a:xfrm>
            <a:off x="5638680" y="51055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hbzz189" descr=""/>
          <p:cNvPicPr/>
          <p:nvPr/>
        </p:nvPicPr>
        <p:blipFill>
          <a:blip r:embed="rId6"/>
          <a:stretch/>
        </p:blipFill>
        <p:spPr>
          <a:xfrm>
            <a:off x="281952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hbzz1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5:44:47Z</dcterms:created>
  <dc:creator>曾进</dc:creator>
  <dc:description/>
  <dc:language>en-US</dc:language>
  <cp:lastModifiedBy>yang</cp:lastModifiedBy>
  <dcterms:modified xsi:type="dcterms:W3CDTF">2004-03-26T09:52:41Z</dcterms:modified>
  <cp:revision>13</cp:revision>
  <dc:subject/>
  <dc:title>PowerPoint 演示文稿</dc:title>
</cp:coreProperties>
</file>