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png" ContentType="image/pn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D4514-F15E-4532-8E30-FF509725F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D62A7-59B5-44FF-9CEE-90C59D152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F718D-79F1-4070-8006-B2A535DD9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991AB-5AA0-49F0-8268-762A3ABC2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49D36-707C-41F2-AF7D-7BC99B5E9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0B2E0-EFA0-43D1-97E0-34ABAA9E9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45AF1-5776-4313-8FC4-C73B011DB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23A22-97C4-46F6-8682-53BE926BC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A2C8B-DA3F-4236-A9B9-EBA18805E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08B32-ADE0-46F8-AD19-7E4D73B18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D4718-BE75-469F-AFAD-2AE7D8411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1F04A-0405-4BF1-B1BB-176417DED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5D9CA-7EC5-4751-A3D9-3EB623F99B5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317680" y="1971720"/>
            <a:ext cx="4506840" cy="145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160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隶书"/>
              </a:rPr>
              <a:t>9</a:t>
            </a:r>
            <a:r>
              <a:rPr b="0" lang="zh-CN" sz="72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隶书"/>
              </a:rPr>
              <a:t>、赵 州 桥</a:t>
            </a:r>
            <a:endParaRPr b="0" lang="en-US" sz="72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80880" y="2590920"/>
            <a:ext cx="876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创”是左右结构的，左边是“仓”不要写错。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8305920" y="6324480"/>
            <a:ext cx="838080" cy="53352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22" h="21600">
                <a:moveTo>
                  <a:pt x="0" y="0"/>
                </a:moveTo>
                <a:lnTo>
                  <a:pt x="33922" y="0"/>
                </a:lnTo>
                <a:lnTo>
                  <a:pt x="33922" y="21600"/>
                </a:lnTo>
                <a:lnTo>
                  <a:pt x="0" y="21600"/>
                </a:lnTo>
                <a:close/>
              </a:path>
              <a:path fill="lightenLess" w="33922" h="21600">
                <a:moveTo>
                  <a:pt x="0" y="0"/>
                </a:moveTo>
                <a:lnTo>
                  <a:pt x="33922" y="0"/>
                </a:lnTo>
                <a:lnTo>
                  <a:pt x="32522" y="1400"/>
                </a:lnTo>
                <a:lnTo>
                  <a:pt x="1400" y="1400"/>
                </a:lnTo>
                <a:close/>
              </a:path>
              <a:path fill="darken" w="33922" h="21600">
                <a:moveTo>
                  <a:pt x="33922" y="0"/>
                </a:moveTo>
                <a:lnTo>
                  <a:pt x="33922" y="21600"/>
                </a:lnTo>
                <a:lnTo>
                  <a:pt x="32522" y="20200"/>
                </a:lnTo>
                <a:lnTo>
                  <a:pt x="32522" y="1400"/>
                </a:lnTo>
                <a:close/>
              </a:path>
              <a:path fill="darkenLess" w="33922" h="21600">
                <a:moveTo>
                  <a:pt x="339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22" y="20200"/>
                </a:lnTo>
                <a:close/>
              </a:path>
              <a:path fill="lighten" w="339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22" h="21600">
                <a:moveTo>
                  <a:pt x="9955" y="10800"/>
                </a:moveTo>
                <a:lnTo>
                  <a:pt x="23968" y="3794"/>
                </a:lnTo>
                <a:lnTo>
                  <a:pt x="23968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80880" y="2590920"/>
            <a:ext cx="8763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 “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毁”左右结构，左上角是“臼”不要写成“白”；左下角是“工”。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305920" y="6324480"/>
            <a:ext cx="838080" cy="53352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22" h="21600">
                <a:moveTo>
                  <a:pt x="0" y="0"/>
                </a:moveTo>
                <a:lnTo>
                  <a:pt x="33922" y="0"/>
                </a:lnTo>
                <a:lnTo>
                  <a:pt x="33922" y="21600"/>
                </a:lnTo>
                <a:lnTo>
                  <a:pt x="0" y="21600"/>
                </a:lnTo>
                <a:close/>
              </a:path>
              <a:path fill="lightenLess" w="33922" h="21600">
                <a:moveTo>
                  <a:pt x="0" y="0"/>
                </a:moveTo>
                <a:lnTo>
                  <a:pt x="33922" y="0"/>
                </a:lnTo>
                <a:lnTo>
                  <a:pt x="32522" y="1400"/>
                </a:lnTo>
                <a:lnTo>
                  <a:pt x="1400" y="1400"/>
                </a:lnTo>
                <a:close/>
              </a:path>
              <a:path fill="darken" w="33922" h="21600">
                <a:moveTo>
                  <a:pt x="33922" y="0"/>
                </a:moveTo>
                <a:lnTo>
                  <a:pt x="33922" y="21600"/>
                </a:lnTo>
                <a:lnTo>
                  <a:pt x="32522" y="20200"/>
                </a:lnTo>
                <a:lnTo>
                  <a:pt x="32522" y="1400"/>
                </a:lnTo>
                <a:close/>
              </a:path>
              <a:path fill="darkenLess" w="33922" h="21600">
                <a:moveTo>
                  <a:pt x="339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22" y="20200"/>
                </a:lnTo>
                <a:close/>
              </a:path>
              <a:path fill="lighten" w="339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22" h="21600">
                <a:moveTo>
                  <a:pt x="9955" y="10800"/>
                </a:moveTo>
                <a:lnTo>
                  <a:pt x="23968" y="3794"/>
                </a:lnTo>
                <a:lnTo>
                  <a:pt x="23968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685800" y="220968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坚”上下结构，右上角是“又”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8305920" y="6324480"/>
            <a:ext cx="838080" cy="53352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22" h="21600">
                <a:moveTo>
                  <a:pt x="0" y="0"/>
                </a:moveTo>
                <a:lnTo>
                  <a:pt x="33922" y="0"/>
                </a:lnTo>
                <a:lnTo>
                  <a:pt x="33922" y="21600"/>
                </a:lnTo>
                <a:lnTo>
                  <a:pt x="0" y="21600"/>
                </a:lnTo>
                <a:close/>
              </a:path>
              <a:path fill="lightenLess" w="33922" h="21600">
                <a:moveTo>
                  <a:pt x="0" y="0"/>
                </a:moveTo>
                <a:lnTo>
                  <a:pt x="33922" y="0"/>
                </a:lnTo>
                <a:lnTo>
                  <a:pt x="32522" y="1400"/>
                </a:lnTo>
                <a:lnTo>
                  <a:pt x="1400" y="1400"/>
                </a:lnTo>
                <a:close/>
              </a:path>
              <a:path fill="darken" w="33922" h="21600">
                <a:moveTo>
                  <a:pt x="33922" y="0"/>
                </a:moveTo>
                <a:lnTo>
                  <a:pt x="33922" y="21600"/>
                </a:lnTo>
                <a:lnTo>
                  <a:pt x="32522" y="20200"/>
                </a:lnTo>
                <a:lnTo>
                  <a:pt x="32522" y="1400"/>
                </a:lnTo>
                <a:close/>
              </a:path>
              <a:path fill="darkenLess" w="33922" h="21600">
                <a:moveTo>
                  <a:pt x="339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22" y="20200"/>
                </a:lnTo>
                <a:close/>
              </a:path>
              <a:path fill="lighten" w="339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22" h="21600">
                <a:moveTo>
                  <a:pt x="9955" y="10800"/>
                </a:moveTo>
                <a:lnTo>
                  <a:pt x="23968" y="3794"/>
                </a:lnTo>
                <a:lnTo>
                  <a:pt x="23968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380880" y="22096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智”上下结构，下边是“日”，不是“目”。</a:t>
            </a:r>
            <a:r>
              <a:rPr b="0" lang="zh-CN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305920" y="6324480"/>
            <a:ext cx="838080" cy="53352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22" h="21600">
                <a:moveTo>
                  <a:pt x="0" y="0"/>
                </a:moveTo>
                <a:lnTo>
                  <a:pt x="33922" y="0"/>
                </a:lnTo>
                <a:lnTo>
                  <a:pt x="33922" y="21600"/>
                </a:lnTo>
                <a:lnTo>
                  <a:pt x="0" y="21600"/>
                </a:lnTo>
                <a:close/>
              </a:path>
              <a:path fill="lightenLess" w="33922" h="21600">
                <a:moveTo>
                  <a:pt x="0" y="0"/>
                </a:moveTo>
                <a:lnTo>
                  <a:pt x="33922" y="0"/>
                </a:lnTo>
                <a:lnTo>
                  <a:pt x="32522" y="1400"/>
                </a:lnTo>
                <a:lnTo>
                  <a:pt x="1400" y="1400"/>
                </a:lnTo>
                <a:close/>
              </a:path>
              <a:path fill="darken" w="33922" h="21600">
                <a:moveTo>
                  <a:pt x="33922" y="0"/>
                </a:moveTo>
                <a:lnTo>
                  <a:pt x="33922" y="21600"/>
                </a:lnTo>
                <a:lnTo>
                  <a:pt x="32522" y="20200"/>
                </a:lnTo>
                <a:lnTo>
                  <a:pt x="32522" y="1400"/>
                </a:lnTo>
                <a:close/>
              </a:path>
              <a:path fill="darkenLess" w="33922" h="21600">
                <a:moveTo>
                  <a:pt x="339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22" y="20200"/>
                </a:lnTo>
                <a:close/>
              </a:path>
              <a:path fill="lighten" w="339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22" h="21600">
                <a:moveTo>
                  <a:pt x="9955" y="10800"/>
                </a:moveTo>
                <a:lnTo>
                  <a:pt x="23968" y="3794"/>
                </a:lnTo>
                <a:lnTo>
                  <a:pt x="23968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28600" y="2228760"/>
            <a:ext cx="9144000" cy="119124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华文细黑"/>
                <a:ea typeface="华文细黑"/>
              </a:rPr>
              <a:t>        </a:t>
            </a:r>
            <a:r>
              <a:rPr b="1" lang="zh-CN" sz="3600" spc="-1" strike="noStrike">
                <a:solidFill>
                  <a:srgbClr val="ffffff"/>
                </a:solidFill>
                <a:latin typeface="华文细黑"/>
                <a:ea typeface="华文细黑"/>
              </a:rPr>
              <a:t>思  考  ：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读了这篇文章，赵州桥给你留下总的印象是什么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14400" y="685800"/>
            <a:ext cx="2819520" cy="642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黑体"/>
                <a:ea typeface="黑体"/>
              </a:rPr>
              <a:t>生 字 学 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17640" y="2651040"/>
            <a:ext cx="637920" cy="1008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宋体"/>
              </a:rPr>
              <a:t>跨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517840" y="2590920"/>
            <a:ext cx="637920" cy="1008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宋体"/>
              </a:rPr>
              <a:t>创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118040" y="2590920"/>
            <a:ext cx="637920" cy="1008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宋体"/>
              </a:rPr>
              <a:t>毁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718240" y="2590920"/>
            <a:ext cx="637920" cy="1008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宋体"/>
              </a:rPr>
              <a:t>坚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165800" y="2590920"/>
            <a:ext cx="637920" cy="1008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宋体"/>
              </a:rPr>
              <a:t>智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62200" y="685800"/>
            <a:ext cx="2229120" cy="5814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小 组 学 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295280" y="1981080"/>
            <a:ext cx="70866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．为什么说赵州桥非常雄伟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．从哪儿看出赵州桥非常坚固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．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从哪儿看出赵州桥非常美观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2133720" y="609480"/>
            <a:ext cx="464796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宋体"/>
              </a:rPr>
              <a:t>赵 州 桥 介 绍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981080" y="1905120"/>
            <a:ext cx="4953240" cy="405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838080" y="1447920"/>
            <a:ext cx="7591680" cy="3962160"/>
          </a:xfrm>
          <a:prstGeom prst="rect">
            <a:avLst/>
          </a:prstGeom>
          <a:ln w="0">
            <a:noFill/>
          </a:ln>
        </p:spPr>
      </p:pic>
      <p:sp>
        <p:nvSpPr>
          <p:cNvPr id="55" name="">
            <a:hlinkClick r:id="" action="ppaction://hlinkshowjump?jump=endshow"/>
          </p:cNvPr>
          <p:cNvSpPr/>
          <p:nvPr/>
        </p:nvSpPr>
        <p:spPr>
          <a:xfrm>
            <a:off x="7696080" y="6095880"/>
            <a:ext cx="1447920" cy="762120"/>
          </a:xfrm>
          <a:custGeom>
            <a:avLst/>
            <a:gdLst>
              <a:gd name="textAreaLeft" fmla="*/ 49320 w 1447920"/>
              <a:gd name="textAreaRight" fmla="*/ 1398600 w 14479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41028" h="21600">
                <a:moveTo>
                  <a:pt x="0" y="0"/>
                </a:moveTo>
                <a:lnTo>
                  <a:pt x="41028" y="0"/>
                </a:lnTo>
                <a:lnTo>
                  <a:pt x="41028" y="21600"/>
                </a:lnTo>
                <a:lnTo>
                  <a:pt x="0" y="21600"/>
                </a:lnTo>
                <a:close/>
              </a:path>
              <a:path fill="lightenLess" w="41028" h="21600">
                <a:moveTo>
                  <a:pt x="0" y="0"/>
                </a:moveTo>
                <a:lnTo>
                  <a:pt x="41028" y="0"/>
                </a:lnTo>
                <a:lnTo>
                  <a:pt x="39628" y="1400"/>
                </a:lnTo>
                <a:lnTo>
                  <a:pt x="1400" y="1400"/>
                </a:lnTo>
                <a:close/>
              </a:path>
              <a:path fill="darken" w="41028" h="21600">
                <a:moveTo>
                  <a:pt x="41028" y="0"/>
                </a:moveTo>
                <a:lnTo>
                  <a:pt x="41028" y="21600"/>
                </a:lnTo>
                <a:lnTo>
                  <a:pt x="39628" y="20200"/>
                </a:lnTo>
                <a:lnTo>
                  <a:pt x="39628" y="1400"/>
                </a:lnTo>
                <a:close/>
              </a:path>
              <a:path fill="darkenLess" w="41028" h="21600">
                <a:moveTo>
                  <a:pt x="410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628" y="20200"/>
                </a:lnTo>
                <a:close/>
              </a:path>
              <a:path fill="lighten" w="410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028" h="21600">
                <a:moveTo>
                  <a:pt x="20514" y="3837"/>
                </a:moveTo>
                <a:lnTo>
                  <a:pt x="23090" y="6448"/>
                </a:lnTo>
                <a:lnTo>
                  <a:pt x="23090" y="4707"/>
                </a:lnTo>
                <a:lnTo>
                  <a:pt x="24866" y="4707"/>
                </a:lnTo>
                <a:lnTo>
                  <a:pt x="24866" y="8224"/>
                </a:lnTo>
                <a:lnTo>
                  <a:pt x="27477" y="10800"/>
                </a:lnTo>
                <a:lnTo>
                  <a:pt x="25823" y="10800"/>
                </a:lnTo>
                <a:lnTo>
                  <a:pt x="25823" y="17989"/>
                </a:lnTo>
                <a:lnTo>
                  <a:pt x="15205" y="17989"/>
                </a:lnTo>
                <a:lnTo>
                  <a:pt x="15205" y="10800"/>
                </a:lnTo>
                <a:lnTo>
                  <a:pt x="13551" y="10800"/>
                </a:lnTo>
                <a:close/>
              </a:path>
              <a:path fill="darkenLess" w="41028" h="21600">
                <a:moveTo>
                  <a:pt x="23090" y="6448"/>
                </a:moveTo>
                <a:lnTo>
                  <a:pt x="23090" y="4707"/>
                </a:lnTo>
                <a:lnTo>
                  <a:pt x="24866" y="4707"/>
                </a:lnTo>
                <a:lnTo>
                  <a:pt x="24866" y="8224"/>
                </a:lnTo>
                <a:close/>
              </a:path>
              <a:path fill="darkenLess" w="41028" h="21600">
                <a:moveTo>
                  <a:pt x="19591" y="14299"/>
                </a:moveTo>
                <a:lnTo>
                  <a:pt x="21436" y="14299"/>
                </a:lnTo>
                <a:lnTo>
                  <a:pt x="21436" y="17989"/>
                </a:lnTo>
                <a:lnTo>
                  <a:pt x="25823" y="17989"/>
                </a:lnTo>
                <a:lnTo>
                  <a:pt x="25823" y="10800"/>
                </a:lnTo>
                <a:lnTo>
                  <a:pt x="15205" y="10800"/>
                </a:lnTo>
                <a:lnTo>
                  <a:pt x="15205" y="17989"/>
                </a:lnTo>
                <a:lnTo>
                  <a:pt x="19591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236232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“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跨”是左右结构的，右下角是一个“亏”，不要写错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8305920" y="6324480"/>
            <a:ext cx="838080" cy="53352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22" h="21600">
                <a:moveTo>
                  <a:pt x="0" y="0"/>
                </a:moveTo>
                <a:lnTo>
                  <a:pt x="33922" y="0"/>
                </a:lnTo>
                <a:lnTo>
                  <a:pt x="33922" y="21600"/>
                </a:lnTo>
                <a:lnTo>
                  <a:pt x="0" y="21600"/>
                </a:lnTo>
                <a:close/>
              </a:path>
              <a:path fill="lightenLess" w="33922" h="21600">
                <a:moveTo>
                  <a:pt x="0" y="0"/>
                </a:moveTo>
                <a:lnTo>
                  <a:pt x="33922" y="0"/>
                </a:lnTo>
                <a:lnTo>
                  <a:pt x="32522" y="1400"/>
                </a:lnTo>
                <a:lnTo>
                  <a:pt x="1400" y="1400"/>
                </a:lnTo>
                <a:close/>
              </a:path>
              <a:path fill="darken" w="33922" h="21600">
                <a:moveTo>
                  <a:pt x="33922" y="0"/>
                </a:moveTo>
                <a:lnTo>
                  <a:pt x="33922" y="21600"/>
                </a:lnTo>
                <a:lnTo>
                  <a:pt x="32522" y="20200"/>
                </a:lnTo>
                <a:lnTo>
                  <a:pt x="32522" y="1400"/>
                </a:lnTo>
                <a:close/>
              </a:path>
              <a:path fill="darkenLess" w="33922" h="21600">
                <a:moveTo>
                  <a:pt x="339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22" y="20200"/>
                </a:lnTo>
                <a:close/>
              </a:path>
              <a:path fill="lighten" w="339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22" h="21600">
                <a:moveTo>
                  <a:pt x="9955" y="10800"/>
                </a:moveTo>
                <a:lnTo>
                  <a:pt x="23968" y="3794"/>
                </a:lnTo>
                <a:lnTo>
                  <a:pt x="23968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08T06:33:03Z</dcterms:created>
  <dc:creator>lichengquan</dc:creator>
  <dc:description/>
  <dc:language>en-US</dc:language>
  <cp:lastModifiedBy>lichengquan</cp:lastModifiedBy>
  <dcterms:modified xsi:type="dcterms:W3CDTF">2003-03-07T05:27:15Z</dcterms:modified>
  <cp:revision>7</cp:revision>
  <dc:subject/>
  <dc:title>PowerPoint 演示文稿</dc:title>
</cp:coreProperties>
</file>