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type.wav" ContentType="audio/x-wav"/>
  <Override PartName="/ppt/media/chimes.wav" ContentType="audio/x-wav"/>
  <Override PartName="/ppt/media/image4.gif" ContentType="image/gif"/>
  <Override PartName="/ppt/media/image8.png" ContentType="image/png"/>
  <Override PartName="/ppt/media/image5.png" ContentType="image/png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439F-3054-4D55-A517-DC7EEE28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515-9231-4EB0-A314-1A755FBA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8F5-91FB-4309-8CC5-45E2C793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2BA9-62B5-4190-9E7D-96049589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2AFF-A534-41CC-9B18-B4970D0F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03A8-2522-4AEC-990B-C787726F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0758-8EF8-493B-AE08-96162C7F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CE75-4AA4-4CBE-8CDA-AD1EB5B5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E5C7-9931-4D48-81A5-FB6B8890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BFC4-3BDF-4334-80BA-4E56FCAD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FD4F-81CE-4C5B-853B-7797F6CE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6591-CE76-48FF-9743-9E239555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F201-9B00-49D8-BD2C-4FD159E8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F1A7-1E0E-41C7-AE08-9D157B04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60CA-4552-4C39-8697-4EC4D00D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B3D9-E6AF-43AC-BA60-CB5BF71D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4F4C-64CB-472D-A552-4F0BCD66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4A8-A537-4A98-9447-1215F457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F355-78E0-4013-8FD7-96117EB8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E7C-2BC3-4CE8-AFEF-D6F996A9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3A7-01B9-43DE-80D0-9F628A65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521-B76D-4A29-8660-988FC627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1BB-3E9C-450F-BC68-F191F53C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8B7E-460E-4FB2-BAD6-0AD3C3EB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2215-96E7-424E-A2AC-A7E9916B0083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1A22-1360-4042-8FDF-1DA2F3C21E43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6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audio" Target="../media/type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audio" Target="../media/chimes.wav"/><Relationship Id="rId17" Type="http://schemas.openxmlformats.org/officeDocument/2006/relationships/audio" Target="../media/type.wav"/><Relationship Id="rId18" Type="http://schemas.openxmlformats.org/officeDocument/2006/relationships/audio" Target="../media/chimes.wav"/><Relationship Id="rId19" Type="http://schemas.openxmlformats.org/officeDocument/2006/relationships/audio" Target="../media/type.wav"/><Relationship Id="rId20" Type="http://schemas.openxmlformats.org/officeDocument/2006/relationships/audio" Target="../media/chimes.wav"/><Relationship Id="rId21" Type="http://schemas.openxmlformats.org/officeDocument/2006/relationships/audio" Target="../media/type.wav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6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95280" y="7621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学语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476360" y="1989000"/>
            <a:ext cx="6408720" cy="260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清明上河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219320" y="22320"/>
            <a:ext cx="6553080" cy="442260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457200" y="4495680"/>
            <a:ext cx="8229600" cy="1843200"/>
            <a:chOff x="457200" y="4495680"/>
            <a:chExt cx="8229600" cy="1843200"/>
          </a:xfrm>
        </p:grpSpPr>
        <p:sp>
          <p:nvSpPr>
            <p:cNvPr id="254" name=""/>
            <p:cNvSpPr/>
            <p:nvPr/>
          </p:nvSpPr>
          <p:spPr>
            <a:xfrm>
              <a:off x="457200" y="449568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" y="4495680"/>
              <a:ext cx="8229600" cy="18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       虹桥是北宋汴京东南郊外汴河上的一座木质无柱桥，《东京梦华录》在记述虹桥时说：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其桥无柱，皆以巨木虚架，饰以丹，宛如飞虹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。这种横跨汴河的无柱桥，对于当时水上交通和漕运非常便利。景区中的虹桥，是汴河上最大的一座桥，跨度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米，连同两端桥长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68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米，宽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1.5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米，高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5.8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米。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56" name="" descr="50.gif (2508 字节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05920" y="6340320"/>
            <a:ext cx="517320" cy="517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50.gif (2508 字节)"/>
          <p:cNvPicPr/>
          <p:nvPr/>
        </p:nvPicPr>
        <p:blipFill>
          <a:blip r:embed="rId1"/>
          <a:stretch/>
        </p:blipFill>
        <p:spPr>
          <a:xfrm>
            <a:off x="8153280" y="5943600"/>
            <a:ext cx="517680" cy="5176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990720" y="25909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艺术价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46560" y="25909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内  容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2514600"/>
            <a:ext cx="19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特点及评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2819520"/>
            <a:ext cx="60984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819520"/>
            <a:ext cx="6858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3200400"/>
            <a:ext cx="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419112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珍贵代表作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文化遗产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1120" y="3048120"/>
            <a:ext cx="0" cy="7617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52680" y="3962520"/>
            <a:ext cx="2438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市郊景象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汴河码头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市区街道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3048120"/>
            <a:ext cx="0" cy="7617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403848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规模宏大  场面繁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笔笔精到  一丝不苟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生动明确  惟妙惟肖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3429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91520" y="3200400"/>
            <a:ext cx="838080" cy="3200400"/>
          </a:xfrm>
          <a:custGeom>
            <a:avLst/>
            <a:gdLst>
              <a:gd name="textAreaLeft" fmla="*/ 112320 w 838080"/>
              <a:gd name="textAreaRight" fmla="*/ 725760 w 838080"/>
              <a:gd name="textAreaTop" fmla="*/ 559800 h 3200400"/>
              <a:gd name="textAreaBottom" fmla="*/ 232020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286000" y="5791320"/>
            <a:ext cx="38862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0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非凡才能 技艺高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050920" y="765000"/>
            <a:ext cx="47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清明上河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133720" y="685800"/>
            <a:ext cx="1828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业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2133720"/>
            <a:ext cx="6400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把你喜欢的词语、段落摘抄下来，并读读、背背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以观《清明上河图》有感为题写一篇观后感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276720" y="1736640"/>
            <a:ext cx="102519360" cy="3382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1905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参差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1905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鼎沸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1905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牲畜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1905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鸟瞰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91520" y="1981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阡 陌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3809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三十余幢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67160" y="3733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鳞次栉比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733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摩肩接踵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5667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戛然而止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56386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熙熙攘攘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5667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惟妙惟肖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1523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ēn  cī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1523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è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1523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chù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1447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à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62920" y="14479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qiān mò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3429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zhuà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3429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zhì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238880" y="3429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zhŏ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5334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jiá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3400" y="5181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ră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7480" y="5181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xià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09480" y="380880"/>
            <a:ext cx="221940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题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33" name="" descr="056.gif (7502 字节)"/>
          <p:cNvPicPr/>
          <p:nvPr/>
        </p:nvPicPr>
        <p:blipFill>
          <a:blip r:embed="rId1"/>
          <a:stretch/>
        </p:blipFill>
        <p:spPr>
          <a:xfrm>
            <a:off x="0" y="3429000"/>
            <a:ext cx="2849400" cy="3387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286000" y="1752480"/>
            <a:ext cx="6248520" cy="3353040"/>
          </a:xfrm>
          <a:custGeom>
            <a:avLst/>
            <a:gdLst>
              <a:gd name="textAreaLeft" fmla="*/ 1562040 w 6248520"/>
              <a:gd name="textAreaRight" fmla="*/ 4686480 w 6248520"/>
              <a:gd name="textAreaTop" fmla="*/ 0 h 3353040"/>
              <a:gd name="textAreaBottom" fmla="*/ 3089520 h 3353040"/>
            </a:gdLst>
            <a:ahLst/>
            <a:rect l="textAreaLeft" t="textAreaTop" r="textAreaRight" b="textAreaBottom"/>
            <a:pathLst>
              <a:path w="21600" h="21600">
                <a:moveTo>
                  <a:pt x="8100" y="19902"/>
                </a:moveTo>
                <a:lnTo>
                  <a:pt x="8100" y="21176"/>
                </a:lnTo>
                <a:cubicBezTo>
                  <a:pt x="8100" y="21388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1649"/>
                </a:lnTo>
                <a:lnTo>
                  <a:pt x="0" y="1698"/>
                </a:lnTo>
                <a:lnTo>
                  <a:pt x="5400" y="1698"/>
                </a:lnTo>
                <a:lnTo>
                  <a:pt x="5400" y="425"/>
                </a:lnTo>
                <a:cubicBezTo>
                  <a:pt x="5400" y="212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212"/>
                  <a:pt x="16200" y="425"/>
                </a:cubicBezTo>
                <a:lnTo>
                  <a:pt x="16200" y="1698"/>
                </a:lnTo>
                <a:lnTo>
                  <a:pt x="21600" y="1698"/>
                </a:lnTo>
                <a:lnTo>
                  <a:pt x="18850" y="11649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388"/>
                  <a:pt x="13500" y="21176"/>
                </a:cubicBezTo>
                <a:lnTo>
                  <a:pt x="13500" y="19902"/>
                </a:lnTo>
                <a:close/>
              </a:path>
              <a:path fill="darkenLess" w="21600" h="21600">
                <a:moveTo>
                  <a:pt x="8100" y="19902"/>
                </a:moveTo>
                <a:lnTo>
                  <a:pt x="8100" y="21176"/>
                </a:lnTo>
                <a:cubicBezTo>
                  <a:pt x="8100" y="20963"/>
                  <a:pt x="7680" y="20751"/>
                  <a:pt x="7260" y="20751"/>
                </a:cubicBezTo>
                <a:lnTo>
                  <a:pt x="6240" y="20751"/>
                </a:lnTo>
                <a:cubicBezTo>
                  <a:pt x="5820" y="20751"/>
                  <a:pt x="5400" y="20539"/>
                  <a:pt x="5400" y="20327"/>
                </a:cubicBezTo>
                <a:cubicBezTo>
                  <a:pt x="5400" y="20114"/>
                  <a:pt x="5820" y="19902"/>
                  <a:pt x="6240" y="19902"/>
                </a:cubicBezTo>
                <a:close/>
              </a:path>
              <a:path fill="darkenLess" w="21600" h="21600">
                <a:moveTo>
                  <a:pt x="13500" y="19902"/>
                </a:moveTo>
                <a:lnTo>
                  <a:pt x="13500" y="21176"/>
                </a:lnTo>
                <a:cubicBezTo>
                  <a:pt x="13500" y="20963"/>
                  <a:pt x="13920" y="20751"/>
                  <a:pt x="14340" y="20751"/>
                </a:cubicBezTo>
                <a:lnTo>
                  <a:pt x="15360" y="20751"/>
                </a:lnTo>
                <a:cubicBezTo>
                  <a:pt x="15780" y="20751"/>
                  <a:pt x="16200" y="20539"/>
                  <a:pt x="16200" y="20327"/>
                </a:cubicBezTo>
                <a:cubicBezTo>
                  <a:pt x="16200" y="20114"/>
                  <a:pt x="15780" y="19902"/>
                  <a:pt x="15360" y="19902"/>
                </a:cubicBezTo>
                <a:close/>
              </a:path>
              <a:path fill="darkenLess" w="21600" h="21600">
                <a:moveTo>
                  <a:pt x="5400" y="20327"/>
                </a:moveTo>
                <a:lnTo>
                  <a:pt x="5400" y="1698"/>
                </a:lnTo>
              </a:path>
              <a:path fill="darkenLess" w="21600" h="21600">
                <a:moveTo>
                  <a:pt x="16200" y="20327"/>
                </a:moveTo>
                <a:lnTo>
                  <a:pt x="16200" y="1698"/>
                </a:lnTo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231444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ahoma"/>
                <a:ea typeface="隶书"/>
              </a:rPr>
              <a:t>这幅画到底画了些什么？请一边听读课文，一边看图画，并随着课文的描述展开想象，再与同学交流一下你对课文最后一段的体会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579132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1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ahoma"/>
              </a:rPr>
              <a:t>  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2 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ahoma"/>
              </a:rPr>
              <a:t>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3 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5" action="ppaction://hlinksldjump"/>
              </a:rPr>
              <a:t>4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5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ahoma"/>
              </a:rPr>
              <a:t>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7" action="ppaction://hlinksldjump"/>
              </a:rPr>
              <a:t>6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ahoma"/>
              </a:rPr>
              <a:t>    7     8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486080" y="3808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清明上河图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427040"/>
            <a:ext cx="7925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《清明上河图》是我国古代绘画中极其珍贵的代表作品，在世界艺术长廊中也是不可多得的文化遗产。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《清明上河图》是宋代画家张择端的作品。这是一幅表现北宋都城汴梁（今河南开封）和汴河两岸清明时节风俗世情的长卷。画面的内容可分为三个部分。第一部分描绘市郊的景象。初春的清晨薄雾尚未散尽，一片枝芽萌动的小树林，数间农舍掩映其中，农田初绿，阡陌纵横，赶集的人们和驮运货物的骡马从条条道路向城里进发。在汴河码头停泊着数条大船，其中有一条装满了粮食，一些人正在忙着搬运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828800" cy="1303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50.gif (2508 字节)"/>
          <p:cNvPicPr/>
          <p:nvPr/>
        </p:nvPicPr>
        <p:blipFill>
          <a:blip r:embed="rId2"/>
          <a:stretch/>
        </p:blipFill>
        <p:spPr>
          <a:xfrm>
            <a:off x="8305920" y="6340320"/>
            <a:ext cx="517320" cy="517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43000" y="1828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00040"/>
            <a:ext cx="73152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顺着波光粼粼的汴河展卷看去，画面进入第二部分。屋宇错落，古柳参差，临河的茶肆之中，摆着桌凳。河中船只往来不断。一座精致的</a:t>
            </a:r>
            <a:r>
              <a:rPr b="0" lang="zh-CN" sz="28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拱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宛若飞虹，沟通两岸。行人众多，车水马龙，人声鼎沸，热闹非凡。一艘木船正要穿过拱桥，桅杆已经放倒，船工握篙盘索。桥上桥下，许多行人驻足观看。从人们张嘴挥臂的动作中，似乎听到了船工们吆喝的号子声和众人的喝彩声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下桥穿街，走过一座巍峨的城门楼，便来到最繁华的街市。这是第三部分描绘的景象。这里</a:t>
            </a:r>
            <a:r>
              <a:rPr b="0" lang="zh-CN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酒楼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茶肆、宅第店铺鳞次栉比，货物五光十色、种类繁多，市招高挂，买卖兴隆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3" name="" descr="50.gif (2508 字节)"/>
          <p:cNvPicPr/>
          <p:nvPr/>
        </p:nvPicPr>
        <p:blipFill>
          <a:blip r:embed="rId3"/>
          <a:stretch/>
        </p:blipFill>
        <p:spPr>
          <a:xfrm>
            <a:off x="8381880" y="6019920"/>
            <a:ext cx="517680" cy="517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33480" y="500040"/>
            <a:ext cx="7277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街市上，士农工商，男女老幼，骑马的，乘轿的，购物的，叫卖 的，摩肩接踵，熙熙攘攘，真可谓“百家艺技向春售，千里农商暄日昼”，好一派繁荣昌盛的景象。穿过十字路口，再往前行，可是汴京的皇宫重地？画面至此戛然而止，给观众留下想象的余地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《清明上河图》从郊外田野、汴河两岸，一直描绘到市井、街道，规模宏大，场面繁杂，作者巧妙地利用鸟瞰的构图方式，将浩大繁复的场面妥帖地置于长不过两丈、高不过一尺的画面上。据统计，全图共画人物五百五十余个，各种牲畜五六十匹，不同车轿二十余辆，大小船只二十余艘，各种房屋三十余幢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5" name="" descr="50.gif (2508 字节)"/>
          <p:cNvPicPr/>
          <p:nvPr/>
        </p:nvPicPr>
        <p:blipFill>
          <a:blip r:embed="rId1"/>
          <a:stretch/>
        </p:blipFill>
        <p:spPr>
          <a:xfrm>
            <a:off x="8305920" y="5867280"/>
            <a:ext cx="517320" cy="517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81160" y="1600200"/>
            <a:ext cx="6781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无论是状物画人，笔笔精到，一丝不苟，达到了生动明确、惟妙惟肖的境界。这充分表现了画家概括生活、提炼素材的非凡才能和绘画技艺的高超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这件作品不仅在我国绘画史上占有重要的地位，而且因为它深入细致地描绘了当时的风俗人情、桥梁建筑、道路交通、人际关系等，还具有极高的历史价值，成为研究我国宋代社会各方面情况的极其珍贵的形象资料。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7" name="" descr="50.gif (2508 字节)"/>
          <p:cNvPicPr/>
          <p:nvPr/>
        </p:nvPicPr>
        <p:blipFill>
          <a:blip r:embed="rId1"/>
          <a:stretch/>
        </p:blipFill>
        <p:spPr>
          <a:xfrm>
            <a:off x="8077320" y="5943600"/>
            <a:ext cx="517320" cy="5176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49.gif (4899 字节)"/>
          <p:cNvPicPr/>
          <p:nvPr/>
        </p:nvPicPr>
        <p:blipFill>
          <a:blip r:embed="rId2"/>
          <a:stretch/>
        </p:blipFill>
        <p:spPr>
          <a:xfrm>
            <a:off x="6172200" y="6087960"/>
            <a:ext cx="67464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096240" cy="4167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80880" y="46483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樊楼：樊楼是北宋汴京最大的酒楼，北宋末年，改名为“丰乐楼”，经宣和年间翻修改造，成为“三层相高，五楼相向，各有飞桥栏槛，明暗相通，珠帘绣额，灯烛晃耀”的大酒楼，现仿建逼真的樊楼，分三层，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.7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宴宾楼、酒楼、瓦肆、六合居，像几只金凤凰栖息在一起，格外引人注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1" name="" descr="50.gif (2508 字节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609480"/>
            <a:ext cx="517680" cy="517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19:11:43Z</dcterms:created>
  <dc:creator>love</dc:creator>
  <dc:description/>
  <dc:language>en-US</dc:language>
  <cp:lastModifiedBy>yang</cp:lastModifiedBy>
  <dcterms:modified xsi:type="dcterms:W3CDTF">2004-04-01T08:10:16Z</dcterms:modified>
  <cp:revision>16</cp:revision>
  <dc:subject/>
  <dc:title>PowerPoint 演示文稿</dc:title>
</cp:coreProperties>
</file>