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type.wav" ContentType="audio/x-wav"/>
  <Override PartName="/ppt/media/chimes.wav" ContentType="audio/x-wav"/>
  <Override PartName="/ppt/media/image4.gif" ContentType="image/gif"/>
  <Override PartName="/ppt/media/image8.png" ContentType="image/pn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229-3A15-41BD-B56E-046484BB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883-1FE8-4F8A-9A0B-E3B52F5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AEA-9678-4726-BC48-6C0E9AF7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E05-254C-4BD1-940D-D07337EB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327-8A8F-41CE-BC74-5AC28B7D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909F-1416-426B-BF82-EFDFD0F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96E4-B852-4F9E-AB5A-47D6D533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7885-C2F9-4F67-9796-8F160D53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92D7-2937-4110-974F-F11289A1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2368-BAF0-4C78-9109-2E9C1A45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6E1A-D95E-4985-8A22-A5CBE4E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4B1-C01F-4D79-919D-8C5C6FF5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C520-B81F-43BA-88B4-CA507B9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D237-36CE-48AE-81D3-72401454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2A32-348A-4132-A63F-820857FD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42A-4C1F-4250-B22B-F952885A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0FC2-70FC-4097-9E70-724A8C80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D77-610E-40CA-90BD-9CB2BEA7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82F-376C-4C24-81D9-C9D9EE1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E2E-E9EF-4E8D-9DEC-A1B5BE13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8D4-A583-43B3-9053-58006A1A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E43-2A84-41A9-A4B9-D91CACD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AB5-D910-492E-993E-D5E5C9A2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857-73F4-4C2A-906B-15F894B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478D-E45C-4458-8475-1D45BA06995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45F-5DEB-43E1-B311-EEBD28298A5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audio" Target="../media/chimes.wav"/><Relationship Id="rId19" Type="http://schemas.openxmlformats.org/officeDocument/2006/relationships/audio" Target="../media/type.wav"/><Relationship Id="rId20" Type="http://schemas.openxmlformats.org/officeDocument/2006/relationships/audio" Target="../media/chimes.wav"/><Relationship Id="rId21" Type="http://schemas.openxmlformats.org/officeDocument/2006/relationships/audio" Target="../media/type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95280" y="762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学语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76360" y="1989000"/>
            <a:ext cx="6408720" cy="26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清明上河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219320" y="22320"/>
            <a:ext cx="65530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457200" y="4495680"/>
            <a:ext cx="8229600" cy="1843200"/>
            <a:chOff x="457200" y="4495680"/>
            <a:chExt cx="8229600" cy="1843200"/>
          </a:xfrm>
        </p:grpSpPr>
        <p:sp>
          <p:nvSpPr>
            <p:cNvPr id="254" name=""/>
            <p:cNvSpPr/>
            <p:nvPr/>
          </p:nvSpPr>
          <p:spPr>
            <a:xfrm>
              <a:off x="457200" y="449568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4495680"/>
              <a:ext cx="8229600" cy="18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       虹桥是北宋汴京东南郊外汴河上的一座木质无柱桥，《东京梦华录》在记述虹桥时说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其桥无柱，皆以巨木虚架，饰以丹，宛如飞虹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这种横跨汴河的无柱桥，对于当时水上交通和漕运非常便利。景区中的虹桥，是汴河上最大的一座桥，跨度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连同两端桥长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宽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1.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高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5.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。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56" name="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34032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50.gif (2508 字节)"/>
          <p:cNvPicPr/>
          <p:nvPr/>
        </p:nvPicPr>
        <p:blipFill>
          <a:blip r:embed="rId1"/>
          <a:stretch/>
        </p:blipFill>
        <p:spPr>
          <a:xfrm>
            <a:off x="8153280" y="5943600"/>
            <a:ext cx="517680" cy="517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90720" y="2590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艺术价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46560" y="25909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内  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2514600"/>
            <a:ext cx="19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特点及评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2819520"/>
            <a:ext cx="6098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81952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320040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191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珍贵代表作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文化遗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3048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3962520"/>
            <a:ext cx="2438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市郊景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汴河码头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市区街道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3048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403848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规模宏大  场面繁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笔笔精到  一丝不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生动明确  惟妙惟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3200400"/>
            <a:ext cx="838080" cy="3200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559800 h 3200400"/>
              <a:gd name="textAreaBottom" fmla="*/ 23202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0" y="5791320"/>
            <a:ext cx="3886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非凡才能 技艺高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050920" y="76500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清明上河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133720" y="68580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2133720"/>
            <a:ext cx="6400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把你喜欢的词语、段落摘抄下来，并读读、背背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以观《清明上河图》有感为题写一篇观后感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276720" y="1736640"/>
            <a:ext cx="1025193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参差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1905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鼎沸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牲畜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1905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鸟瞰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阡 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三十余幢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67160" y="3733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鳞次栉比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733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摩肩接踵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5667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戛然而止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5638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熙熙攘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5667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惟妙惟肖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ēn  cī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è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523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h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à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1447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qiān mò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zhuà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429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zhì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zhŏ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5334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jiá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5181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ă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5181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ià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09480" y="380880"/>
            <a:ext cx="221940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题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33" name="" descr="056.gif (7502 字节)"/>
          <p:cNvPicPr/>
          <p:nvPr/>
        </p:nvPicPr>
        <p:blipFill>
          <a:blip r:embed="rId1"/>
          <a:stretch/>
        </p:blipFill>
        <p:spPr>
          <a:xfrm>
            <a:off x="0" y="3429000"/>
            <a:ext cx="2849400" cy="3387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86000" y="1752480"/>
            <a:ext cx="6248520" cy="3353040"/>
          </a:xfrm>
          <a:custGeom>
            <a:avLst/>
            <a:gdLst>
              <a:gd name="textAreaLeft" fmla="*/ 1562040 w 6248520"/>
              <a:gd name="textAreaRight" fmla="*/ 4686480 w 6248520"/>
              <a:gd name="textAreaTop" fmla="*/ 0 h 3353040"/>
              <a:gd name="textAreaBottom" fmla="*/ 3089520 h 3353040"/>
            </a:gdLst>
            <a:ahLst/>
            <a:rect l="textAreaLeft" t="textAreaTop" r="textAreaRight" b="textAreaBottom"/>
            <a:pathLst>
              <a:path w="21600" h="21600">
                <a:moveTo>
                  <a:pt x="8100" y="19902"/>
                </a:moveTo>
                <a:lnTo>
                  <a:pt x="8100" y="21176"/>
                </a:lnTo>
                <a:cubicBezTo>
                  <a:pt x="8100" y="21388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1649"/>
                </a:lnTo>
                <a:lnTo>
                  <a:pt x="0" y="1698"/>
                </a:lnTo>
                <a:lnTo>
                  <a:pt x="5400" y="1698"/>
                </a:lnTo>
                <a:lnTo>
                  <a:pt x="5400" y="425"/>
                </a:lnTo>
                <a:cubicBezTo>
                  <a:pt x="5400" y="212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212"/>
                  <a:pt x="16200" y="425"/>
                </a:cubicBezTo>
                <a:lnTo>
                  <a:pt x="16200" y="1698"/>
                </a:lnTo>
                <a:lnTo>
                  <a:pt x="21600" y="1698"/>
                </a:lnTo>
                <a:lnTo>
                  <a:pt x="18850" y="11649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388"/>
                  <a:pt x="13500" y="21176"/>
                </a:cubicBezTo>
                <a:lnTo>
                  <a:pt x="13500" y="19902"/>
                </a:lnTo>
                <a:close/>
              </a:path>
              <a:path fill="darkenLess" w="21600" h="21600">
                <a:moveTo>
                  <a:pt x="8100" y="19902"/>
                </a:moveTo>
                <a:lnTo>
                  <a:pt x="8100" y="21176"/>
                </a:lnTo>
                <a:cubicBezTo>
                  <a:pt x="8100" y="20963"/>
                  <a:pt x="7680" y="20751"/>
                  <a:pt x="7260" y="20751"/>
                </a:cubicBezTo>
                <a:lnTo>
                  <a:pt x="6240" y="20751"/>
                </a:lnTo>
                <a:cubicBezTo>
                  <a:pt x="5820" y="20751"/>
                  <a:pt x="5400" y="20539"/>
                  <a:pt x="5400" y="20327"/>
                </a:cubicBezTo>
                <a:cubicBezTo>
                  <a:pt x="5400" y="20114"/>
                  <a:pt x="5820" y="19902"/>
                  <a:pt x="6240" y="19902"/>
                </a:cubicBezTo>
                <a:close/>
              </a:path>
              <a:path fill="darkenLess" w="21600" h="21600">
                <a:moveTo>
                  <a:pt x="13500" y="19902"/>
                </a:moveTo>
                <a:lnTo>
                  <a:pt x="13500" y="21176"/>
                </a:lnTo>
                <a:cubicBezTo>
                  <a:pt x="13500" y="20963"/>
                  <a:pt x="13920" y="20751"/>
                  <a:pt x="14340" y="20751"/>
                </a:cubicBezTo>
                <a:lnTo>
                  <a:pt x="15360" y="20751"/>
                </a:lnTo>
                <a:cubicBezTo>
                  <a:pt x="15780" y="20751"/>
                  <a:pt x="16200" y="20539"/>
                  <a:pt x="16200" y="20327"/>
                </a:cubicBezTo>
                <a:cubicBezTo>
                  <a:pt x="16200" y="20114"/>
                  <a:pt x="15780" y="19902"/>
                  <a:pt x="15360" y="19902"/>
                </a:cubicBezTo>
                <a:close/>
              </a:path>
              <a:path fill="darkenLess" w="21600" h="21600">
                <a:moveTo>
                  <a:pt x="5400" y="20327"/>
                </a:moveTo>
                <a:lnTo>
                  <a:pt x="5400" y="1698"/>
                </a:lnTo>
              </a:path>
              <a:path fill="darkenLess" w="21600" h="21600">
                <a:moveTo>
                  <a:pt x="16200" y="20327"/>
                </a:moveTo>
                <a:lnTo>
                  <a:pt x="16200" y="1698"/>
                </a:lnTo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23144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  <a:ea typeface="隶书"/>
              </a:rPr>
              <a:t>这幅画到底画了些什么？请一边听读课文，一边看图画，并随着课文的描述展开想象，再与同学交流一下你对课文最后一段的体会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579132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1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2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3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4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5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6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ahoma"/>
              </a:rPr>
              <a:t>    7     8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86080" y="3808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清明上河图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42704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清明上河图》是我国古代绘画中极其珍贵的代表作品，在世界艺术长廊中也是不可多得的文化遗产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清明上河图》是宋代画家张择端的作品。这是一幅表现北宋都城汴梁（今河南开封）和汴河两岸清明时节风俗世情的长卷。画面的内容可分为三个部分。第一部分描绘市郊的景象。初春的清晨薄雾尚未散尽，一片枝芽萌动的小树林，数间农舍掩映其中，农田初绿，阡陌纵横，赶集的人们和驮运货物的骡马从条条道路向城里进发。在汴河码头停泊着数条大船，其中有一条装满了粮食，一些人正在忙着搬运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303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50.gif (2508 字节)"/>
          <p:cNvPicPr/>
          <p:nvPr/>
        </p:nvPicPr>
        <p:blipFill>
          <a:blip r:embed="rId2"/>
          <a:stretch/>
        </p:blipFill>
        <p:spPr>
          <a:xfrm>
            <a:off x="8305920" y="634032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00040"/>
            <a:ext cx="73152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顺着波光粼粼的汴河展卷看去，画面进入第二部分。屋宇错落，古柳参差，临河的茶肆之中，摆着桌凳。河中船只往来不断。一座精致的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拱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宛若飞虹，沟通两岸。行人众多，车水马龙，人声鼎沸，热闹非凡。一艘木船正要穿过拱桥，桅杆已经放倒，船工握篙盘索。桥上桥下，许多行人驻足观看。从人们张嘴挥臂的动作中，似乎听到了船工们吆喝的号子声和众人的喝彩声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下桥穿街，走过一座巍峨的城门楼，便来到最繁华的街市。这是第三部分描绘的景象。这里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酒楼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茶肆、宅第店铺鳞次栉比，货物五光十色、种类繁多，市招高挂，买卖兴隆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" descr="50.gif (2508 字节)"/>
          <p:cNvPicPr/>
          <p:nvPr/>
        </p:nvPicPr>
        <p:blipFill>
          <a:blip r:embed="rId3"/>
          <a:stretch/>
        </p:blipFill>
        <p:spPr>
          <a:xfrm>
            <a:off x="8381880" y="6019920"/>
            <a:ext cx="51768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33480" y="500040"/>
            <a:ext cx="7277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街市上，士农工商，男女老幼，骑马的，乘轿的，购物的，叫卖 的，摩肩接踵，熙熙攘攘，真可谓“百家艺技向春售，千里农商暄日昼”，好一派繁荣昌盛的景象。穿过十字路口，再往前行，可是汴京的皇宫重地？画面至此戛然而止，给观众留下想象的余地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清明上河图》从郊外田野、汴河两岸，一直描绘到市井、街道，规模宏大，场面繁杂，作者巧妙地利用鸟瞰的构图方式，将浩大繁复的场面妥帖地置于长不过两丈、高不过一尺的画面上。据统计，全图共画人物五百五十余个，各种牲畜五六十匹，不同车轿二十余辆，大小船只二十余艘，各种房屋三十余幢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5" name="" descr="50.gif (2508 字节)"/>
          <p:cNvPicPr/>
          <p:nvPr/>
        </p:nvPicPr>
        <p:blipFill>
          <a:blip r:embed="rId1"/>
          <a:stretch/>
        </p:blipFill>
        <p:spPr>
          <a:xfrm>
            <a:off x="8305920" y="586728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81160" y="1600200"/>
            <a:ext cx="6781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无论是状物画人，笔笔精到，一丝不苟，达到了生动明确、惟妙惟肖的境界。这充分表现了画家概括生活、提炼素材的非凡才能和绘画技艺的高超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件作品不仅在我国绘画史上占有重要的地位，而且因为它深入细致地描绘了当时的风俗人情、桥梁建筑、道路交通、人际关系等，还具有极高的历史价值，成为研究我国宋代社会各方面情况的极其珍贵的形象资料。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50.gif (2508 字节)"/>
          <p:cNvPicPr/>
          <p:nvPr/>
        </p:nvPicPr>
        <p:blipFill>
          <a:blip r:embed="rId1"/>
          <a:stretch/>
        </p:blipFill>
        <p:spPr>
          <a:xfrm>
            <a:off x="8077320" y="594360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49.gif (4899 字节)"/>
          <p:cNvPicPr/>
          <p:nvPr/>
        </p:nvPicPr>
        <p:blipFill>
          <a:blip r:embed="rId2"/>
          <a:stretch/>
        </p:blipFill>
        <p:spPr>
          <a:xfrm>
            <a:off x="6172200" y="6087960"/>
            <a:ext cx="67464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4167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80880" y="4648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樊楼：樊楼是北宋汴京最大的酒楼，北宋末年，改名为“丰乐楼”，经宣和年间翻修改造，成为“三层相高，五楼相向，各有飞桥栏槛，明暗相通，珠帘绣额，灯烛晃耀”的大酒楼，现仿建逼真的樊楼，分三层，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7.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宴宾楼、酒楼、瓦肆、六合居，像几只金凤凰栖息在一起，格外引人注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1" name="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0948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9:11:43Z</dcterms:created>
  <dc:creator>love</dc:creator>
  <dc:description/>
  <dc:language>en-US</dc:language>
  <cp:lastModifiedBy>yang</cp:lastModifiedBy>
  <dcterms:modified xsi:type="dcterms:W3CDTF">2004-04-01T08:10:16Z</dcterms:modified>
  <cp:revision>16</cp:revision>
  <dc:subject/>
  <dc:title>PowerPoint 演示文稿</dc:title>
</cp:coreProperties>
</file>