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64A-6AA5-4733-85B1-C8889B24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6D4-F9F4-4A7A-9373-2CC4AAF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47B-52DA-4352-BA02-7FB1FA53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754-3A00-49A0-BC3A-7330579C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98E-C8FE-4A01-A400-40EA80D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921-EE26-456E-A88E-2973A00B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F60-CAE6-4E51-8172-152D5E4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B85-A594-4231-BCB8-898C4DC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9EE-E753-4D4D-918F-51449FBB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0C4-F895-4C31-8C92-5DB798E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1EF-E4FF-431E-A5DB-E9585A3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1A4-4089-4278-8DAB-EF11303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C309-2779-4453-8110-BE9E6EDAA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4dc2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21932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清明上河图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   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   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   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614840"/>
          </a:xfrm>
          <a:prstGeom prst="rect">
            <a:avLst/>
          </a:prstGeom>
          <a:ln w="0">
            <a:noFill/>
          </a:ln>
        </p:spPr>
      </p:pic>
      <p:pic>
        <p:nvPicPr>
          <p:cNvPr id="46" name="02" descr=""/>
          <p:cNvPicPr/>
          <p:nvPr/>
        </p:nvPicPr>
        <p:blipFill>
          <a:blip r:embed="rId2"/>
          <a:stretch/>
        </p:blipFill>
        <p:spPr>
          <a:xfrm>
            <a:off x="4776840" y="0"/>
            <a:ext cx="4367160" cy="4648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983120"/>
            <a:ext cx="80773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《清明上河图》是一幅表现北宋都城汴梁（今河南开封）和汴河两岸清明时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风俗世情的长卷。画面的内容可分为三个部分。第一部分描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第二部分描绘                                     第三部分描绘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21337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汴河两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5562720" y="5958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繁华的街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93432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市郊的景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00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3280" y="60199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1" descr=""/>
          <p:cNvPicPr/>
          <p:nvPr/>
        </p:nvPicPr>
        <p:blipFill>
          <a:blip r:embed="rId1"/>
          <a:stretch/>
        </p:blipFill>
        <p:spPr>
          <a:xfrm>
            <a:off x="0" y="3808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pic0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22" descr=""/>
          <p:cNvPicPr/>
          <p:nvPr/>
        </p:nvPicPr>
        <p:blipFill>
          <a:blip r:embed="rId4"/>
          <a:stretch/>
        </p:blipFill>
        <p:spPr>
          <a:xfrm>
            <a:off x="4648320" y="3808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19112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部分： 市郊的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初春的清晨薄雾尚未散尽，一片枝芽萌动的小树林，数间农舍掩映其中，农田初绿，阡陌纵横。赶集的人们和驮运货物的骡马从条条道路向城里进发。在汴河码头停泊着数条大船，其中有一条装满了粮食，一些人正在忙着搬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04920" y="457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001" descr=""/>
          <p:cNvPicPr/>
          <p:nvPr/>
        </p:nvPicPr>
        <p:blipFill>
          <a:blip r:embed="rId1"/>
          <a:stretch/>
        </p:blipFill>
        <p:spPr>
          <a:xfrm>
            <a:off x="8077320" y="6319800"/>
            <a:ext cx="838080" cy="538200"/>
          </a:xfrm>
          <a:prstGeom prst="rect">
            <a:avLst/>
          </a:prstGeom>
          <a:ln w="0">
            <a:noFill/>
          </a:ln>
        </p:spPr>
      </p:pic>
      <p:pic>
        <p:nvPicPr>
          <p:cNvPr id="58" name="31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648320" cy="337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962520"/>
            <a:ext cx="7848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部分：汴河两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顺着波光粼粼的汴河展卷看去，屋宇错落，古柳参差，临河的茶肆之中，摆着桌凳。河中船只往来不断。一座精致的拱桥，宛若飞虹，沟通两岸。行人众多，车水马龙，人声鼎沸，热闹非凡。一艘木船正要穿过拱桥，桅杆已经放倒，船工握篙盘索。桥上桥下，许多行人驻足观看。从人们张嘴挥臂的动作中，似乎听到了船工们吆喝的号子声和众人的喝彩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42" descr=""/>
          <p:cNvPicPr/>
          <p:nvPr/>
        </p:nvPicPr>
        <p:blipFill>
          <a:blip r:embed="rId4"/>
          <a:stretch/>
        </p:blipFill>
        <p:spPr>
          <a:xfrm>
            <a:off x="-380880" y="228600"/>
            <a:ext cx="487656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acfe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1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62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3657600"/>
            <a:ext cx="84582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第三部分：繁华的街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</a:rPr>
              <a:t>下桥穿街，走过一座巍峨的城门楼，便来到最繁荣昌盛华的街市。这里酒楼茶肆、宅第店铺鳞次栉比，货物五光十色、种类繁多，市招高挂，买卖兴隆。街市上，士农工商，男女老幼，骑马的乘轿的，购物的，叫卖的，摩肩接踵，熙熙攘攘，真可谓“百家艺技向春售，千里农商喧日昼”，好一派繁荣昌盛的景象。穿过十字路口，再往前行，可是汴京的皇宫重地？画面到此戛然而止，给观众留下想象的余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020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5328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明上河图从郊外田野、汴河两岸，一直描绘到市井、街道，规模宏大，场面繁杂，作者巧妙地利用鸟瞰的构图方式，将浩大繁杂的场面妥帖地置于长不过两丈、高不过一尺的画面上。据统计，全图共画人物五百五十余个，各种牲畜五六十匹，不同车轿二十余辆，大小船艘只二十余艘，各种房屋三十余幢。无论是状物画人，笔笔精到，一丝不苟，达到了生动明确、惟妙惟肖的境界。这充分表现了画家概括生活、提炼素材的非凡才能和绘画技艺的高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00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943600"/>
            <a:ext cx="8380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609480"/>
            <a:ext cx="5264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《清明上河图》是我国古代绘画作品中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珍贵的代表作品，在世界艺术长廊中也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可多得的文化遗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件作品不仅在我国绘画史上占有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地位，而且因为它深入细致地描述了当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风俗人情，桥梁建筑、道路交通、人际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系等，还具有极高的历史价值，成为研究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国宋代社会各方面情况的极其珍贵的形象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00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8380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2:53:00Z</dcterms:created>
  <dc:creator>your name</dc:creator>
  <dc:description/>
  <dc:language>en-US</dc:language>
  <cp:lastModifiedBy>zh</cp:lastModifiedBy>
  <dcterms:modified xsi:type="dcterms:W3CDTF">2003-11-24T14:52:54Z</dcterms:modified>
  <cp:revision>16</cp:revision>
  <dc:subject/>
  <dc:title>PowerPoint 演示文稿</dc:title>
</cp:coreProperties>
</file>