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5DD-7FCB-403A-875A-BE153055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B37-1FEA-4F33-BC3A-13E784F0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722-625A-4120-8D5D-C1CF6BCF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4CB-CED8-492C-8C2A-FBBD894F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243-7323-44C0-9454-92F4F28C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B3F-B7EF-4611-8907-660A62A9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9AF-B890-45ED-AF4B-E559A4F4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9FB-6CC7-4A68-BDED-6502AEEA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39F-AD7C-44A8-9945-6733EB6C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6AD-CAF3-4F5A-8EFC-78BCAE1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F16-A1CB-462F-9727-6AD8EFD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163-4E5D-4828-B5DA-03721797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4E5-ACE6-4DC3-844C-AEC27BF087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5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6.xml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x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5029200"/>
            <a:ext cx="914400" cy="60948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R2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1066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三、四自然段写了海底的（   ）、（   ）、（     ）和（    ）。  这四种水产品之间是（    ）关系。因此这段话是用（    ）方式构段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676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  <a:ea typeface="仿宋_GB2312"/>
              </a:rPr>
              <a:t>珊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676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仿宋_GB2312"/>
              </a:rPr>
              <a:t>海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209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仿宋_GB2312"/>
              </a:rPr>
              <a:t>大龙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209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仿宋_GB2312"/>
              </a:rPr>
              <a:t>并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809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仿宋_GB2312"/>
              </a:rPr>
              <a:t>并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1" descr=""/>
          <p:cNvPicPr/>
          <p:nvPr/>
        </p:nvPicPr>
        <p:blipFill>
          <a:blip r:embed="rId2"/>
          <a:stretch/>
        </p:blipFill>
        <p:spPr>
          <a:xfrm>
            <a:off x="5257800" y="6180120"/>
            <a:ext cx="8380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fe1"/>
            </a:gs>
            <a:gs pos="100000">
              <a:srgbClr val="5252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95480" y="380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请你给录象配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340240"/>
          </a:xfrm>
          <a:prstGeom prst="rect">
            <a:avLst/>
          </a:prstGeom>
          <a:ln w="0">
            <a:noFill/>
          </a:ln>
        </p:spPr>
      </p:pic>
      <p:pic>
        <p:nvPicPr>
          <p:cNvPr id="99" name="yu" descr="">
            <a:hlinkClick r:id="rId2" action="ppaction://hlinksldjump"/>
          </p:cNvPr>
          <p:cNvPicPr/>
          <p:nvPr/>
        </p:nvPicPr>
        <p:blipFill>
          <a:blip r:embed="rId3"/>
          <a:srcRect l="42522" t="39195" r="18777" b="23797"/>
          <a:stretch/>
        </p:blipFill>
        <p:spPr>
          <a:xfrm>
            <a:off x="1905120" y="380880"/>
            <a:ext cx="9144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f8f"/>
            </a:gs>
            <a:gs pos="100000">
              <a:srgbClr val="ffff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380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请你给录象配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5562720"/>
          </a:xfrm>
          <a:prstGeom prst="rect">
            <a:avLst/>
          </a:prstGeom>
          <a:ln w="0">
            <a:noFill/>
          </a:ln>
        </p:spPr>
      </p:pic>
      <p:pic>
        <p:nvPicPr>
          <p:cNvPr id="102" name="bei" descr="">
            <a:hlinkClick r:id="rId2" action="ppaction://hlinksldjump"/>
          </p:cNvPr>
          <p:cNvPicPr/>
          <p:nvPr/>
        </p:nvPicPr>
        <p:blipFill>
          <a:blip r:embed="rId3"/>
          <a:srcRect l="48765" t="21260" r="6292" b="28784"/>
          <a:stretch/>
        </p:blipFill>
        <p:spPr>
          <a:xfrm>
            <a:off x="2209680" y="37800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ff45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62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19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请你给录象配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N02097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05120" y="304920"/>
            <a:ext cx="7617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447920" y="1523880"/>
            <a:ext cx="6248160" cy="1481040"/>
            <a:chOff x="1447920" y="1523880"/>
            <a:chExt cx="6248160" cy="1481040"/>
          </a:xfrm>
        </p:grpSpPr>
        <p:sp>
          <p:nvSpPr>
            <p:cNvPr id="107" name=""/>
            <p:cNvSpPr/>
            <p:nvPr/>
          </p:nvSpPr>
          <p:spPr>
            <a:xfrm>
              <a:off x="1447920" y="2362320"/>
              <a:ext cx="624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岛上有一片片茂密的树林，树林里栖息着各种海鸟。遍地都是鸟蛋。树下堆积着一层厚厚的鸟粪，这是非常宝贵的肥料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AN02097_" descr=""/>
            <p:cNvPicPr/>
            <p:nvPr/>
          </p:nvPicPr>
          <p:blipFill>
            <a:blip r:embed="rId1"/>
            <a:stretch/>
          </p:blipFill>
          <p:spPr>
            <a:xfrm>
              <a:off x="1523880" y="1523880"/>
              <a:ext cx="76212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4367880" y="1828800"/>
            <a:ext cx="10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西沙群岛也是鸟的天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1523880"/>
            <a:ext cx="6477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说句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西沙群岛是—————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——————————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1880" y="6296040"/>
            <a:ext cx="762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411480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7301"/>
                </a:moveTo>
                <a:lnTo>
                  <a:pt x="20882" y="7301"/>
                </a:lnTo>
                <a:lnTo>
                  <a:pt x="21265" y="7667"/>
                </a:lnTo>
                <a:lnTo>
                  <a:pt x="30473" y="7667"/>
                </a:lnTo>
                <a:lnTo>
                  <a:pt x="31030" y="8224"/>
                </a:lnTo>
                <a:lnTo>
                  <a:pt x="31030" y="8772"/>
                </a:lnTo>
                <a:lnTo>
                  <a:pt x="32876" y="8772"/>
                </a:lnTo>
                <a:lnTo>
                  <a:pt x="33241" y="8224"/>
                </a:lnTo>
                <a:lnTo>
                  <a:pt x="33981" y="8224"/>
                </a:lnTo>
                <a:lnTo>
                  <a:pt x="33981" y="13376"/>
                </a:lnTo>
                <a:lnTo>
                  <a:pt x="33241" y="13376"/>
                </a:lnTo>
                <a:lnTo>
                  <a:pt x="32876" y="12828"/>
                </a:lnTo>
                <a:lnTo>
                  <a:pt x="31030" y="12828"/>
                </a:lnTo>
                <a:lnTo>
                  <a:pt x="31030" y="14107"/>
                </a:lnTo>
                <a:lnTo>
                  <a:pt x="21448" y="14107"/>
                </a:lnTo>
                <a:lnTo>
                  <a:pt x="21448" y="9877"/>
                </a:lnTo>
                <a:lnTo>
                  <a:pt x="21265" y="9877"/>
                </a:lnTo>
                <a:lnTo>
                  <a:pt x="20882" y="10243"/>
                </a:lnTo>
                <a:lnTo>
                  <a:pt x="19968" y="10243"/>
                </a:lnTo>
                <a:close/>
              </a:path>
            </a:pathLst>
          </a:custGeom>
          <a:gradFill rotWithShape="0">
            <a:gsLst>
              <a:gs pos="0">
                <a:srgbClr val="fefaf8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66880" y="4419720"/>
            <a:ext cx="4267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富饶的西沙群岛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99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R20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106668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欣赏完后，西沙群岛给你留下了什么印象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666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西沙群岛风景优美，物产丰富，是个可爱的地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335268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请同学们自由朗读课文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自己喜欢的句子反复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读后，小组交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1905120" y="6553080"/>
            <a:ext cx="106668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5791320" y="6553080"/>
            <a:ext cx="106668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海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4800600" y="6553080"/>
            <a:ext cx="106668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海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2895480" y="6553080"/>
            <a:ext cx="106704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海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D14752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3716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yu" descr=""/>
          <p:cNvPicPr/>
          <p:nvPr/>
        </p:nvPicPr>
        <p:blipFill>
          <a:blip r:embed="rId8"/>
          <a:srcRect l="42006" t="40096" r="17439" b="24619"/>
          <a:stretch/>
        </p:blipFill>
        <p:spPr>
          <a:xfrm>
            <a:off x="3962520" y="64008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65" name="AN02097_" descr=""/>
          <p:cNvPicPr/>
          <p:nvPr/>
        </p:nvPicPr>
        <p:blipFill>
          <a:blip r:embed="rId9"/>
          <a:stretch/>
        </p:blipFill>
        <p:spPr>
          <a:xfrm>
            <a:off x="8001000" y="6019920"/>
            <a:ext cx="76212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0" y="6553080"/>
            <a:ext cx="106668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说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45920" y="52578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你为什么喜欢这些句子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e1c3"/>
            </a:gs>
            <a:gs pos="100000">
              <a:srgbClr val="ffff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1337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                    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有深蓝的，淡青的，绿的，淡绿的，杏黄的。一块块，一条条，相互交错着。因为海底高低不平，有山崖，有峡谷，海水有深有浅，从海面看，色彩就不同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219320" y="1523880"/>
            <a:ext cx="7086600" cy="642600"/>
            <a:chOff x="1219320" y="1523880"/>
            <a:chExt cx="7086600" cy="642600"/>
          </a:xfrm>
        </p:grpSpPr>
        <p:pic>
          <p:nvPicPr>
            <p:cNvPr id="70" name="BD14752_" descr=""/>
            <p:cNvPicPr/>
            <p:nvPr/>
          </p:nvPicPr>
          <p:blipFill>
            <a:blip r:embed="rId1"/>
            <a:stretch/>
          </p:blipFill>
          <p:spPr>
            <a:xfrm>
              <a:off x="1219320" y="15238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19320" y="1523880"/>
              <a:ext cx="708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      </a:t>
              </a: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西沙群岛一带海水五光十色，瑰丽无比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71600" y="1981080"/>
            <a:ext cx="6934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海底有高耸的山崖，海水就（      ），从海面上看颜色就（      ）；海底有低陷的峡谷，     海水就（      ），从海面上看 颜色就（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276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09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43434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隶书"/>
              </a:rPr>
              <a:t>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隶书"/>
              </a:rPr>
              <a:t>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8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后用“</a:t>
            </a: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”和“</a:t>
            </a: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”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D14752_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b"/>
            </a:gs>
            <a:gs pos="100000">
              <a:srgbClr val="8fe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66880" y="3808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请你给录象配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486400"/>
          </a:xfrm>
          <a:prstGeom prst="rect">
            <a:avLst/>
          </a:prstGeom>
          <a:ln w="0">
            <a:noFill/>
          </a:ln>
        </p:spPr>
      </p:pic>
      <p:pic>
        <p:nvPicPr>
          <p:cNvPr id="82" name="BD1475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524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8380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90720" y="914400"/>
            <a:ext cx="7315200" cy="665280"/>
            <a:chOff x="990720" y="914400"/>
            <a:chExt cx="7315200" cy="665280"/>
          </a:xfrm>
        </p:grpSpPr>
        <p:sp>
          <p:nvSpPr>
            <p:cNvPr id="85" name=""/>
            <p:cNvSpPr/>
            <p:nvPr/>
          </p:nvSpPr>
          <p:spPr>
            <a:xfrm>
              <a:off x="1066680" y="914400"/>
              <a:ext cx="723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    </a:t>
              </a: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鱼成群结队地在珊瑚丛中穿来穿去，好看极了。有的全身布满彩色的条纹；有的头上长着一簇红缨；有的周身像插着好些扇子，游动的时候飘飘摇摇；有的眼睛圆溜溜的，身上长满刺儿，鼓起气来像皮球一样圆。各种各样的鱼多得数不清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yu" descr=""/>
            <p:cNvPicPr/>
            <p:nvPr/>
          </p:nvPicPr>
          <p:blipFill>
            <a:blip r:embed="rId1"/>
            <a:srcRect l="42006" t="40096" r="17439" b="24619"/>
            <a:stretch/>
          </p:blipFill>
          <p:spPr>
            <a:xfrm>
              <a:off x="990720" y="990720"/>
              <a:ext cx="83808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1066680" y="47242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Times New Roman"/>
                <a:ea typeface="隶书"/>
              </a:rPr>
              <a:t>正像人们说的那样，西沙群岛的海里一半是水，一半是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2:06:07Z</dcterms:created>
  <dc:creator>pc13</dc:creator>
  <dc:description/>
  <dc:language>en-US</dc:language>
  <cp:lastModifiedBy>pc10</cp:lastModifiedBy>
  <dcterms:modified xsi:type="dcterms:W3CDTF">2002-11-25T10:13:49Z</dcterms:modified>
  <cp:revision>53</cp:revision>
  <dc:subject/>
  <dc:title>PowerPoint 演示文稿</dc:title>
</cp:coreProperties>
</file>