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3C3-4E60-4EF2-9636-A73F0076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476-D741-4BAA-B307-1109F245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422-4945-44F6-9A96-8FA66207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426-5588-4249-A753-A38A4EE0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59E-D166-4615-92AE-33C3D0D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96A-7635-4128-9AF3-1504D79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A1A-60C2-4A4A-8CBE-D8A47B32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BF2-8B7F-4F30-9166-21E363B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904-AB7D-4145-9CB0-434BEB4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176-888B-4A15-A7CB-5AEFF74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EC8-B131-4D74-9EC8-1580B3C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CF3-1179-48B6-804E-E3DEB20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4CD-7A15-4BAA-8402-878E97BA8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447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22</a:t>
            </a:r>
            <a:r>
              <a:rPr b="1" lang="zh-CN" sz="60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、富饶的西沙群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3657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贝壳 海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09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362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珊瑚 海参 大龙虾 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654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滩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0825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面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952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 岛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968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海 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457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隶书"/>
                <a:ea typeface="隶书"/>
              </a:rPr>
              <a:t>图  片  欣  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ss1xiao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6864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tianyaxiao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4572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9:00:13Z</dcterms:created>
  <dc:creator>lichengquan</dc:creator>
  <dc:description/>
  <dc:language>en-US</dc:language>
  <cp:lastModifiedBy>lichengquan</cp:lastModifiedBy>
  <dcterms:modified xsi:type="dcterms:W3CDTF">2002-10-24T01:52:38Z</dcterms:modified>
  <cp:revision>4</cp:revision>
  <dc:subject/>
  <dc:title>PowerPoint 演示文稿</dc:title>
</cp:coreProperties>
</file>