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A38-71AB-481C-8C59-238CF9E4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CD5-C39B-421E-8ACF-A978126A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AAB-49DF-4F82-AF4F-018EE6D5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8C4C-8357-4722-8647-10163FA6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DEE-66C0-47BD-AE63-4B436DB1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A44-B0D1-4F4E-AE79-4FF43704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41D-A4E1-4D69-99A4-0615EB45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1C7-DF14-4296-A9B0-E2D55A7C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D4E-3CEE-40C0-AD88-AD37AA4C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C29-A48C-4621-A54F-58D55450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17C-3663-428C-BDC5-394B7419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FB9-B593-4414-8BA8-64787137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38F1-A363-44FD-AF47-6C2084EA6D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5.xm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" Target="slide6.xml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xx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4952880"/>
            <a:ext cx="914400" cy="609840"/>
          </a:xfrm>
          <a:prstGeom prst="irregularSeal2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4952880"/>
            <a:ext cx="914400" cy="609840"/>
          </a:xfrm>
          <a:prstGeom prst="irregularSeal2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5029200"/>
            <a:ext cx="914400" cy="609480"/>
          </a:xfrm>
          <a:prstGeom prst="irregularSeal2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4952880"/>
            <a:ext cx="914400" cy="609840"/>
          </a:xfrm>
          <a:prstGeom prst="irregularSeal2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4952880"/>
            <a:ext cx="914400" cy="609840"/>
          </a:xfrm>
          <a:prstGeom prst="irregularSeal2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4952880"/>
            <a:ext cx="914400" cy="609840"/>
          </a:xfrm>
          <a:prstGeom prst="irregularSeal2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4952880"/>
            <a:ext cx="914400" cy="609840"/>
          </a:xfrm>
          <a:prstGeom prst="irregularSeal2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FR2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14400" y="10666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三、四自然段写了海底的（   ）、（   ）、（     ）和（    ）。  这四种水产品之间是（    ）关系。因此这段话是用（    ）方式构段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676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  <a:ea typeface="仿宋_GB2312"/>
              </a:rPr>
              <a:t>珊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1676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仿宋_GB2312"/>
              </a:rPr>
              <a:t>海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2209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仿宋_GB2312"/>
              </a:rPr>
              <a:t>大龙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2209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276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仿宋_GB2312"/>
              </a:rPr>
              <a:t>并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3809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仿宋_GB2312"/>
              </a:rPr>
              <a:t>并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1" descr=""/>
          <p:cNvPicPr/>
          <p:nvPr/>
        </p:nvPicPr>
        <p:blipFill>
          <a:blip r:embed="rId2"/>
          <a:stretch/>
        </p:blipFill>
        <p:spPr>
          <a:xfrm>
            <a:off x="5257800" y="6180120"/>
            <a:ext cx="83808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fe1"/>
            </a:gs>
            <a:gs pos="100000">
              <a:srgbClr val="5252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95480" y="380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请你给录象配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340240"/>
          </a:xfrm>
          <a:prstGeom prst="rect">
            <a:avLst/>
          </a:prstGeom>
          <a:ln w="0">
            <a:noFill/>
          </a:ln>
        </p:spPr>
      </p:pic>
      <p:pic>
        <p:nvPicPr>
          <p:cNvPr id="99" name="yu" descr="">
            <a:hlinkClick r:id="rId2" action="ppaction://hlinksldjump"/>
          </p:cNvPr>
          <p:cNvPicPr/>
          <p:nvPr/>
        </p:nvPicPr>
        <p:blipFill>
          <a:blip r:embed="rId3"/>
          <a:srcRect l="42522" t="39195" r="18777" b="23797"/>
          <a:stretch/>
        </p:blipFill>
        <p:spPr>
          <a:xfrm>
            <a:off x="1905120" y="380880"/>
            <a:ext cx="9144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f8f"/>
            </a:gs>
            <a:gs pos="100000">
              <a:srgbClr val="ffff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380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请你给录象配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5562720"/>
          </a:xfrm>
          <a:prstGeom prst="rect">
            <a:avLst/>
          </a:prstGeom>
          <a:ln w="0">
            <a:noFill/>
          </a:ln>
        </p:spPr>
      </p:pic>
      <p:pic>
        <p:nvPicPr>
          <p:cNvPr id="102" name="bei" descr="">
            <a:hlinkClick r:id="rId2" action="ppaction://hlinksldjump"/>
          </p:cNvPr>
          <p:cNvPicPr/>
          <p:nvPr/>
        </p:nvPicPr>
        <p:blipFill>
          <a:blip r:embed="rId3"/>
          <a:srcRect l="48765" t="21260" r="6292" b="28784"/>
          <a:stretch/>
        </p:blipFill>
        <p:spPr>
          <a:xfrm>
            <a:off x="2209680" y="378000"/>
            <a:ext cx="7621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ff45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562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19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请你给录象配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N02097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05120" y="304920"/>
            <a:ext cx="7617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e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447920" y="1523880"/>
            <a:ext cx="6248160" cy="1481040"/>
            <a:chOff x="1447920" y="1523880"/>
            <a:chExt cx="6248160" cy="1481040"/>
          </a:xfrm>
        </p:grpSpPr>
        <p:sp>
          <p:nvSpPr>
            <p:cNvPr id="107" name=""/>
            <p:cNvSpPr/>
            <p:nvPr/>
          </p:nvSpPr>
          <p:spPr>
            <a:xfrm>
              <a:off x="1447920" y="2362320"/>
              <a:ext cx="624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岛上有一片片茂密的树林，树林里栖息着各种海鸟。遍地都是鸟蛋。树下堆积着一层厚厚的鸟粪，这是非常宝贵的肥料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AN02097_" descr=""/>
            <p:cNvPicPr/>
            <p:nvPr/>
          </p:nvPicPr>
          <p:blipFill>
            <a:blip r:embed="rId1"/>
            <a:stretch/>
          </p:blipFill>
          <p:spPr>
            <a:xfrm>
              <a:off x="1523880" y="1523880"/>
              <a:ext cx="762120" cy="8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4367880" y="1828800"/>
            <a:ext cx="10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西沙群岛也是鸟的天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1523880"/>
            <a:ext cx="6477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说句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西沙群岛是—————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——————————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1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1880" y="6296040"/>
            <a:ext cx="762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411480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7301"/>
                </a:moveTo>
                <a:lnTo>
                  <a:pt x="20882" y="7301"/>
                </a:lnTo>
                <a:lnTo>
                  <a:pt x="21265" y="7667"/>
                </a:lnTo>
                <a:lnTo>
                  <a:pt x="30473" y="7667"/>
                </a:lnTo>
                <a:lnTo>
                  <a:pt x="31030" y="8224"/>
                </a:lnTo>
                <a:lnTo>
                  <a:pt x="31030" y="8772"/>
                </a:lnTo>
                <a:lnTo>
                  <a:pt x="32876" y="8772"/>
                </a:lnTo>
                <a:lnTo>
                  <a:pt x="33241" y="8224"/>
                </a:lnTo>
                <a:lnTo>
                  <a:pt x="33981" y="8224"/>
                </a:lnTo>
                <a:lnTo>
                  <a:pt x="33981" y="13376"/>
                </a:lnTo>
                <a:lnTo>
                  <a:pt x="33241" y="13376"/>
                </a:lnTo>
                <a:lnTo>
                  <a:pt x="32876" y="12828"/>
                </a:lnTo>
                <a:lnTo>
                  <a:pt x="31030" y="12828"/>
                </a:lnTo>
                <a:lnTo>
                  <a:pt x="31030" y="14107"/>
                </a:lnTo>
                <a:lnTo>
                  <a:pt x="21448" y="14107"/>
                </a:lnTo>
                <a:lnTo>
                  <a:pt x="21448" y="9877"/>
                </a:lnTo>
                <a:lnTo>
                  <a:pt x="21265" y="9877"/>
                </a:lnTo>
                <a:lnTo>
                  <a:pt x="20882" y="10243"/>
                </a:lnTo>
                <a:lnTo>
                  <a:pt x="19968" y="10243"/>
                </a:lnTo>
                <a:close/>
              </a:path>
            </a:pathLst>
          </a:custGeom>
          <a:gradFill rotWithShape="0">
            <a:gsLst>
              <a:gs pos="0">
                <a:srgbClr val="fefaf8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66880" y="4419720"/>
            <a:ext cx="4267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富饶的西沙群岛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29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99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R20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106668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欣赏完后，西沙群岛给你留下了什么印象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6668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隶书"/>
              </a:rPr>
              <a:t>西沙群岛风景优美，物产丰富，是个可爱的地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8280" y="335268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请同学们自由朗读课文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自己喜欢的句子反复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读后，小组交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1905120" y="6553080"/>
            <a:ext cx="1066680" cy="3049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efefe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" action="ppaction://hlinksldjump"/>
          </p:cNvPr>
          <p:cNvSpPr/>
          <p:nvPr/>
        </p:nvSpPr>
        <p:spPr>
          <a:xfrm>
            <a:off x="5791320" y="6553080"/>
            <a:ext cx="1066680" cy="3049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efefe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海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4" action="ppaction://hlinksldjump"/>
          </p:cNvPr>
          <p:cNvSpPr/>
          <p:nvPr/>
        </p:nvSpPr>
        <p:spPr>
          <a:xfrm>
            <a:off x="4800600" y="6553080"/>
            <a:ext cx="1066680" cy="3049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efefe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海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5" action="ppaction://hlinksldjump"/>
          </p:cNvPr>
          <p:cNvSpPr/>
          <p:nvPr/>
        </p:nvSpPr>
        <p:spPr>
          <a:xfrm>
            <a:off x="2895480" y="6553080"/>
            <a:ext cx="1067040" cy="3049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efefe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海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D14752_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3716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yu" descr=""/>
          <p:cNvPicPr/>
          <p:nvPr/>
        </p:nvPicPr>
        <p:blipFill>
          <a:blip r:embed="rId8"/>
          <a:srcRect l="42006" t="40096" r="17439" b="24619"/>
          <a:stretch/>
        </p:blipFill>
        <p:spPr>
          <a:xfrm>
            <a:off x="3962520" y="640080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65" name="AN02097_" descr=""/>
          <p:cNvPicPr/>
          <p:nvPr/>
        </p:nvPicPr>
        <p:blipFill>
          <a:blip r:embed="rId9"/>
          <a:stretch/>
        </p:blipFill>
        <p:spPr>
          <a:xfrm>
            <a:off x="8001000" y="6019920"/>
            <a:ext cx="762120" cy="83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0" y="6553080"/>
            <a:ext cx="1066680" cy="3049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efefe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说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45920" y="52578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你为什么喜欢这些句子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e1c3"/>
            </a:gs>
            <a:gs pos="100000">
              <a:srgbClr val="ffffe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1337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                    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有深蓝的，淡青的，绿的，淡绿的，杏黄的。一块块，一条条，相互交错着。因为海底高低不平，有山崖，有峡谷，海水有深有浅，从海面看，色彩就不同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219320" y="1523880"/>
            <a:ext cx="7086600" cy="642600"/>
            <a:chOff x="1219320" y="1523880"/>
            <a:chExt cx="7086600" cy="642600"/>
          </a:xfrm>
        </p:grpSpPr>
        <p:pic>
          <p:nvPicPr>
            <p:cNvPr id="70" name="BD14752_" descr=""/>
            <p:cNvPicPr/>
            <p:nvPr/>
          </p:nvPicPr>
          <p:blipFill>
            <a:blip r:embed="rId1"/>
            <a:stretch/>
          </p:blipFill>
          <p:spPr>
            <a:xfrm>
              <a:off x="1219320" y="152388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19320" y="1523880"/>
              <a:ext cx="708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         </a:t>
              </a: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西沙群岛一带海水五光十色，瑰丽无比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71600" y="1981080"/>
            <a:ext cx="69343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海底有高耸的山崖，海水就（      ），从海面上看颜色就（      ）；海底有低陷的峡谷，     海水就（      ），从海面上看 颜色就（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276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隶书"/>
              </a:rPr>
              <a:t>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8098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隶书"/>
              </a:rPr>
              <a:t>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43434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66"/>
                </a:solidFill>
                <a:latin typeface="Times New Roman"/>
                <a:ea typeface="隶书"/>
              </a:rPr>
              <a:t>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48769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66"/>
                </a:solidFill>
                <a:latin typeface="Times New Roman"/>
                <a:ea typeface="隶书"/>
              </a:rPr>
              <a:t>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828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读后用“</a:t>
            </a: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”和“</a:t>
            </a: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”填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D14752_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b"/>
            </a:gs>
            <a:gs pos="100000">
              <a:srgbClr val="8fe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66880" y="3808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请你给录象配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05920" cy="5486400"/>
          </a:xfrm>
          <a:prstGeom prst="rect">
            <a:avLst/>
          </a:prstGeom>
          <a:ln w="0">
            <a:noFill/>
          </a:ln>
        </p:spPr>
      </p:pic>
      <p:pic>
        <p:nvPicPr>
          <p:cNvPr id="82" name="BD1475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524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8380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90720" y="914400"/>
            <a:ext cx="7315200" cy="665280"/>
            <a:chOff x="990720" y="914400"/>
            <a:chExt cx="7315200" cy="665280"/>
          </a:xfrm>
        </p:grpSpPr>
        <p:sp>
          <p:nvSpPr>
            <p:cNvPr id="85" name=""/>
            <p:cNvSpPr/>
            <p:nvPr/>
          </p:nvSpPr>
          <p:spPr>
            <a:xfrm>
              <a:off x="1066680" y="914400"/>
              <a:ext cx="723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        </a:t>
              </a: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鱼成群结队地在珊瑚丛中穿来穿去，好看极了。有的全身布满彩色的条纹；有的头上长着一簇红缨；有的周身像插着好些扇子，游动的时候飘飘摇摇；有的眼睛圆溜溜的，身上长满刺儿，鼓起气来像皮球一样圆。各种各样的鱼多得数不清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yu" descr=""/>
            <p:cNvPicPr/>
            <p:nvPr/>
          </p:nvPicPr>
          <p:blipFill>
            <a:blip r:embed="rId1"/>
            <a:srcRect l="42006" t="40096" r="17439" b="24619"/>
            <a:stretch/>
          </p:blipFill>
          <p:spPr>
            <a:xfrm>
              <a:off x="990720" y="990720"/>
              <a:ext cx="83808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1066680" y="47242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66"/>
                </a:solidFill>
                <a:latin typeface="Times New Roman"/>
                <a:ea typeface="隶书"/>
              </a:rPr>
              <a:t>正像人们说的那样，西沙群岛的海里一半是水，一半是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02:06:07Z</dcterms:created>
  <dc:creator>pc13</dc:creator>
  <dc:description/>
  <dc:language>en-US</dc:language>
  <cp:lastModifiedBy>pc10</cp:lastModifiedBy>
  <dcterms:modified xsi:type="dcterms:W3CDTF">2002-11-25T10:13:49Z</dcterms:modified>
  <cp:revision>53</cp:revision>
  <dc:subject/>
  <dc:title>PowerPoint 演示文稿</dc:title>
</cp:coreProperties>
</file>