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A2D-EA70-46CD-85A5-3F041216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11A-F9DA-4D32-8CB0-1F2BEA4E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7F2-E14B-4533-BDB4-CFF6483B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82A-443D-47E8-9E18-462871A7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E98-EDB5-444F-9C51-EFABF06D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E57-A801-4D7A-A3D2-E2DDF198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832-6FF7-40C3-B6B2-EFB6052B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46F-AAC2-4601-890E-7613072B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450-7ACE-4CD9-9C30-24036ECA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772-4669-4C06-8249-E5AEAF20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9E0-A27F-4CF5-A6DE-C16C9CC4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BC4-3B4B-4EC2-A4A9-03F1C0DB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490D-87BA-4560-9FBD-56B854E9E5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447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华文新魏"/>
                <a:ea typeface="华文新魏"/>
              </a:rPr>
              <a:t>22</a:t>
            </a:r>
            <a:r>
              <a:rPr b="1" lang="zh-CN" sz="6000" spc="-1" strike="noStrike">
                <a:solidFill>
                  <a:srgbClr val="ff00ff"/>
                </a:solidFill>
                <a:latin typeface="华文新魏"/>
                <a:ea typeface="华文新魏"/>
              </a:rPr>
              <a:t>、富饶的西沙群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365760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贝壳 海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10666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海 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2096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底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2362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珊瑚 海参 大龙虾 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5654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滩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0825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面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9528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岛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4968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海 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4572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隶书"/>
                <a:ea typeface="隶书"/>
              </a:rPr>
              <a:t>图  片  欣  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ss1xiao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46864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tianyaxiao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4572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09:00:13Z</dcterms:created>
  <dc:creator>lichengquan</dc:creator>
  <dc:description/>
  <dc:language>en-US</dc:language>
  <cp:lastModifiedBy>lichengquan</cp:lastModifiedBy>
  <dcterms:modified xsi:type="dcterms:W3CDTF">2002-10-24T01:52:38Z</dcterms:modified>
  <cp:revision>4</cp:revision>
  <dc:subject/>
  <dc:title>PowerPoint 演示文稿</dc:title>
</cp:coreProperties>
</file>