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593-63E2-40EE-9CDB-26F743FB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DB0-2F2A-453B-AE90-CAAC595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E6E-9453-498F-A735-F89A7439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612-C206-426D-8263-24C73D0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AAC-2DC5-4B4C-82A8-CCA0741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298-59D4-47A0-AA11-00AC652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6DE-9955-47DA-AA85-1536DE7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039-1010-4A81-BFB1-5418628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C34-963B-4F37-97EE-20BD2BD6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DA7-6928-491B-913C-3796BFA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029-ACC2-4468-896E-C331B7D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F55-78B4-4496-8E0B-B31ABE9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CD24-7B23-4121-9FF2-51138B92E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文是按照（          ）（            ）（             ） 来划分段落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6900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者通过对（                           ）的描写，表达了作者对（                       ）的（                     ）之情。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37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者抓住了小兴安岭（              ）的变化，突出了它（           ）的特点。所以课文以（                           ）为课    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62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62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2637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06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306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美丽的小兴安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486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兴安岭四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祖国大好河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30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爱赞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531720"/>
            <a:ext cx="9936360" cy="74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40464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春天，山上的积雪融化了，雪水汇成小溪，淙淙地流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8390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8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8520" y="2133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夏天的早晨，雾从山谷里升起来，整个森林浸在乳白色的浓雾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53080" y="1143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秋天，白桦和栎树的叶子变黄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松柏显得更苍翠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8763120" y="6515280"/>
            <a:ext cx="380880" cy="342720"/>
          </a:xfrm>
          <a:custGeom>
            <a:avLst/>
            <a:gdLst>
              <a:gd name="textAreaLeft" fmla="*/ 21960 w 380880"/>
              <a:gd name="textAreaRight" fmla="*/ 358920 w 38088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冬天，雪花在空中飞舞。树上积满了白雪。地上的雪厚厚的，又松又软，常常没过膝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8390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34200" y="0"/>
            <a:ext cx="10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03396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07280" y="60339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765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5:54:53Z</dcterms:created>
  <dc:creator>兄弟电脑的用户</dc:creator>
  <dc:description/>
  <dc:language>en-US</dc:language>
  <cp:lastModifiedBy>yang</cp:lastModifiedBy>
  <dcterms:modified xsi:type="dcterms:W3CDTF">2004-01-12T07:22:01Z</dcterms:modified>
  <cp:revision>17</cp:revision>
  <dc:subject/>
  <dc:title>PowerPoint 演示文稿</dc:title>
</cp:coreProperties>
</file>