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E2D-0482-4952-97C2-E9C1EFB6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B0F-23B8-4B26-9834-3233C0E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CC4-75FE-462A-A1A7-000ED676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F58-2999-4148-8BFD-66E82ABD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647-7DE2-4EDE-A5E6-AA54DAE6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65B-FBB2-4F7A-851F-436771A1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EDE-4675-4EF3-A78C-496630E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4C5-B71B-4CF0-9B7D-C7433432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B97-7F2A-44B0-AF19-05C06A4D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BED-42C0-467B-B6C1-E2042E2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196-FC3F-437D-A300-0D36208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D9C-4375-4E21-B7B3-2956A75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A184-E45B-4883-9A3C-998C14B2A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本文是按照（          ）（            ）（             ） 来划分段落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6900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者通过对（                           ）的描写，表达了作者对（                       ）的（                     ）之情。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637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者抓住了小兴安岭（              ）的变化，突出了它（           ）的特点。所以课文以（                           ）为课    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62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2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62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2637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06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3068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美丽的小兴安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486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兴安岭四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祖国大好河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530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爱赞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360" y="-531720"/>
            <a:ext cx="9936360" cy="74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404640"/>
            <a:ext cx="71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春天，山上的积雪融化了，雪水汇成小溪，淙淙地流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8390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8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8520" y="2133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夏天的早晨，雾从山谷里升起来，整个森林浸在乳白色的浓雾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53080" y="1143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秋天，白桦和栎树的叶子变黄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松柏显得更苍翠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8763120" y="6515280"/>
            <a:ext cx="380880" cy="342720"/>
          </a:xfrm>
          <a:custGeom>
            <a:avLst/>
            <a:gdLst>
              <a:gd name="textAreaLeft" fmla="*/ 21960 w 380880"/>
              <a:gd name="textAreaRight" fmla="*/ 358920 w 38088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98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冬天，雪花在空中飞舞。树上积满了白雪。地上的雪厚厚的，又松又软，常常没过膝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88390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34200" y="0"/>
            <a:ext cx="100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03396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07280" y="60339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765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5:54:53Z</dcterms:created>
  <dc:creator>兄弟电脑的用户</dc:creator>
  <dc:description/>
  <dc:language>en-US</dc:language>
  <cp:lastModifiedBy>yang</cp:lastModifiedBy>
  <dcterms:modified xsi:type="dcterms:W3CDTF">2004-01-12T07:22:01Z</dcterms:modified>
  <cp:revision>17</cp:revision>
  <dc:subject/>
  <dc:title>PowerPoint 演示文稿</dc:title>
</cp:coreProperties>
</file>