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412-D15F-446B-86B1-92BEBE25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40F-4BEC-41CD-B7B2-B3D1F8A2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EDA-5997-4747-8BD3-C3658BA4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7A9-9393-4ED2-84CF-1C0A089F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DB3-FA50-486F-A061-6D648F05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91C-E0A4-44BB-80A3-D9B041D4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AF7-DAFB-4CEA-BC5C-A4D8B459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7F7-28DF-4F5B-8FF7-A4584DFF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62F-687C-4ACC-8A3C-D4FE3464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89A-5F78-4B54-A4CE-F420358C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A75-203E-446E-8C36-8FB907D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BBC-4AB3-4EB9-9B27-879A4A8F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F66A-95DC-46E3-AF8E-E020BD09F0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9东方之珠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094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19810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3276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57913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7010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29600" y="6078960"/>
            <a:ext cx="914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hk_l_1_09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        </a:t>
            </a:r>
            <a:r>
              <a:rPr b="1" lang="zh-CN" sz="8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香港，真是一颗无比璀璨的“东方之珠”。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140680" y="6394320"/>
            <a:ext cx="1079640" cy="54000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8087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  <a:path fill="darken" w="43171" h="21600">
                <a:moveTo>
                  <a:pt x="14579" y="3794"/>
                </a:moveTo>
                <a:lnTo>
                  <a:pt x="16242" y="3794"/>
                </a:lnTo>
                <a:lnTo>
                  <a:pt x="16242" y="17806"/>
                </a:lnTo>
                <a:lnTo>
                  <a:pt x="14579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76520" y="1828800"/>
            <a:ext cx="35812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hk_l_1_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Times New Roman"/>
              </a:rPr>
              <a:t>让我们一起去看看香港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图片</a:t>
            </a:r>
            <a:r>
              <a:rPr b="1" lang="zh-CN" sz="6000" spc="-1" strike="noStrike">
                <a:solidFill>
                  <a:srgbClr val="66ff33"/>
                </a:solidFill>
                <a:latin typeface="Times New Roman"/>
              </a:rPr>
              <a:t>展</a:t>
            </a:r>
            <a:br>
              <a:rPr sz="6000"/>
            </a:br>
            <a:r>
              <a:rPr b="1" lang="zh-CN" sz="60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香港地图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08" name="hk_l_1_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hk_l_1_20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hk_l_1_2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hk_l_1_2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hk_l_1_2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hk_l_1_2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hk_l_1_33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40680" y="6394320"/>
            <a:ext cx="1079640" cy="54000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8087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  <a:path fill="darken" w="43171" h="21600">
                <a:moveTo>
                  <a:pt x="14579" y="3794"/>
                </a:moveTo>
                <a:lnTo>
                  <a:pt x="16242" y="3794"/>
                </a:lnTo>
                <a:lnTo>
                  <a:pt x="16242" y="17806"/>
                </a:lnTo>
                <a:lnTo>
                  <a:pt x="14579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87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hk_l_1_28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064360" y="632628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2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4191120"/>
            <a:ext cx="7925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我们漫步在林荫小道中，</a:t>
            </a:r>
            <a:r>
              <a:rPr b="1" lang="zh-CN" sz="5000" spc="-1" strike="noStrike">
                <a:solidFill>
                  <a:srgbClr val="66ff33"/>
                </a:solidFill>
                <a:latin typeface="黑体"/>
                <a:ea typeface="黑体"/>
              </a:rPr>
              <a:t>倾听</a:t>
            </a: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着</a:t>
            </a:r>
            <a:r>
              <a:rPr b="1" lang="zh-CN" sz="5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064360" y="631836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香港的海洋公园（   ）。那里的（   ），经常（   ）许多观赏海豚、海狮（   ）的游客。在（   ）的人工湖上，几只海豚和海狮正在（   ）。它们有的（   ），有的（   ），有的（   ），有的（   ）。游客不时被逗得（    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064360" y="632772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浪平沙细、阳光和煦的浅水湾，是旅游、度假的好地方。每逢节假日，人们结伴来到这里，漫步在金色的沙滩上，沐浴着轻柔的海风，倾听着浪涛拍岸的声响，真是舒服极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8064360" y="631836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2590920" cy="54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5880" y="533520"/>
            <a:ext cx="2590920" cy="54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543800" y="2971800"/>
            <a:ext cx="1219320" cy="75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3817800"/>
            <a:ext cx="1219320" cy="754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257800" y="4572000"/>
            <a:ext cx="1219320" cy="754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>
            <a:off x="5257080" y="43434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781680" y="5494320"/>
            <a:ext cx="12193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87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62" name="p872" descr=""/>
          <p:cNvPicPr/>
          <p:nvPr/>
        </p:nvPicPr>
        <p:blipFill>
          <a:blip r:embed="rId2"/>
          <a:stretch/>
        </p:blipFill>
        <p:spPr>
          <a:xfrm>
            <a:off x="3648240" y="2746440"/>
            <a:ext cx="1847520" cy="13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香港的海洋公园举世闻名。那里的海洋剧场，经常聚集着许多观赏海豚、海狮精彩表演的游客。在碧波荡漾的人工湖上，几只海豚和海狮正在表演节目。它们有的顶球，有的钻圈，有的举重，有的嬉水跳跃，游客不时被逗得开怀大笑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8064360" y="631836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5880" y="542880"/>
            <a:ext cx="2210040" cy="50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220968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1047600" cy="54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1047960" cy="54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7334280" y="4191120"/>
            <a:ext cx="1047600" cy="54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752480" y="4952880"/>
            <a:ext cx="1047960" cy="54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752480" y="5715000"/>
            <a:ext cx="2210040" cy="50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5486400" y="1981080"/>
            <a:ext cx="10476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8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铜锣湾是全港三大闹市口之一。摩天大厦鳞次栉比，商店里的各种商品琳琅满目，宽阔的街道上人流如潮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-380880" y="-55087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140680" y="6394320"/>
            <a:ext cx="1079640" cy="54000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8087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  <a:path fill="darken" w="43171" h="21600">
                <a:moveTo>
                  <a:pt x="14579" y="3794"/>
                </a:moveTo>
                <a:lnTo>
                  <a:pt x="16242" y="3794"/>
                </a:lnTo>
                <a:lnTo>
                  <a:pt x="16242" y="17806"/>
                </a:lnTo>
                <a:lnTo>
                  <a:pt x="14579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0120" y="2573280"/>
            <a:ext cx="1066680" cy="550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85800" y="3487680"/>
            <a:ext cx="1066680" cy="550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74320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533520" y="510552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391520" y="1981080"/>
            <a:ext cx="144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955960"/>
            <a:ext cx="144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8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8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-6480" y="-6480"/>
            <a:ext cx="54000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       </a:t>
            </a: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一到夜晚，整个香港就成了灯的海洋。港湾里闪耀的灯光，像五颜六色的焰火溅落人间。马路上一串串明亮的车灯，如同闪光的长河奔流不息。</a:t>
            </a:r>
            <a:br>
              <a:rPr sz="7200"/>
            </a:br>
            <a:br>
              <a:rPr sz="20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914400"/>
            <a:ext cx="66294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828800"/>
            <a:ext cx="66294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064360" y="632628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14:20:00Z</dcterms:created>
  <dc:creator>孔建新</dc:creator>
  <dc:description/>
  <dc:language>en-US</dc:language>
  <cp:lastModifiedBy>start</cp:lastModifiedBy>
  <dcterms:modified xsi:type="dcterms:W3CDTF">2002-11-19T23:59:13Z</dcterms:modified>
  <cp:revision>91</cp:revision>
  <dc:subject/>
  <dc:title>PowerPoint 演示文稿</dc:title>
</cp:coreProperties>
</file>